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073-05F0-46EA-A5BF-C8A271EF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585-3244-4B7E-BB7F-88364C5B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6EA-7E3F-4B5E-87B5-EAD6468A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35B-8EE6-41A7-9083-824300AC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0206-9E5D-4ACF-A217-DA701FD1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C4E7-CF4D-4EFA-AC5B-C12A4732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C68-634E-4BD4-90C7-DF518AEC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FA99-DB9D-488A-8813-71455E1E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C6A6-033E-41D9-A1AA-904FB6F0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AA41-08E8-4E3E-A7B9-DD0E39FA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AE49-5388-4F0C-9A7F-F7A42BB6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EAD-F9B1-4970-846E-E6AFA35A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6A89-E7C8-49D4-B66E-2EA7418B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959C-626F-4773-9B52-C3295C5E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BA1E-162C-439C-859C-C0052A8F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0774-1717-4793-A07A-12430DFE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E198-D431-4787-8402-4BF1D9AA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C60-2531-4580-B28D-32DEA67A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A41-68EA-4248-BBC3-416D9C5F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9B1-C5FB-45F4-9AC9-39BD1AC6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C09-2C91-412C-A528-622B9C63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E42-46BB-41D0-941A-58866239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C82-114E-49CC-BA9E-78688B62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CFA-563E-46BC-8357-2307E882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53A1-061F-41B4-A533-6DE4FC9CC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6e6d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9E58-B32D-4698-8635-4AD21BB8668A}" type="slidenum">
              <a:rPr b="0" lang="en-US" sz="1200" spc="-1" strike="noStrike">
                <a:solidFill>
                  <a:srgbClr val="e6e6d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3f2d9"/>
                </a:solidFill>
                <a:latin typeface="Arial"/>
              </a:rPr>
              <a:t>Wednesday, October 7th</a:t>
            </a:r>
            <a:endParaRPr b="0" lang="en-US" sz="45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3f2d9"/>
                </a:solidFill>
                <a:latin typeface="Arial"/>
              </a:rPr>
              <a:t>Homework:</a:t>
            </a:r>
            <a:br>
              <a:rPr sz="7000"/>
            </a:br>
            <a:r>
              <a:rPr b="0" lang="en-US" sz="7000" spc="-1" strike="noStrike">
                <a:solidFill>
                  <a:srgbClr val="f3f2d9"/>
                </a:solidFill>
                <a:latin typeface="Arial"/>
              </a:rPr>
              <a:t>Pages 320-321</a:t>
            </a:r>
            <a:br>
              <a:rPr sz="7000"/>
            </a:br>
            <a:r>
              <a:rPr b="0" lang="en-US" sz="7000" spc="-1" strike="noStrike">
                <a:solidFill>
                  <a:srgbClr val="f3f2d9"/>
                </a:solidFill>
                <a:latin typeface="Arial"/>
              </a:rPr>
              <a:t>#19, 21, 23, 79, 81</a:t>
            </a:r>
            <a:endParaRPr b="0" lang="en-US" sz="7000" spc="-1" strike="noStrike">
              <a:solidFill>
                <a:srgbClr val="f3f2d9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Questions from HW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17" name="Ink 3"/>
          <p:cNvSpPr/>
          <p:nvPr/>
        </p:nvSpPr>
        <p:spPr>
          <a:xfrm>
            <a:off x="3268800" y="5483160"/>
            <a:ext cx="1440" cy="17640"/>
          </a:xfrm>
          <a:custGeom>
            <a:avLst/>
            <a:gdLst/>
            <a:ahLst/>
            <a:rect l="l" t="t" r="r" b="b"/>
            <a:pathLst>
              <a:path w="1" h="51">
                <a:moveTo>
                  <a:pt x="9079" y="15280"/>
                </a:moveTo>
                <a:cubicBezTo>
                  <a:pt x="9079" y="15263"/>
                  <a:pt x="9079" y="15247"/>
                  <a:pt x="9079" y="152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8" name="Ink 4"/>
          <p:cNvSpPr/>
          <p:nvPr/>
        </p:nvSpPr>
        <p:spPr>
          <a:xfrm>
            <a:off x="3062160" y="1357200"/>
            <a:ext cx="1724040" cy="1081080"/>
          </a:xfrm>
          <a:custGeom>
            <a:avLst/>
            <a:gdLst/>
            <a:ahLst/>
            <a:rect l="l" t="t" r="r" b="b"/>
            <a:pathLst>
              <a:path w="4788" h="3003">
                <a:moveTo>
                  <a:pt x="8731" y="4167"/>
                </a:moveTo>
                <a:cubicBezTo>
                  <a:pt x="8731" y="4257"/>
                  <a:pt x="8689" y="4538"/>
                  <a:pt x="8781" y="4564"/>
                </a:cubicBezTo>
                <a:cubicBezTo>
                  <a:pt x="8836" y="4580"/>
                  <a:pt x="8913" y="4540"/>
                  <a:pt x="8954" y="4514"/>
                </a:cubicBezTo>
                <a:cubicBezTo>
                  <a:pt x="8979" y="4498"/>
                  <a:pt x="9004" y="4481"/>
                  <a:pt x="9029" y="4465"/>
                </a:cubicBezTo>
              </a:path>
              <a:path w="4788" h="3003">
                <a:moveTo>
                  <a:pt x="8954" y="4118"/>
                </a:moveTo>
                <a:cubicBezTo>
                  <a:pt x="8954" y="4295"/>
                  <a:pt x="8959" y="4466"/>
                  <a:pt x="8979" y="4638"/>
                </a:cubicBezTo>
                <a:cubicBezTo>
                  <a:pt x="8988" y="4714"/>
                  <a:pt x="8971" y="4797"/>
                  <a:pt x="9004" y="4862"/>
                </a:cubicBezTo>
                <a:cubicBezTo>
                  <a:pt x="9004" y="4854"/>
                  <a:pt x="9004" y="4845"/>
                  <a:pt x="9004" y="4837"/>
                </a:cubicBezTo>
              </a:path>
              <a:path w="4788" h="3003">
                <a:moveTo>
                  <a:pt x="9054" y="4192"/>
                </a:moveTo>
                <a:cubicBezTo>
                  <a:pt x="9113" y="4099"/>
                  <a:pt x="9143" y="3994"/>
                  <a:pt x="9252" y="4093"/>
                </a:cubicBezTo>
                <a:cubicBezTo>
                  <a:pt x="9316" y="4151"/>
                  <a:pt x="9309" y="4182"/>
                  <a:pt x="9277" y="4266"/>
                </a:cubicBezTo>
                <a:cubicBezTo>
                  <a:pt x="9249" y="4339"/>
                  <a:pt x="9182" y="4342"/>
                  <a:pt x="9128" y="4390"/>
                </a:cubicBezTo>
                <a:cubicBezTo>
                  <a:pt x="9120" y="4398"/>
                  <a:pt x="9111" y="4407"/>
                  <a:pt x="9103" y="4415"/>
                </a:cubicBezTo>
                <a:cubicBezTo>
                  <a:pt x="9169" y="4459"/>
                  <a:pt x="9237" y="4451"/>
                  <a:pt x="9302" y="4490"/>
                </a:cubicBezTo>
                <a:cubicBezTo>
                  <a:pt x="9368" y="4529"/>
                  <a:pt x="9383" y="4568"/>
                  <a:pt x="9351" y="4638"/>
                </a:cubicBezTo>
                <a:cubicBezTo>
                  <a:pt x="9311" y="4726"/>
                  <a:pt x="9226" y="4716"/>
                  <a:pt x="9153" y="4738"/>
                </a:cubicBezTo>
                <a:cubicBezTo>
                  <a:pt x="9081" y="4760"/>
                  <a:pt x="9114" y="4753"/>
                  <a:pt x="9054" y="4738"/>
                </a:cubicBezTo>
              </a:path>
              <a:path w="4788" h="3003">
                <a:moveTo>
                  <a:pt x="9277" y="3944"/>
                </a:moveTo>
                <a:cubicBezTo>
                  <a:pt x="9042" y="3903"/>
                  <a:pt x="8964" y="3884"/>
                  <a:pt x="8781" y="4043"/>
                </a:cubicBezTo>
                <a:cubicBezTo>
                  <a:pt x="8550" y="4243"/>
                  <a:pt x="8546" y="4432"/>
                  <a:pt x="8508" y="4738"/>
                </a:cubicBezTo>
                <a:cubicBezTo>
                  <a:pt x="8489" y="4893"/>
                  <a:pt x="8555" y="4923"/>
                  <a:pt x="8657" y="5011"/>
                </a:cubicBezTo>
                <a:cubicBezTo>
                  <a:pt x="8732" y="5075"/>
                  <a:pt x="8828" y="5075"/>
                  <a:pt x="8930" y="5060"/>
                </a:cubicBezTo>
                <a:cubicBezTo>
                  <a:pt x="9078" y="5039"/>
                  <a:pt x="9208" y="4951"/>
                  <a:pt x="9327" y="4862"/>
                </a:cubicBezTo>
                <a:cubicBezTo>
                  <a:pt x="9474" y="4753"/>
                  <a:pt x="9622" y="4557"/>
                  <a:pt x="9699" y="4390"/>
                </a:cubicBezTo>
                <a:cubicBezTo>
                  <a:pt x="9722" y="4340"/>
                  <a:pt x="9686" y="4228"/>
                  <a:pt x="9649" y="4192"/>
                </a:cubicBezTo>
                <a:cubicBezTo>
                  <a:pt x="9581" y="4127"/>
                  <a:pt x="9464" y="4122"/>
                  <a:pt x="9376" y="4118"/>
                </a:cubicBezTo>
                <a:cubicBezTo>
                  <a:pt x="9332" y="4118"/>
                  <a:pt x="9319" y="4115"/>
                  <a:pt x="9302" y="4142"/>
                </a:cubicBezTo>
              </a:path>
              <a:path w="4788" h="3003">
                <a:moveTo>
                  <a:pt x="12154" y="3870"/>
                </a:moveTo>
                <a:cubicBezTo>
                  <a:pt x="12032" y="3821"/>
                  <a:pt x="11915" y="3759"/>
                  <a:pt x="11782" y="3770"/>
                </a:cubicBezTo>
                <a:cubicBezTo>
                  <a:pt x="11617" y="3783"/>
                  <a:pt x="11464" y="3832"/>
                  <a:pt x="11311" y="3894"/>
                </a:cubicBezTo>
                <a:cubicBezTo>
                  <a:pt x="11157" y="3957"/>
                  <a:pt x="11024" y="4043"/>
                  <a:pt x="10889" y="4142"/>
                </a:cubicBezTo>
                <a:cubicBezTo>
                  <a:pt x="10732" y="4257"/>
                  <a:pt x="10566" y="4421"/>
                  <a:pt x="10468" y="4589"/>
                </a:cubicBezTo>
                <a:cubicBezTo>
                  <a:pt x="10390" y="4721"/>
                  <a:pt x="10295" y="4891"/>
                  <a:pt x="10244" y="5035"/>
                </a:cubicBezTo>
                <a:cubicBezTo>
                  <a:pt x="10195" y="5174"/>
                  <a:pt x="10198" y="5360"/>
                  <a:pt x="10195" y="5507"/>
                </a:cubicBezTo>
                <a:cubicBezTo>
                  <a:pt x="10192" y="5642"/>
                  <a:pt x="10195" y="5852"/>
                  <a:pt x="10244" y="5978"/>
                </a:cubicBezTo>
                <a:cubicBezTo>
                  <a:pt x="10313" y="6158"/>
                  <a:pt x="10422" y="6284"/>
                  <a:pt x="10542" y="6424"/>
                </a:cubicBezTo>
                <a:cubicBezTo>
                  <a:pt x="10657" y="6558"/>
                  <a:pt x="10780" y="6619"/>
                  <a:pt x="10939" y="6697"/>
                </a:cubicBezTo>
                <a:cubicBezTo>
                  <a:pt x="11082" y="6767"/>
                  <a:pt x="11298" y="6786"/>
                  <a:pt x="11460" y="6772"/>
                </a:cubicBezTo>
                <a:cubicBezTo>
                  <a:pt x="11644" y="6756"/>
                  <a:pt x="11832" y="6706"/>
                  <a:pt x="12005" y="6648"/>
                </a:cubicBezTo>
                <a:cubicBezTo>
                  <a:pt x="12254" y="6565"/>
                  <a:pt x="12463" y="6462"/>
                  <a:pt x="12675" y="6300"/>
                </a:cubicBezTo>
                <a:cubicBezTo>
                  <a:pt x="12813" y="6194"/>
                  <a:pt x="12971" y="6074"/>
                  <a:pt x="13072" y="5928"/>
                </a:cubicBezTo>
                <a:cubicBezTo>
                  <a:pt x="13167" y="5791"/>
                  <a:pt x="13243" y="5644"/>
                  <a:pt x="13271" y="5482"/>
                </a:cubicBezTo>
                <a:cubicBezTo>
                  <a:pt x="13296" y="5337"/>
                  <a:pt x="13292" y="5181"/>
                  <a:pt x="13271" y="5035"/>
                </a:cubicBezTo>
                <a:cubicBezTo>
                  <a:pt x="13237" y="4797"/>
                  <a:pt x="13074" y="4569"/>
                  <a:pt x="12923" y="4390"/>
                </a:cubicBezTo>
                <a:cubicBezTo>
                  <a:pt x="12805" y="4250"/>
                  <a:pt x="12714" y="4209"/>
                  <a:pt x="12551" y="4142"/>
                </a:cubicBezTo>
                <a:cubicBezTo>
                  <a:pt x="12412" y="4085"/>
                  <a:pt x="12257" y="4032"/>
                  <a:pt x="12105" y="4018"/>
                </a:cubicBezTo>
                <a:cubicBezTo>
                  <a:pt x="11986" y="4007"/>
                  <a:pt x="11891" y="4049"/>
                  <a:pt x="11782" y="4068"/>
                </a:cubicBezTo>
              </a:path>
              <a:path w="4788" h="3003">
                <a:moveTo>
                  <a:pt x="11683" y="5482"/>
                </a:moveTo>
                <a:cubicBezTo>
                  <a:pt x="11860" y="5482"/>
                  <a:pt x="12032" y="5476"/>
                  <a:pt x="12204" y="5457"/>
                </a:cubicBezTo>
                <a:cubicBezTo>
                  <a:pt x="12468" y="5427"/>
                  <a:pt x="12763" y="5445"/>
                  <a:pt x="13022" y="5482"/>
                </a:cubicBezTo>
                <a:cubicBezTo>
                  <a:pt x="13093" y="5492"/>
                  <a:pt x="13174" y="5482"/>
                  <a:pt x="13246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9" name="Ink 5"/>
          <p:cNvSpPr/>
          <p:nvPr/>
        </p:nvSpPr>
        <p:spPr>
          <a:xfrm>
            <a:off x="322200" y="1295280"/>
            <a:ext cx="1517760" cy="785880"/>
          </a:xfrm>
          <a:custGeom>
            <a:avLst/>
            <a:gdLst/>
            <a:ahLst/>
            <a:rect l="l" t="t" r="r" b="b"/>
            <a:pathLst>
              <a:path w="4218" h="2183">
                <a:moveTo>
                  <a:pt x="893" y="4341"/>
                </a:moveTo>
                <a:cubicBezTo>
                  <a:pt x="924" y="4310"/>
                  <a:pt x="976" y="4253"/>
                  <a:pt x="1017" y="4242"/>
                </a:cubicBezTo>
                <a:cubicBezTo>
                  <a:pt x="1076" y="4227"/>
                  <a:pt x="1149" y="4282"/>
                  <a:pt x="1141" y="4341"/>
                </a:cubicBezTo>
                <a:cubicBezTo>
                  <a:pt x="1130" y="4418"/>
                  <a:pt x="1079" y="4477"/>
                  <a:pt x="1042" y="4539"/>
                </a:cubicBezTo>
                <a:cubicBezTo>
                  <a:pt x="1017" y="4589"/>
                  <a:pt x="1009" y="4605"/>
                  <a:pt x="992" y="4638"/>
                </a:cubicBezTo>
                <a:cubicBezTo>
                  <a:pt x="1049" y="4583"/>
                  <a:pt x="1070" y="4579"/>
                  <a:pt x="1141" y="4614"/>
                </a:cubicBezTo>
                <a:cubicBezTo>
                  <a:pt x="1201" y="4643"/>
                  <a:pt x="1211" y="4697"/>
                  <a:pt x="1215" y="4762"/>
                </a:cubicBezTo>
                <a:cubicBezTo>
                  <a:pt x="1220" y="4847"/>
                  <a:pt x="1145" y="4893"/>
                  <a:pt x="1067" y="4911"/>
                </a:cubicBezTo>
                <a:cubicBezTo>
                  <a:pt x="1006" y="4925"/>
                  <a:pt x="957" y="4920"/>
                  <a:pt x="943" y="4862"/>
                </a:cubicBezTo>
              </a:path>
              <a:path w="4218" h="2183">
                <a:moveTo>
                  <a:pt x="1637" y="4415"/>
                </a:moveTo>
                <a:cubicBezTo>
                  <a:pt x="1613" y="4331"/>
                  <a:pt x="1609" y="4211"/>
                  <a:pt x="1488" y="4242"/>
                </a:cubicBezTo>
                <a:cubicBezTo>
                  <a:pt x="1455" y="4250"/>
                  <a:pt x="1396" y="4338"/>
                  <a:pt x="1389" y="4366"/>
                </a:cubicBezTo>
                <a:cubicBezTo>
                  <a:pt x="1374" y="4428"/>
                  <a:pt x="1375" y="4490"/>
                  <a:pt x="1389" y="4539"/>
                </a:cubicBezTo>
                <a:cubicBezTo>
                  <a:pt x="1445" y="4579"/>
                  <a:pt x="1523" y="4591"/>
                  <a:pt x="1588" y="4514"/>
                </a:cubicBezTo>
                <a:cubicBezTo>
                  <a:pt x="1629" y="4466"/>
                  <a:pt x="1633" y="4414"/>
                  <a:pt x="1662" y="4366"/>
                </a:cubicBezTo>
                <a:cubicBezTo>
                  <a:pt x="1629" y="4452"/>
                  <a:pt x="1615" y="4519"/>
                  <a:pt x="1612" y="4614"/>
                </a:cubicBezTo>
                <a:cubicBezTo>
                  <a:pt x="1609" y="4690"/>
                  <a:pt x="1606" y="4795"/>
                  <a:pt x="1637" y="4862"/>
                </a:cubicBezTo>
                <a:cubicBezTo>
                  <a:pt x="1667" y="4892"/>
                  <a:pt x="1672" y="4894"/>
                  <a:pt x="1637" y="4837"/>
                </a:cubicBezTo>
              </a:path>
              <a:path w="4218" h="2183">
                <a:moveTo>
                  <a:pt x="1588" y="4018"/>
                </a:moveTo>
                <a:cubicBezTo>
                  <a:pt x="1742" y="4140"/>
                  <a:pt x="1777" y="4168"/>
                  <a:pt x="1836" y="4366"/>
                </a:cubicBezTo>
                <a:cubicBezTo>
                  <a:pt x="1861" y="4449"/>
                  <a:pt x="1879" y="4576"/>
                  <a:pt x="1860" y="4663"/>
                </a:cubicBezTo>
                <a:cubicBezTo>
                  <a:pt x="1846" y="4728"/>
                  <a:pt x="1787" y="4822"/>
                  <a:pt x="1736" y="4862"/>
                </a:cubicBezTo>
                <a:cubicBezTo>
                  <a:pt x="1702" y="4888"/>
                  <a:pt x="1650" y="4926"/>
                  <a:pt x="1612" y="4936"/>
                </a:cubicBezTo>
              </a:path>
              <a:path w="4218" h="2183">
                <a:moveTo>
                  <a:pt x="4167" y="3646"/>
                </a:moveTo>
                <a:cubicBezTo>
                  <a:pt x="4084" y="3596"/>
                  <a:pt x="4069" y="3603"/>
                  <a:pt x="3969" y="3597"/>
                </a:cubicBezTo>
                <a:cubicBezTo>
                  <a:pt x="3881" y="3592"/>
                  <a:pt x="3829" y="3619"/>
                  <a:pt x="3746" y="3646"/>
                </a:cubicBezTo>
                <a:cubicBezTo>
                  <a:pt x="3633" y="3682"/>
                  <a:pt x="3522" y="3752"/>
                  <a:pt x="3423" y="3820"/>
                </a:cubicBezTo>
                <a:cubicBezTo>
                  <a:pt x="3294" y="3909"/>
                  <a:pt x="3197" y="4021"/>
                  <a:pt x="3101" y="4142"/>
                </a:cubicBezTo>
                <a:cubicBezTo>
                  <a:pt x="3040" y="4219"/>
                  <a:pt x="2968" y="4297"/>
                  <a:pt x="2927" y="4390"/>
                </a:cubicBezTo>
                <a:cubicBezTo>
                  <a:pt x="2875" y="4507"/>
                  <a:pt x="2797" y="4657"/>
                  <a:pt x="2778" y="4787"/>
                </a:cubicBezTo>
                <a:cubicBezTo>
                  <a:pt x="2763" y="4888"/>
                  <a:pt x="2785" y="4992"/>
                  <a:pt x="2803" y="5085"/>
                </a:cubicBezTo>
                <a:cubicBezTo>
                  <a:pt x="2824" y="5190"/>
                  <a:pt x="2867" y="5283"/>
                  <a:pt x="2902" y="5383"/>
                </a:cubicBezTo>
                <a:cubicBezTo>
                  <a:pt x="2949" y="5520"/>
                  <a:pt x="3059" y="5583"/>
                  <a:pt x="3175" y="5655"/>
                </a:cubicBezTo>
                <a:cubicBezTo>
                  <a:pt x="3291" y="5727"/>
                  <a:pt x="3327" y="5764"/>
                  <a:pt x="3473" y="5779"/>
                </a:cubicBezTo>
                <a:cubicBezTo>
                  <a:pt x="3597" y="5792"/>
                  <a:pt x="3725" y="5780"/>
                  <a:pt x="3845" y="5755"/>
                </a:cubicBezTo>
                <a:cubicBezTo>
                  <a:pt x="3985" y="5726"/>
                  <a:pt x="4107" y="5658"/>
                  <a:pt x="4242" y="5606"/>
                </a:cubicBezTo>
                <a:cubicBezTo>
                  <a:pt x="4403" y="5544"/>
                  <a:pt x="4557" y="5422"/>
                  <a:pt x="4688" y="5308"/>
                </a:cubicBezTo>
                <a:cubicBezTo>
                  <a:pt x="4777" y="5231"/>
                  <a:pt x="4905" y="5111"/>
                  <a:pt x="4961" y="5011"/>
                </a:cubicBezTo>
                <a:cubicBezTo>
                  <a:pt x="5017" y="4911"/>
                  <a:pt x="5054" y="4800"/>
                  <a:pt x="5085" y="4688"/>
                </a:cubicBezTo>
                <a:cubicBezTo>
                  <a:pt x="5114" y="4582"/>
                  <a:pt x="5097" y="4471"/>
                  <a:pt x="5060" y="4366"/>
                </a:cubicBezTo>
                <a:cubicBezTo>
                  <a:pt x="5026" y="4268"/>
                  <a:pt x="4983" y="4193"/>
                  <a:pt x="4911" y="4118"/>
                </a:cubicBezTo>
                <a:cubicBezTo>
                  <a:pt x="4796" y="3997"/>
                  <a:pt x="4737" y="3937"/>
                  <a:pt x="4589" y="3845"/>
                </a:cubicBezTo>
                <a:cubicBezTo>
                  <a:pt x="4474" y="3774"/>
                  <a:pt x="4368" y="3769"/>
                  <a:pt x="4242" y="3746"/>
                </a:cubicBezTo>
                <a:cubicBezTo>
                  <a:pt x="4144" y="3728"/>
                  <a:pt x="3995" y="3690"/>
                  <a:pt x="3894" y="3721"/>
                </a:cubicBezTo>
                <a:cubicBezTo>
                  <a:pt x="3826" y="3742"/>
                  <a:pt x="3756" y="3776"/>
                  <a:pt x="3696" y="3795"/>
                </a:cubicBezTo>
              </a:path>
              <a:path w="4218" h="2183">
                <a:moveTo>
                  <a:pt x="3919" y="4812"/>
                </a:moveTo>
                <a:cubicBezTo>
                  <a:pt x="3993" y="4812"/>
                  <a:pt x="4051" y="4796"/>
                  <a:pt x="4118" y="4787"/>
                </a:cubicBezTo>
                <a:cubicBezTo>
                  <a:pt x="4356" y="4756"/>
                  <a:pt x="4656" y="4773"/>
                  <a:pt x="4887" y="4812"/>
                </a:cubicBezTo>
                <a:cubicBezTo>
                  <a:pt x="4930" y="4819"/>
                  <a:pt x="5076" y="4858"/>
                  <a:pt x="4961" y="4812"/>
                </a:cubicBezTo>
              </a:path>
              <a:path w="4218" h="2183">
                <a:moveTo>
                  <a:pt x="3919" y="4862"/>
                </a:moveTo>
                <a:cubicBezTo>
                  <a:pt x="3886" y="4895"/>
                  <a:pt x="3852" y="4915"/>
                  <a:pt x="3820" y="4936"/>
                </a:cubicBezTo>
                <a:cubicBezTo>
                  <a:pt x="3756" y="4979"/>
                  <a:pt x="3690" y="5023"/>
                  <a:pt x="3621" y="5060"/>
                </a:cubicBezTo>
                <a:cubicBezTo>
                  <a:pt x="3544" y="5101"/>
                  <a:pt x="3513" y="5107"/>
                  <a:pt x="3448" y="5159"/>
                </a:cubicBezTo>
                <a:cubicBezTo>
                  <a:pt x="3383" y="5211"/>
                  <a:pt x="3292" y="5233"/>
                  <a:pt x="3225" y="5283"/>
                </a:cubicBezTo>
                <a:cubicBezTo>
                  <a:pt x="3201" y="5301"/>
                  <a:pt x="3126" y="5388"/>
                  <a:pt x="3101" y="5383"/>
                </a:cubicBezTo>
                <a:cubicBezTo>
                  <a:pt x="3101" y="5375"/>
                  <a:pt x="3101" y="5366"/>
                  <a:pt x="3101" y="5358"/>
                </a:cubicBezTo>
              </a:path>
              <a:path w="4218" h="2183">
                <a:moveTo>
                  <a:pt x="3101" y="5209"/>
                </a:moveTo>
                <a:cubicBezTo>
                  <a:pt x="3089" y="5301"/>
                  <a:pt x="3060" y="5378"/>
                  <a:pt x="3001" y="5432"/>
                </a:cubicBezTo>
                <a:cubicBezTo>
                  <a:pt x="2993" y="5440"/>
                  <a:pt x="2985" y="5449"/>
                  <a:pt x="2977" y="5457"/>
                </a:cubicBezTo>
                <a:cubicBezTo>
                  <a:pt x="3043" y="5497"/>
                  <a:pt x="3074" y="5461"/>
                  <a:pt x="3150" y="5457"/>
                </a:cubicBezTo>
                <a:cubicBezTo>
                  <a:pt x="3208" y="5454"/>
                  <a:pt x="3224" y="5470"/>
                  <a:pt x="3249" y="5432"/>
                </a:cubicBezTo>
              </a:path>
              <a:path w="4218" h="2183">
                <a:moveTo>
                  <a:pt x="4242" y="4762"/>
                </a:moveTo>
                <a:cubicBezTo>
                  <a:pt x="4231" y="4685"/>
                  <a:pt x="4200" y="4672"/>
                  <a:pt x="4142" y="4614"/>
                </a:cubicBezTo>
                <a:cubicBezTo>
                  <a:pt x="4101" y="4573"/>
                  <a:pt x="4026" y="4567"/>
                  <a:pt x="3969" y="4564"/>
                </a:cubicBezTo>
                <a:cubicBezTo>
                  <a:pt x="3886" y="4560"/>
                  <a:pt x="3865" y="4577"/>
                  <a:pt x="3795" y="4614"/>
                </a:cubicBezTo>
                <a:cubicBezTo>
                  <a:pt x="3725" y="4651"/>
                  <a:pt x="3678" y="4681"/>
                  <a:pt x="3621" y="4738"/>
                </a:cubicBezTo>
                <a:cubicBezTo>
                  <a:pt x="3575" y="4784"/>
                  <a:pt x="3533" y="4868"/>
                  <a:pt x="3547" y="4936"/>
                </a:cubicBezTo>
                <a:cubicBezTo>
                  <a:pt x="3557" y="4985"/>
                  <a:pt x="3572" y="5008"/>
                  <a:pt x="3572" y="5060"/>
                </a:cubicBezTo>
              </a:path>
              <a:path w="4218" h="2183">
                <a:moveTo>
                  <a:pt x="3423" y="4986"/>
                </a:moveTo>
                <a:cubicBezTo>
                  <a:pt x="3447" y="5016"/>
                  <a:pt x="3481" y="5098"/>
                  <a:pt x="3522" y="5110"/>
                </a:cubicBezTo>
                <a:cubicBezTo>
                  <a:pt x="3582" y="5127"/>
                  <a:pt x="3610" y="5071"/>
                  <a:pt x="3646" y="5035"/>
                </a:cubicBezTo>
                <a:cubicBezTo>
                  <a:pt x="3669" y="5013"/>
                  <a:pt x="3677" y="5008"/>
                  <a:pt x="3671" y="4986"/>
                </a:cubicBezTo>
              </a:path>
              <a:path w="4218" h="2183">
                <a:moveTo>
                  <a:pt x="3646" y="4514"/>
                </a:moveTo>
                <a:cubicBezTo>
                  <a:pt x="3677" y="4484"/>
                  <a:pt x="3731" y="4426"/>
                  <a:pt x="3770" y="4415"/>
                </a:cubicBezTo>
                <a:cubicBezTo>
                  <a:pt x="3787" y="4415"/>
                  <a:pt x="3803" y="4415"/>
                  <a:pt x="3820" y="4415"/>
                </a:cubicBezTo>
                <a:cubicBezTo>
                  <a:pt x="3811" y="4487"/>
                  <a:pt x="3762" y="4508"/>
                  <a:pt x="3746" y="4564"/>
                </a:cubicBezTo>
                <a:cubicBezTo>
                  <a:pt x="3731" y="4619"/>
                  <a:pt x="3727" y="4625"/>
                  <a:pt x="3746" y="4663"/>
                </a:cubicBezTo>
                <a:cubicBezTo>
                  <a:pt x="3822" y="4652"/>
                  <a:pt x="3830" y="4633"/>
                  <a:pt x="3870" y="4564"/>
                </a:cubicBezTo>
              </a:path>
              <a:path w="4218" h="2183">
                <a:moveTo>
                  <a:pt x="3894" y="4291"/>
                </a:moveTo>
                <a:cubicBezTo>
                  <a:pt x="3873" y="4369"/>
                  <a:pt x="3848" y="4439"/>
                  <a:pt x="3894" y="4514"/>
                </a:cubicBezTo>
                <a:cubicBezTo>
                  <a:pt x="3929" y="4571"/>
                  <a:pt x="4013" y="4532"/>
                  <a:pt x="4043" y="4490"/>
                </a:cubicBezTo>
                <a:cubicBezTo>
                  <a:pt x="4081" y="4437"/>
                  <a:pt x="4081" y="4363"/>
                  <a:pt x="4043" y="4316"/>
                </a:cubicBezTo>
                <a:cubicBezTo>
                  <a:pt x="4015" y="4288"/>
                  <a:pt x="4002" y="4279"/>
                  <a:pt x="3969" y="4291"/>
                </a:cubicBezTo>
              </a:path>
              <a:path w="4218" h="2183">
                <a:moveTo>
                  <a:pt x="4167" y="4242"/>
                </a:moveTo>
                <a:cubicBezTo>
                  <a:pt x="4128" y="4301"/>
                  <a:pt x="4124" y="4313"/>
                  <a:pt x="4093" y="4341"/>
                </a:cubicBezTo>
                <a:cubicBezTo>
                  <a:pt x="4151" y="4375"/>
                  <a:pt x="4179" y="4398"/>
                  <a:pt x="4242" y="4366"/>
                </a:cubicBezTo>
                <a:cubicBezTo>
                  <a:pt x="4307" y="4333"/>
                  <a:pt x="4301" y="4236"/>
                  <a:pt x="4266" y="4192"/>
                </a:cubicBezTo>
                <a:cubicBezTo>
                  <a:pt x="4237" y="4162"/>
                  <a:pt x="4223" y="4157"/>
                  <a:pt x="4192" y="4192"/>
                </a:cubicBezTo>
              </a:path>
              <a:path w="4218" h="2183">
                <a:moveTo>
                  <a:pt x="4242" y="4415"/>
                </a:moveTo>
                <a:cubicBezTo>
                  <a:pt x="4337" y="4403"/>
                  <a:pt x="4337" y="4387"/>
                  <a:pt x="4390" y="4316"/>
                </a:cubicBezTo>
                <a:cubicBezTo>
                  <a:pt x="4424" y="4270"/>
                  <a:pt x="4400" y="4199"/>
                  <a:pt x="4316" y="4217"/>
                </a:cubicBezTo>
                <a:cubicBezTo>
                  <a:pt x="4243" y="4233"/>
                  <a:pt x="4225" y="4304"/>
                  <a:pt x="4217" y="4366"/>
                </a:cubicBezTo>
              </a:path>
              <a:path w="4218" h="2183">
                <a:moveTo>
                  <a:pt x="3870" y="4862"/>
                </a:moveTo>
                <a:cubicBezTo>
                  <a:pt x="3725" y="4862"/>
                  <a:pt x="3589" y="4871"/>
                  <a:pt x="3448" y="4887"/>
                </a:cubicBezTo>
                <a:cubicBezTo>
                  <a:pt x="3206" y="4914"/>
                  <a:pt x="2739" y="4619"/>
                  <a:pt x="2729" y="4862"/>
                </a:cubicBezTo>
                <a:cubicBezTo>
                  <a:pt x="2751" y="4884"/>
                  <a:pt x="2762" y="4893"/>
                  <a:pt x="2729" y="4887"/>
                </a:cubicBezTo>
              </a:path>
              <a:path w="4218" h="2183">
                <a:moveTo>
                  <a:pt x="3795" y="4911"/>
                </a:moveTo>
                <a:cubicBezTo>
                  <a:pt x="3937" y="4911"/>
                  <a:pt x="3683" y="4911"/>
                  <a:pt x="3671" y="4911"/>
                </a:cubicBezTo>
                <a:cubicBezTo>
                  <a:pt x="3440" y="4911"/>
                  <a:pt x="3208" y="4911"/>
                  <a:pt x="2977" y="4911"/>
                </a:cubicBezTo>
                <a:cubicBezTo>
                  <a:pt x="3104" y="4911"/>
                  <a:pt x="3229" y="4899"/>
                  <a:pt x="3349" y="4887"/>
                </a:cubicBezTo>
                <a:cubicBezTo>
                  <a:pt x="3445" y="4877"/>
                  <a:pt x="3813" y="4887"/>
                  <a:pt x="3746" y="4887"/>
                </a:cubicBezTo>
                <a:cubicBezTo>
                  <a:pt x="3648" y="4850"/>
                  <a:pt x="3598" y="4876"/>
                  <a:pt x="3497" y="4887"/>
                </a:cubicBezTo>
                <a:cubicBezTo>
                  <a:pt x="3352" y="4903"/>
                  <a:pt x="3194" y="4899"/>
                  <a:pt x="3051" y="4911"/>
                </a:cubicBezTo>
                <a:cubicBezTo>
                  <a:pt x="2972" y="4918"/>
                  <a:pt x="2882" y="4911"/>
                  <a:pt x="2803" y="4911"/>
                </a:cubicBezTo>
                <a:cubicBezTo>
                  <a:pt x="2621" y="4980"/>
                  <a:pt x="2789" y="4916"/>
                  <a:pt x="2902" y="4911"/>
                </a:cubicBezTo>
                <a:cubicBezTo>
                  <a:pt x="3007" y="4906"/>
                  <a:pt x="3097" y="4890"/>
                  <a:pt x="3200" y="4887"/>
                </a:cubicBezTo>
                <a:cubicBezTo>
                  <a:pt x="3361" y="4882"/>
                  <a:pt x="3515" y="4891"/>
                  <a:pt x="3671" y="4911"/>
                </a:cubicBezTo>
                <a:cubicBezTo>
                  <a:pt x="3721" y="4911"/>
                  <a:pt x="3737" y="4911"/>
                  <a:pt x="3770" y="4911"/>
                </a:cubicBezTo>
                <a:cubicBezTo>
                  <a:pt x="3672" y="4875"/>
                  <a:pt x="3577" y="4903"/>
                  <a:pt x="3473" y="4887"/>
                </a:cubicBezTo>
                <a:cubicBezTo>
                  <a:pt x="3352" y="4868"/>
                  <a:pt x="3248" y="4862"/>
                  <a:pt x="3125" y="4862"/>
                </a:cubicBezTo>
                <a:cubicBezTo>
                  <a:pt x="3035" y="4862"/>
                  <a:pt x="2961" y="4876"/>
                  <a:pt x="2877" y="48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0" name="Ink 6"/>
          <p:cNvSpPr/>
          <p:nvPr/>
        </p:nvSpPr>
        <p:spPr>
          <a:xfrm>
            <a:off x="803160" y="2367000"/>
            <a:ext cx="1608120" cy="276120"/>
          </a:xfrm>
          <a:custGeom>
            <a:avLst/>
            <a:gdLst/>
            <a:ahLst/>
            <a:rect l="l" t="t" r="r" b="b"/>
            <a:pathLst>
              <a:path w="4466" h="770">
                <a:moveTo>
                  <a:pt x="2307" y="6747"/>
                </a:moveTo>
                <a:cubicBezTo>
                  <a:pt x="2355" y="6699"/>
                  <a:pt x="2405" y="6673"/>
                  <a:pt x="2480" y="6697"/>
                </a:cubicBezTo>
                <a:cubicBezTo>
                  <a:pt x="2488" y="6705"/>
                  <a:pt x="2497" y="6714"/>
                  <a:pt x="2505" y="6722"/>
                </a:cubicBezTo>
                <a:cubicBezTo>
                  <a:pt x="2488" y="6859"/>
                  <a:pt x="2469" y="6836"/>
                  <a:pt x="2381" y="6945"/>
                </a:cubicBezTo>
                <a:cubicBezTo>
                  <a:pt x="2355" y="6977"/>
                  <a:pt x="2269" y="7093"/>
                  <a:pt x="2257" y="7119"/>
                </a:cubicBezTo>
                <a:cubicBezTo>
                  <a:pt x="2246" y="7143"/>
                  <a:pt x="2210" y="7265"/>
                  <a:pt x="2232" y="7293"/>
                </a:cubicBezTo>
                <a:cubicBezTo>
                  <a:pt x="2275" y="7348"/>
                  <a:pt x="2356" y="7334"/>
                  <a:pt x="2406" y="7317"/>
                </a:cubicBezTo>
                <a:cubicBezTo>
                  <a:pt x="2555" y="7266"/>
                  <a:pt x="2487" y="7295"/>
                  <a:pt x="2679" y="7144"/>
                </a:cubicBezTo>
              </a:path>
              <a:path w="4466" h="770">
                <a:moveTo>
                  <a:pt x="2803" y="6796"/>
                </a:moveTo>
                <a:cubicBezTo>
                  <a:pt x="2743" y="6909"/>
                  <a:pt x="2695" y="6987"/>
                  <a:pt x="2679" y="7119"/>
                </a:cubicBezTo>
                <a:cubicBezTo>
                  <a:pt x="2668" y="7208"/>
                  <a:pt x="2692" y="7263"/>
                  <a:pt x="2778" y="7268"/>
                </a:cubicBezTo>
                <a:cubicBezTo>
                  <a:pt x="2853" y="7272"/>
                  <a:pt x="2875" y="7269"/>
                  <a:pt x="2927" y="7218"/>
                </a:cubicBezTo>
                <a:cubicBezTo>
                  <a:pt x="2980" y="7165"/>
                  <a:pt x="3022" y="7117"/>
                  <a:pt x="3026" y="7045"/>
                </a:cubicBezTo>
                <a:cubicBezTo>
                  <a:pt x="3031" y="6963"/>
                  <a:pt x="2982" y="6914"/>
                  <a:pt x="2902" y="6896"/>
                </a:cubicBezTo>
                <a:cubicBezTo>
                  <a:pt x="2861" y="6896"/>
                  <a:pt x="2845" y="6904"/>
                  <a:pt x="2853" y="6871"/>
                </a:cubicBezTo>
              </a:path>
              <a:path w="4466" h="770">
                <a:moveTo>
                  <a:pt x="3423" y="6697"/>
                </a:moveTo>
                <a:cubicBezTo>
                  <a:pt x="3325" y="6697"/>
                  <a:pt x="3265" y="6704"/>
                  <a:pt x="3175" y="6747"/>
                </a:cubicBezTo>
                <a:cubicBezTo>
                  <a:pt x="3086" y="6789"/>
                  <a:pt x="3119" y="6882"/>
                  <a:pt x="3175" y="6945"/>
                </a:cubicBezTo>
                <a:cubicBezTo>
                  <a:pt x="3236" y="7014"/>
                  <a:pt x="3247" y="7068"/>
                  <a:pt x="3274" y="7144"/>
                </a:cubicBezTo>
                <a:cubicBezTo>
                  <a:pt x="3284" y="7172"/>
                  <a:pt x="3294" y="7297"/>
                  <a:pt x="3225" y="7293"/>
                </a:cubicBezTo>
                <a:cubicBezTo>
                  <a:pt x="3122" y="7288"/>
                  <a:pt x="3103" y="7220"/>
                  <a:pt x="3150" y="7144"/>
                </a:cubicBezTo>
                <a:cubicBezTo>
                  <a:pt x="3181" y="7095"/>
                  <a:pt x="3238" y="7039"/>
                  <a:pt x="3274" y="6995"/>
                </a:cubicBezTo>
                <a:cubicBezTo>
                  <a:pt x="3316" y="6945"/>
                  <a:pt x="3426" y="6911"/>
                  <a:pt x="3448" y="6846"/>
                </a:cubicBezTo>
                <a:cubicBezTo>
                  <a:pt x="3468" y="6787"/>
                  <a:pt x="3451" y="6794"/>
                  <a:pt x="3497" y="6747"/>
                </a:cubicBezTo>
              </a:path>
              <a:path w="4466" h="770">
                <a:moveTo>
                  <a:pt x="3547" y="6970"/>
                </a:moveTo>
                <a:cubicBezTo>
                  <a:pt x="3639" y="6982"/>
                  <a:pt x="3751" y="6996"/>
                  <a:pt x="3845" y="6970"/>
                </a:cubicBezTo>
                <a:cubicBezTo>
                  <a:pt x="3861" y="6962"/>
                  <a:pt x="3878" y="6953"/>
                  <a:pt x="3894" y="6945"/>
                </a:cubicBezTo>
              </a:path>
              <a:path w="4466" h="770">
                <a:moveTo>
                  <a:pt x="4043" y="6697"/>
                </a:moveTo>
                <a:cubicBezTo>
                  <a:pt x="4013" y="6817"/>
                  <a:pt x="4018" y="6919"/>
                  <a:pt x="4018" y="7045"/>
                </a:cubicBezTo>
                <a:cubicBezTo>
                  <a:pt x="4018" y="7117"/>
                  <a:pt x="3968" y="7193"/>
                  <a:pt x="3994" y="7268"/>
                </a:cubicBezTo>
                <a:cubicBezTo>
                  <a:pt x="4002" y="7276"/>
                  <a:pt x="4010" y="7285"/>
                  <a:pt x="4018" y="7293"/>
                </a:cubicBezTo>
              </a:path>
              <a:path w="4466" h="770">
                <a:moveTo>
                  <a:pt x="4490" y="6722"/>
                </a:moveTo>
                <a:cubicBezTo>
                  <a:pt x="4445" y="6724"/>
                  <a:pt x="4248" y="6708"/>
                  <a:pt x="4217" y="6796"/>
                </a:cubicBezTo>
                <a:cubicBezTo>
                  <a:pt x="4187" y="6880"/>
                  <a:pt x="4282" y="7024"/>
                  <a:pt x="4316" y="7094"/>
                </a:cubicBezTo>
                <a:cubicBezTo>
                  <a:pt x="4338" y="7140"/>
                  <a:pt x="4421" y="7256"/>
                  <a:pt x="4341" y="7293"/>
                </a:cubicBezTo>
                <a:cubicBezTo>
                  <a:pt x="4291" y="7293"/>
                  <a:pt x="4275" y="7293"/>
                  <a:pt x="4242" y="7293"/>
                </a:cubicBezTo>
                <a:cubicBezTo>
                  <a:pt x="4181" y="7217"/>
                  <a:pt x="4197" y="7200"/>
                  <a:pt x="4242" y="7119"/>
                </a:cubicBezTo>
                <a:cubicBezTo>
                  <a:pt x="4275" y="7059"/>
                  <a:pt x="4362" y="6967"/>
                  <a:pt x="4415" y="6921"/>
                </a:cubicBezTo>
                <a:cubicBezTo>
                  <a:pt x="4474" y="6870"/>
                  <a:pt x="4538" y="6855"/>
                  <a:pt x="4589" y="6796"/>
                </a:cubicBezTo>
                <a:cubicBezTo>
                  <a:pt x="4577" y="6904"/>
                  <a:pt x="4541" y="6975"/>
                  <a:pt x="4490" y="7069"/>
                </a:cubicBezTo>
                <a:cubicBezTo>
                  <a:pt x="4458" y="7129"/>
                  <a:pt x="4449" y="7190"/>
                  <a:pt x="4490" y="7243"/>
                </a:cubicBezTo>
                <a:cubicBezTo>
                  <a:pt x="4535" y="7301"/>
                  <a:pt x="4568" y="7293"/>
                  <a:pt x="4638" y="7293"/>
                </a:cubicBezTo>
                <a:cubicBezTo>
                  <a:pt x="4710" y="7293"/>
                  <a:pt x="4768" y="7276"/>
                  <a:pt x="4787" y="7193"/>
                </a:cubicBezTo>
                <a:cubicBezTo>
                  <a:pt x="4808" y="7105"/>
                  <a:pt x="4801" y="7056"/>
                  <a:pt x="4787" y="6970"/>
                </a:cubicBezTo>
                <a:cubicBezTo>
                  <a:pt x="4777" y="6905"/>
                  <a:pt x="4761" y="6894"/>
                  <a:pt x="4713" y="6846"/>
                </a:cubicBezTo>
                <a:cubicBezTo>
                  <a:pt x="4684" y="6817"/>
                  <a:pt x="4672" y="6808"/>
                  <a:pt x="4663" y="6772"/>
                </a:cubicBezTo>
              </a:path>
              <a:path w="4466" h="770">
                <a:moveTo>
                  <a:pt x="5060" y="6871"/>
                </a:moveTo>
                <a:cubicBezTo>
                  <a:pt x="5151" y="6871"/>
                  <a:pt x="5242" y="6871"/>
                  <a:pt x="5333" y="6871"/>
                </a:cubicBezTo>
              </a:path>
              <a:path w="4466" h="770">
                <a:moveTo>
                  <a:pt x="5085" y="7069"/>
                </a:moveTo>
                <a:cubicBezTo>
                  <a:pt x="5162" y="7053"/>
                  <a:pt x="5207" y="7045"/>
                  <a:pt x="5283" y="7045"/>
                </a:cubicBezTo>
              </a:path>
              <a:path w="4466" h="770">
                <a:moveTo>
                  <a:pt x="5507" y="6747"/>
                </a:moveTo>
                <a:cubicBezTo>
                  <a:pt x="5563" y="6718"/>
                  <a:pt x="5637" y="6671"/>
                  <a:pt x="5705" y="6697"/>
                </a:cubicBezTo>
                <a:cubicBezTo>
                  <a:pt x="5753" y="6715"/>
                  <a:pt x="5818" y="6762"/>
                  <a:pt x="5804" y="6821"/>
                </a:cubicBezTo>
                <a:cubicBezTo>
                  <a:pt x="5794" y="6865"/>
                  <a:pt x="5732" y="6960"/>
                  <a:pt x="5705" y="6995"/>
                </a:cubicBezTo>
                <a:cubicBezTo>
                  <a:pt x="5651" y="7064"/>
                  <a:pt x="5569" y="7107"/>
                  <a:pt x="5507" y="7169"/>
                </a:cubicBezTo>
                <a:cubicBezTo>
                  <a:pt x="5477" y="7198"/>
                  <a:pt x="5465" y="7212"/>
                  <a:pt x="5457" y="7243"/>
                </a:cubicBezTo>
                <a:cubicBezTo>
                  <a:pt x="5522" y="7282"/>
                  <a:pt x="5600" y="7268"/>
                  <a:pt x="5680" y="7268"/>
                </a:cubicBezTo>
                <a:cubicBezTo>
                  <a:pt x="5778" y="7268"/>
                  <a:pt x="5840" y="7232"/>
                  <a:pt x="5928" y="7193"/>
                </a:cubicBezTo>
              </a:path>
              <a:path w="4466" h="770">
                <a:moveTo>
                  <a:pt x="6276" y="6697"/>
                </a:moveTo>
                <a:cubicBezTo>
                  <a:pt x="6180" y="6676"/>
                  <a:pt x="6135" y="6667"/>
                  <a:pt x="6052" y="6697"/>
                </a:cubicBezTo>
                <a:cubicBezTo>
                  <a:pt x="5956" y="6731"/>
                  <a:pt x="5937" y="6754"/>
                  <a:pt x="5978" y="6846"/>
                </a:cubicBezTo>
                <a:cubicBezTo>
                  <a:pt x="6015" y="6929"/>
                  <a:pt x="6070" y="6985"/>
                  <a:pt x="6102" y="7069"/>
                </a:cubicBezTo>
                <a:cubicBezTo>
                  <a:pt x="6123" y="7123"/>
                  <a:pt x="6196" y="7272"/>
                  <a:pt x="6077" y="7293"/>
                </a:cubicBezTo>
                <a:cubicBezTo>
                  <a:pt x="6052" y="7298"/>
                  <a:pt x="5936" y="7257"/>
                  <a:pt x="5928" y="7218"/>
                </a:cubicBezTo>
                <a:cubicBezTo>
                  <a:pt x="5907" y="7117"/>
                  <a:pt x="5990" y="7103"/>
                  <a:pt x="6052" y="7045"/>
                </a:cubicBezTo>
                <a:cubicBezTo>
                  <a:pt x="6108" y="6993"/>
                  <a:pt x="6178" y="6925"/>
                  <a:pt x="6226" y="6871"/>
                </a:cubicBezTo>
                <a:cubicBezTo>
                  <a:pt x="6243" y="6846"/>
                  <a:pt x="6259" y="6821"/>
                  <a:pt x="6276" y="6796"/>
                </a:cubicBezTo>
              </a:path>
              <a:path w="4466" h="770">
                <a:moveTo>
                  <a:pt x="6474" y="6573"/>
                </a:moveTo>
                <a:cubicBezTo>
                  <a:pt x="6434" y="6633"/>
                  <a:pt x="6378" y="6724"/>
                  <a:pt x="6474" y="6772"/>
                </a:cubicBezTo>
                <a:cubicBezTo>
                  <a:pt x="6517" y="6794"/>
                  <a:pt x="6616" y="6773"/>
                  <a:pt x="6648" y="6747"/>
                </a:cubicBezTo>
                <a:cubicBezTo>
                  <a:pt x="6697" y="6707"/>
                  <a:pt x="6691" y="6653"/>
                  <a:pt x="6697" y="6598"/>
                </a:cubicBezTo>
                <a:cubicBezTo>
                  <a:pt x="6644" y="6566"/>
                  <a:pt x="6619" y="6573"/>
                  <a:pt x="6548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1" name="Ink 7"/>
          <p:cNvSpPr/>
          <p:nvPr/>
        </p:nvSpPr>
        <p:spPr>
          <a:xfrm>
            <a:off x="3660840" y="2705040"/>
            <a:ext cx="1643040" cy="339840"/>
          </a:xfrm>
          <a:custGeom>
            <a:avLst/>
            <a:gdLst/>
            <a:ahLst/>
            <a:rect l="l" t="t" r="r" b="b"/>
            <a:pathLst>
              <a:path w="4565" h="943">
                <a:moveTo>
                  <a:pt x="10195" y="7714"/>
                </a:moveTo>
                <a:cubicBezTo>
                  <a:pt x="10323" y="7686"/>
                  <a:pt x="10367" y="7675"/>
                  <a:pt x="10468" y="7764"/>
                </a:cubicBezTo>
                <a:cubicBezTo>
                  <a:pt x="10510" y="7801"/>
                  <a:pt x="10507" y="7857"/>
                  <a:pt x="10492" y="7888"/>
                </a:cubicBezTo>
                <a:cubicBezTo>
                  <a:pt x="10475" y="7922"/>
                  <a:pt x="10428" y="8044"/>
                  <a:pt x="10393" y="8062"/>
                </a:cubicBezTo>
                <a:cubicBezTo>
                  <a:pt x="10342" y="8062"/>
                  <a:pt x="10324" y="8063"/>
                  <a:pt x="10294" y="8086"/>
                </a:cubicBezTo>
                <a:cubicBezTo>
                  <a:pt x="10392" y="8095"/>
                  <a:pt x="10531" y="8145"/>
                  <a:pt x="10592" y="8235"/>
                </a:cubicBezTo>
                <a:cubicBezTo>
                  <a:pt x="10654" y="8327"/>
                  <a:pt x="10498" y="8418"/>
                  <a:pt x="10443" y="8434"/>
                </a:cubicBezTo>
                <a:cubicBezTo>
                  <a:pt x="10338" y="8464"/>
                  <a:pt x="10269" y="8483"/>
                  <a:pt x="10195" y="8409"/>
                </a:cubicBezTo>
                <a:cubicBezTo>
                  <a:pt x="10187" y="8401"/>
                  <a:pt x="10178" y="8392"/>
                  <a:pt x="10170" y="8384"/>
                </a:cubicBezTo>
              </a:path>
              <a:path w="4565" h="943">
                <a:moveTo>
                  <a:pt x="10592" y="7665"/>
                </a:moveTo>
                <a:cubicBezTo>
                  <a:pt x="10592" y="7842"/>
                  <a:pt x="10557" y="8038"/>
                  <a:pt x="10567" y="8210"/>
                </a:cubicBezTo>
                <a:cubicBezTo>
                  <a:pt x="10572" y="8300"/>
                  <a:pt x="10659" y="8349"/>
                  <a:pt x="10740" y="8334"/>
                </a:cubicBezTo>
                <a:cubicBezTo>
                  <a:pt x="10794" y="8324"/>
                  <a:pt x="10864" y="8260"/>
                  <a:pt x="10914" y="8235"/>
                </a:cubicBezTo>
                <a:cubicBezTo>
                  <a:pt x="10988" y="8198"/>
                  <a:pt x="10980" y="8161"/>
                  <a:pt x="10988" y="8086"/>
                </a:cubicBezTo>
                <a:cubicBezTo>
                  <a:pt x="10887" y="8053"/>
                  <a:pt x="10863" y="8118"/>
                  <a:pt x="10815" y="8210"/>
                </a:cubicBezTo>
                <a:cubicBezTo>
                  <a:pt x="10789" y="8259"/>
                  <a:pt x="10756" y="8393"/>
                  <a:pt x="10815" y="8434"/>
                </a:cubicBezTo>
                <a:cubicBezTo>
                  <a:pt x="10831" y="8434"/>
                  <a:pt x="10848" y="8434"/>
                  <a:pt x="10864" y="8434"/>
                </a:cubicBezTo>
              </a:path>
              <a:path w="4565" h="943">
                <a:moveTo>
                  <a:pt x="11162" y="7789"/>
                </a:moveTo>
                <a:cubicBezTo>
                  <a:pt x="11135" y="7911"/>
                  <a:pt x="11075" y="8101"/>
                  <a:pt x="11112" y="8235"/>
                </a:cubicBezTo>
                <a:cubicBezTo>
                  <a:pt x="11137" y="8326"/>
                  <a:pt x="11232" y="8290"/>
                  <a:pt x="11286" y="8285"/>
                </a:cubicBezTo>
                <a:cubicBezTo>
                  <a:pt x="11355" y="8279"/>
                  <a:pt x="11398" y="8211"/>
                  <a:pt x="11410" y="8136"/>
                </a:cubicBezTo>
                <a:cubicBezTo>
                  <a:pt x="11425" y="8043"/>
                  <a:pt x="11418" y="7923"/>
                  <a:pt x="11385" y="7838"/>
                </a:cubicBezTo>
                <a:cubicBezTo>
                  <a:pt x="11353" y="7756"/>
                  <a:pt x="11297" y="7746"/>
                  <a:pt x="11212" y="7764"/>
                </a:cubicBezTo>
                <a:cubicBezTo>
                  <a:pt x="11154" y="7783"/>
                  <a:pt x="11147" y="7792"/>
                  <a:pt x="11112" y="7789"/>
                </a:cubicBezTo>
              </a:path>
              <a:path w="4565" h="943">
                <a:moveTo>
                  <a:pt x="11534" y="8012"/>
                </a:moveTo>
                <a:cubicBezTo>
                  <a:pt x="11666" y="8012"/>
                  <a:pt x="11683" y="8012"/>
                  <a:pt x="11757" y="8012"/>
                </a:cubicBezTo>
              </a:path>
              <a:path w="4565" h="943">
                <a:moveTo>
                  <a:pt x="11881" y="7714"/>
                </a:moveTo>
                <a:cubicBezTo>
                  <a:pt x="11930" y="7696"/>
                  <a:pt x="12065" y="7670"/>
                  <a:pt x="12105" y="7714"/>
                </a:cubicBezTo>
                <a:cubicBezTo>
                  <a:pt x="12166" y="7781"/>
                  <a:pt x="12167" y="7936"/>
                  <a:pt x="12129" y="8012"/>
                </a:cubicBezTo>
                <a:cubicBezTo>
                  <a:pt x="12098" y="8075"/>
                  <a:pt x="12024" y="8144"/>
                  <a:pt x="11981" y="8210"/>
                </a:cubicBezTo>
                <a:cubicBezTo>
                  <a:pt x="11958" y="8246"/>
                  <a:pt x="11975" y="8376"/>
                  <a:pt x="12055" y="8359"/>
                </a:cubicBezTo>
                <a:cubicBezTo>
                  <a:pt x="12088" y="8343"/>
                  <a:pt x="12121" y="8326"/>
                  <a:pt x="12154" y="8310"/>
                </a:cubicBezTo>
              </a:path>
              <a:path w="4565" h="943">
                <a:moveTo>
                  <a:pt x="12477" y="7665"/>
                </a:moveTo>
                <a:cubicBezTo>
                  <a:pt x="12385" y="7706"/>
                  <a:pt x="12334" y="7753"/>
                  <a:pt x="12278" y="7838"/>
                </a:cubicBezTo>
                <a:cubicBezTo>
                  <a:pt x="12230" y="7911"/>
                  <a:pt x="12250" y="7958"/>
                  <a:pt x="12303" y="8012"/>
                </a:cubicBezTo>
                <a:cubicBezTo>
                  <a:pt x="12394" y="8001"/>
                  <a:pt x="12421" y="7980"/>
                  <a:pt x="12477" y="7913"/>
                </a:cubicBezTo>
                <a:cubicBezTo>
                  <a:pt x="12510" y="7874"/>
                  <a:pt x="12523" y="7815"/>
                  <a:pt x="12526" y="7764"/>
                </a:cubicBezTo>
                <a:cubicBezTo>
                  <a:pt x="12526" y="7747"/>
                  <a:pt x="12526" y="7731"/>
                  <a:pt x="12526" y="7714"/>
                </a:cubicBezTo>
                <a:cubicBezTo>
                  <a:pt x="12501" y="7811"/>
                  <a:pt x="12480" y="7887"/>
                  <a:pt x="12477" y="7987"/>
                </a:cubicBezTo>
                <a:cubicBezTo>
                  <a:pt x="12475" y="8052"/>
                  <a:pt x="12441" y="8287"/>
                  <a:pt x="12502" y="8334"/>
                </a:cubicBezTo>
                <a:cubicBezTo>
                  <a:pt x="12510" y="8326"/>
                  <a:pt x="12518" y="8318"/>
                  <a:pt x="12526" y="8310"/>
                </a:cubicBezTo>
              </a:path>
              <a:path w="4565" h="943">
                <a:moveTo>
                  <a:pt x="12626" y="7689"/>
                </a:moveTo>
                <a:cubicBezTo>
                  <a:pt x="12828" y="7719"/>
                  <a:pt x="12943" y="7702"/>
                  <a:pt x="12874" y="7938"/>
                </a:cubicBezTo>
                <a:cubicBezTo>
                  <a:pt x="12844" y="8041"/>
                  <a:pt x="12773" y="8054"/>
                  <a:pt x="12725" y="8136"/>
                </a:cubicBezTo>
                <a:cubicBezTo>
                  <a:pt x="12677" y="8218"/>
                  <a:pt x="12676" y="8261"/>
                  <a:pt x="12725" y="8334"/>
                </a:cubicBezTo>
                <a:cubicBezTo>
                  <a:pt x="12766" y="8395"/>
                  <a:pt x="12872" y="8356"/>
                  <a:pt x="12923" y="8334"/>
                </a:cubicBezTo>
                <a:cubicBezTo>
                  <a:pt x="12980" y="8307"/>
                  <a:pt x="13004" y="8296"/>
                  <a:pt x="13047" y="8285"/>
                </a:cubicBezTo>
              </a:path>
              <a:path w="4565" h="943">
                <a:moveTo>
                  <a:pt x="13196" y="7938"/>
                </a:moveTo>
                <a:cubicBezTo>
                  <a:pt x="13260" y="7921"/>
                  <a:pt x="13310" y="7911"/>
                  <a:pt x="13370" y="7888"/>
                </a:cubicBezTo>
              </a:path>
              <a:path w="4565" h="943">
                <a:moveTo>
                  <a:pt x="13196" y="8111"/>
                </a:moveTo>
                <a:cubicBezTo>
                  <a:pt x="13261" y="8150"/>
                  <a:pt x="13338" y="8136"/>
                  <a:pt x="13419" y="8136"/>
                </a:cubicBezTo>
                <a:cubicBezTo>
                  <a:pt x="13464" y="8136"/>
                  <a:pt x="13477" y="8139"/>
                  <a:pt x="13494" y="8111"/>
                </a:cubicBezTo>
              </a:path>
              <a:path w="4565" h="943">
                <a:moveTo>
                  <a:pt x="13866" y="7764"/>
                </a:moveTo>
                <a:cubicBezTo>
                  <a:pt x="13822" y="7861"/>
                  <a:pt x="13790" y="7958"/>
                  <a:pt x="13767" y="8062"/>
                </a:cubicBezTo>
                <a:cubicBezTo>
                  <a:pt x="13742" y="8175"/>
                  <a:pt x="13717" y="8210"/>
                  <a:pt x="13791" y="8285"/>
                </a:cubicBezTo>
                <a:cubicBezTo>
                  <a:pt x="13825" y="8319"/>
                  <a:pt x="13916" y="8324"/>
                  <a:pt x="13965" y="8310"/>
                </a:cubicBezTo>
                <a:cubicBezTo>
                  <a:pt x="14068" y="8281"/>
                  <a:pt x="14051" y="8191"/>
                  <a:pt x="14089" y="8111"/>
                </a:cubicBezTo>
                <a:cubicBezTo>
                  <a:pt x="14117" y="8083"/>
                  <a:pt x="14126" y="8070"/>
                  <a:pt x="14114" y="8037"/>
                </a:cubicBezTo>
                <a:cubicBezTo>
                  <a:pt x="14029" y="8048"/>
                  <a:pt x="14006" y="8060"/>
                  <a:pt x="13965" y="8136"/>
                </a:cubicBezTo>
                <a:cubicBezTo>
                  <a:pt x="13934" y="8195"/>
                  <a:pt x="13885" y="8240"/>
                  <a:pt x="13965" y="8260"/>
                </a:cubicBezTo>
              </a:path>
              <a:path w="4565" h="943">
                <a:moveTo>
                  <a:pt x="14337" y="7714"/>
                </a:moveTo>
                <a:cubicBezTo>
                  <a:pt x="14224" y="7750"/>
                  <a:pt x="14158" y="7750"/>
                  <a:pt x="14188" y="7888"/>
                </a:cubicBezTo>
                <a:cubicBezTo>
                  <a:pt x="14212" y="7997"/>
                  <a:pt x="14267" y="8102"/>
                  <a:pt x="14288" y="8210"/>
                </a:cubicBezTo>
                <a:cubicBezTo>
                  <a:pt x="14288" y="8262"/>
                  <a:pt x="14287" y="8280"/>
                  <a:pt x="14263" y="8310"/>
                </a:cubicBezTo>
                <a:cubicBezTo>
                  <a:pt x="14179" y="8262"/>
                  <a:pt x="14169" y="8214"/>
                  <a:pt x="14188" y="8111"/>
                </a:cubicBezTo>
                <a:cubicBezTo>
                  <a:pt x="14209" y="7997"/>
                  <a:pt x="14274" y="7952"/>
                  <a:pt x="14362" y="7888"/>
                </a:cubicBezTo>
              </a:path>
              <a:path w="4565" h="943">
                <a:moveTo>
                  <a:pt x="14585" y="7714"/>
                </a:moveTo>
                <a:cubicBezTo>
                  <a:pt x="14542" y="7779"/>
                  <a:pt x="14521" y="7794"/>
                  <a:pt x="14560" y="7838"/>
                </a:cubicBezTo>
                <a:cubicBezTo>
                  <a:pt x="14650" y="7812"/>
                  <a:pt x="14731" y="7817"/>
                  <a:pt x="14734" y="7714"/>
                </a:cubicBezTo>
                <a:cubicBezTo>
                  <a:pt x="14739" y="7553"/>
                  <a:pt x="14695" y="7565"/>
                  <a:pt x="14560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2" name="Ink 8"/>
          <p:cNvSpPr/>
          <p:nvPr/>
        </p:nvSpPr>
        <p:spPr>
          <a:xfrm>
            <a:off x="258840" y="2768760"/>
            <a:ext cx="1724040" cy="1089000"/>
          </a:xfrm>
          <a:custGeom>
            <a:avLst/>
            <a:gdLst/>
            <a:ahLst/>
            <a:rect l="l" t="t" r="r" b="b"/>
            <a:pathLst>
              <a:path w="4789" h="3028">
                <a:moveTo>
                  <a:pt x="843" y="8706"/>
                </a:moveTo>
                <a:cubicBezTo>
                  <a:pt x="819" y="8774"/>
                  <a:pt x="806" y="8819"/>
                  <a:pt x="769" y="8880"/>
                </a:cubicBezTo>
                <a:cubicBezTo>
                  <a:pt x="747" y="8924"/>
                  <a:pt x="744" y="8935"/>
                  <a:pt x="719" y="8954"/>
                </a:cubicBezTo>
                <a:cubicBezTo>
                  <a:pt x="791" y="8944"/>
                  <a:pt x="836" y="8930"/>
                  <a:pt x="918" y="8930"/>
                </a:cubicBezTo>
                <a:cubicBezTo>
                  <a:pt x="959" y="8930"/>
                  <a:pt x="1001" y="8930"/>
                  <a:pt x="1042" y="8930"/>
                </a:cubicBezTo>
              </a:path>
              <a:path w="4789" h="3028">
                <a:moveTo>
                  <a:pt x="1116" y="8582"/>
                </a:moveTo>
                <a:cubicBezTo>
                  <a:pt x="1092" y="8671"/>
                  <a:pt x="1107" y="8742"/>
                  <a:pt x="1091" y="8830"/>
                </a:cubicBezTo>
                <a:cubicBezTo>
                  <a:pt x="1070" y="8944"/>
                  <a:pt x="1090" y="9066"/>
                  <a:pt x="1067" y="9178"/>
                </a:cubicBezTo>
                <a:cubicBezTo>
                  <a:pt x="1047" y="9218"/>
                  <a:pt x="1038" y="9244"/>
                  <a:pt x="1042" y="9203"/>
                </a:cubicBezTo>
              </a:path>
              <a:path w="4789" h="3028">
                <a:moveTo>
                  <a:pt x="1240" y="8508"/>
                </a:moveTo>
                <a:cubicBezTo>
                  <a:pt x="1267" y="8599"/>
                  <a:pt x="1265" y="8684"/>
                  <a:pt x="1265" y="8781"/>
                </a:cubicBezTo>
                <a:cubicBezTo>
                  <a:pt x="1265" y="8898"/>
                  <a:pt x="1240" y="9010"/>
                  <a:pt x="1240" y="9128"/>
                </a:cubicBezTo>
                <a:cubicBezTo>
                  <a:pt x="1240" y="9195"/>
                  <a:pt x="1212" y="9291"/>
                  <a:pt x="1290" y="9252"/>
                </a:cubicBezTo>
              </a:path>
              <a:path w="4789" h="3028">
                <a:moveTo>
                  <a:pt x="1191" y="8210"/>
                </a:moveTo>
                <a:cubicBezTo>
                  <a:pt x="1314" y="8262"/>
                  <a:pt x="1372" y="8314"/>
                  <a:pt x="1439" y="8434"/>
                </a:cubicBezTo>
                <a:cubicBezTo>
                  <a:pt x="1508" y="8556"/>
                  <a:pt x="1559" y="8665"/>
                  <a:pt x="1563" y="8806"/>
                </a:cubicBezTo>
                <a:cubicBezTo>
                  <a:pt x="1567" y="8925"/>
                  <a:pt x="1549" y="9042"/>
                  <a:pt x="1538" y="9153"/>
                </a:cubicBezTo>
                <a:cubicBezTo>
                  <a:pt x="1525" y="9291"/>
                  <a:pt x="1505" y="9336"/>
                  <a:pt x="1414" y="9451"/>
                </a:cubicBezTo>
                <a:cubicBezTo>
                  <a:pt x="1406" y="9459"/>
                  <a:pt x="1397" y="9467"/>
                  <a:pt x="1389" y="9475"/>
                </a:cubicBezTo>
              </a:path>
              <a:path w="4789" h="3028">
                <a:moveTo>
                  <a:pt x="4142" y="8136"/>
                </a:moveTo>
                <a:cubicBezTo>
                  <a:pt x="4051" y="8121"/>
                  <a:pt x="3995" y="8113"/>
                  <a:pt x="3894" y="8111"/>
                </a:cubicBezTo>
                <a:cubicBezTo>
                  <a:pt x="3819" y="8109"/>
                  <a:pt x="3758" y="8097"/>
                  <a:pt x="3671" y="8111"/>
                </a:cubicBezTo>
                <a:cubicBezTo>
                  <a:pt x="3596" y="8123"/>
                  <a:pt x="3522" y="8164"/>
                  <a:pt x="3448" y="8186"/>
                </a:cubicBezTo>
                <a:cubicBezTo>
                  <a:pt x="3360" y="8213"/>
                  <a:pt x="3303" y="8240"/>
                  <a:pt x="3225" y="8285"/>
                </a:cubicBezTo>
                <a:cubicBezTo>
                  <a:pt x="3108" y="8352"/>
                  <a:pt x="2983" y="8478"/>
                  <a:pt x="2902" y="8582"/>
                </a:cubicBezTo>
                <a:cubicBezTo>
                  <a:pt x="2842" y="8659"/>
                  <a:pt x="2785" y="8749"/>
                  <a:pt x="2729" y="8830"/>
                </a:cubicBezTo>
                <a:cubicBezTo>
                  <a:pt x="2664" y="8924"/>
                  <a:pt x="2632" y="9017"/>
                  <a:pt x="2604" y="9128"/>
                </a:cubicBezTo>
                <a:cubicBezTo>
                  <a:pt x="2580" y="9225"/>
                  <a:pt x="2562" y="9324"/>
                  <a:pt x="2555" y="9426"/>
                </a:cubicBezTo>
                <a:cubicBezTo>
                  <a:pt x="2548" y="9536"/>
                  <a:pt x="2583" y="9618"/>
                  <a:pt x="2604" y="9723"/>
                </a:cubicBezTo>
                <a:cubicBezTo>
                  <a:pt x="2636" y="9885"/>
                  <a:pt x="2663" y="9961"/>
                  <a:pt x="2753" y="10096"/>
                </a:cubicBezTo>
                <a:cubicBezTo>
                  <a:pt x="2825" y="10204"/>
                  <a:pt x="2899" y="10310"/>
                  <a:pt x="3001" y="10393"/>
                </a:cubicBezTo>
                <a:cubicBezTo>
                  <a:pt x="3094" y="10469"/>
                  <a:pt x="3240" y="10511"/>
                  <a:pt x="3349" y="10567"/>
                </a:cubicBezTo>
                <a:cubicBezTo>
                  <a:pt x="3480" y="10634"/>
                  <a:pt x="3627" y="10661"/>
                  <a:pt x="3770" y="10691"/>
                </a:cubicBezTo>
                <a:cubicBezTo>
                  <a:pt x="3915" y="10721"/>
                  <a:pt x="4069" y="10727"/>
                  <a:pt x="4217" y="10716"/>
                </a:cubicBezTo>
                <a:cubicBezTo>
                  <a:pt x="4395" y="10703"/>
                  <a:pt x="4615" y="10680"/>
                  <a:pt x="4787" y="10616"/>
                </a:cubicBezTo>
                <a:cubicBezTo>
                  <a:pt x="4956" y="10553"/>
                  <a:pt x="5054" y="10446"/>
                  <a:pt x="5159" y="10319"/>
                </a:cubicBezTo>
                <a:cubicBezTo>
                  <a:pt x="5251" y="10208"/>
                  <a:pt x="5317" y="10138"/>
                  <a:pt x="5358" y="9996"/>
                </a:cubicBezTo>
                <a:cubicBezTo>
                  <a:pt x="5419" y="9785"/>
                  <a:pt x="5449" y="9624"/>
                  <a:pt x="5407" y="9401"/>
                </a:cubicBezTo>
                <a:cubicBezTo>
                  <a:pt x="5384" y="9280"/>
                  <a:pt x="5353" y="9119"/>
                  <a:pt x="5308" y="9004"/>
                </a:cubicBezTo>
                <a:cubicBezTo>
                  <a:pt x="5271" y="8909"/>
                  <a:pt x="5175" y="8763"/>
                  <a:pt x="5110" y="8682"/>
                </a:cubicBezTo>
                <a:cubicBezTo>
                  <a:pt x="5029" y="8581"/>
                  <a:pt x="4935" y="8460"/>
                  <a:pt x="4837" y="8384"/>
                </a:cubicBezTo>
                <a:cubicBezTo>
                  <a:pt x="4746" y="8314"/>
                  <a:pt x="4650" y="8264"/>
                  <a:pt x="4539" y="8235"/>
                </a:cubicBezTo>
                <a:cubicBezTo>
                  <a:pt x="4426" y="8206"/>
                  <a:pt x="4306" y="8201"/>
                  <a:pt x="4192" y="8186"/>
                </a:cubicBezTo>
              </a:path>
              <a:path w="4789" h="3028">
                <a:moveTo>
                  <a:pt x="4068" y="9426"/>
                </a:moveTo>
                <a:cubicBezTo>
                  <a:pt x="4221" y="9426"/>
                  <a:pt x="4365" y="9421"/>
                  <a:pt x="4514" y="9401"/>
                </a:cubicBezTo>
                <a:cubicBezTo>
                  <a:pt x="4833" y="9357"/>
                  <a:pt x="5184" y="9401"/>
                  <a:pt x="5507" y="9401"/>
                </a:cubicBezTo>
              </a:path>
              <a:path w="4789" h="3028">
                <a:moveTo>
                  <a:pt x="4762" y="9500"/>
                </a:moveTo>
                <a:lnTo>
                  <a:pt x="4762" y="9500"/>
                </a:lnTo>
              </a:path>
              <a:path w="4789" h="3028">
                <a:moveTo>
                  <a:pt x="4762" y="9500"/>
                </a:moveTo>
                <a:cubicBezTo>
                  <a:pt x="4770" y="9508"/>
                  <a:pt x="4779" y="9517"/>
                  <a:pt x="4787" y="9525"/>
                </a:cubicBezTo>
              </a:path>
              <a:path w="4789" h="3028">
                <a:moveTo>
                  <a:pt x="4787" y="9525"/>
                </a:moveTo>
                <a:cubicBezTo>
                  <a:pt x="4773" y="9576"/>
                  <a:pt x="4762" y="9644"/>
                  <a:pt x="4738" y="9699"/>
                </a:cubicBezTo>
                <a:cubicBezTo>
                  <a:pt x="4709" y="9765"/>
                  <a:pt x="4707" y="9812"/>
                  <a:pt x="4663" y="9872"/>
                </a:cubicBezTo>
                <a:cubicBezTo>
                  <a:pt x="4627" y="9922"/>
                  <a:pt x="4577" y="9975"/>
                  <a:pt x="4539" y="10021"/>
                </a:cubicBezTo>
                <a:cubicBezTo>
                  <a:pt x="4501" y="10067"/>
                  <a:pt x="4463" y="10074"/>
                  <a:pt x="4415" y="10096"/>
                </a:cubicBezTo>
                <a:cubicBezTo>
                  <a:pt x="4340" y="10131"/>
                  <a:pt x="4300" y="10145"/>
                  <a:pt x="4217" y="10145"/>
                </a:cubicBezTo>
                <a:cubicBezTo>
                  <a:pt x="4149" y="10145"/>
                  <a:pt x="4080" y="10140"/>
                  <a:pt x="4018" y="10120"/>
                </a:cubicBezTo>
                <a:cubicBezTo>
                  <a:pt x="3963" y="10102"/>
                  <a:pt x="3865" y="10078"/>
                  <a:pt x="3820" y="10046"/>
                </a:cubicBezTo>
                <a:cubicBezTo>
                  <a:pt x="3777" y="10015"/>
                  <a:pt x="3740" y="9977"/>
                  <a:pt x="3696" y="9947"/>
                </a:cubicBezTo>
                <a:cubicBezTo>
                  <a:pt x="3651" y="9916"/>
                  <a:pt x="3612" y="9885"/>
                  <a:pt x="3572" y="9847"/>
                </a:cubicBezTo>
                <a:cubicBezTo>
                  <a:pt x="3514" y="9791"/>
                  <a:pt x="3462" y="9743"/>
                  <a:pt x="3423" y="9674"/>
                </a:cubicBezTo>
                <a:cubicBezTo>
                  <a:pt x="3392" y="9620"/>
                  <a:pt x="3367" y="9573"/>
                  <a:pt x="3324" y="9525"/>
                </a:cubicBezTo>
                <a:cubicBezTo>
                  <a:pt x="3274" y="9469"/>
                  <a:pt x="3271" y="9444"/>
                  <a:pt x="3249" y="9376"/>
                </a:cubicBezTo>
                <a:cubicBezTo>
                  <a:pt x="3219" y="9284"/>
                  <a:pt x="3166" y="9198"/>
                  <a:pt x="3150" y="9103"/>
                </a:cubicBezTo>
                <a:cubicBezTo>
                  <a:pt x="3140" y="9042"/>
                  <a:pt x="3180" y="8977"/>
                  <a:pt x="3200" y="8930"/>
                </a:cubicBezTo>
                <a:cubicBezTo>
                  <a:pt x="3227" y="8867"/>
                  <a:pt x="3266" y="8813"/>
                  <a:pt x="3299" y="8756"/>
                </a:cubicBezTo>
                <a:cubicBezTo>
                  <a:pt x="3322" y="8733"/>
                  <a:pt x="3330" y="8729"/>
                  <a:pt x="3324" y="8706"/>
                </a:cubicBezTo>
              </a:path>
              <a:path w="4789" h="3028">
                <a:moveTo>
                  <a:pt x="4093" y="9451"/>
                </a:moveTo>
                <a:cubicBezTo>
                  <a:pt x="4057" y="9415"/>
                  <a:pt x="4049" y="9385"/>
                  <a:pt x="4018" y="9351"/>
                </a:cubicBezTo>
                <a:cubicBezTo>
                  <a:pt x="3964" y="9291"/>
                  <a:pt x="3898" y="9267"/>
                  <a:pt x="3845" y="9203"/>
                </a:cubicBezTo>
                <a:cubicBezTo>
                  <a:pt x="3785" y="9130"/>
                  <a:pt x="3689" y="9039"/>
                  <a:pt x="3621" y="8979"/>
                </a:cubicBezTo>
                <a:cubicBezTo>
                  <a:pt x="3563" y="8928"/>
                  <a:pt x="3504" y="8854"/>
                  <a:pt x="3448" y="8806"/>
                </a:cubicBezTo>
                <a:cubicBezTo>
                  <a:pt x="3380" y="8748"/>
                  <a:pt x="3329" y="8704"/>
                  <a:pt x="3274" y="8632"/>
                </a:cubicBezTo>
                <a:cubicBezTo>
                  <a:pt x="3235" y="8582"/>
                  <a:pt x="3172" y="8548"/>
                  <a:pt x="3125" y="8508"/>
                </a:cubicBezTo>
                <a:cubicBezTo>
                  <a:pt x="3070" y="8462"/>
                  <a:pt x="3081" y="8420"/>
                  <a:pt x="3026" y="8434"/>
                </a:cubicBezTo>
              </a:path>
              <a:path w="4789" h="3028">
                <a:moveTo>
                  <a:pt x="2977" y="8607"/>
                </a:moveTo>
                <a:cubicBezTo>
                  <a:pt x="3011" y="8548"/>
                  <a:pt x="2978" y="8495"/>
                  <a:pt x="3001" y="8434"/>
                </a:cubicBezTo>
                <a:cubicBezTo>
                  <a:pt x="3009" y="8426"/>
                  <a:pt x="3018" y="8417"/>
                  <a:pt x="3026" y="8409"/>
                </a:cubicBezTo>
                <a:cubicBezTo>
                  <a:pt x="3096" y="8435"/>
                  <a:pt x="3177" y="8447"/>
                  <a:pt x="3249" y="8458"/>
                </a:cubicBezTo>
                <a:cubicBezTo>
                  <a:pt x="3311" y="8468"/>
                  <a:pt x="3358" y="8477"/>
                  <a:pt x="3423" y="8483"/>
                </a:cubicBezTo>
              </a:path>
              <a:path w="4789" h="3028">
                <a:moveTo>
                  <a:pt x="3274" y="10641"/>
                </a:moveTo>
                <a:cubicBezTo>
                  <a:pt x="3115" y="10550"/>
                  <a:pt x="2966" y="10477"/>
                  <a:pt x="2828" y="10368"/>
                </a:cubicBezTo>
              </a:path>
              <a:path w="4789" h="3028">
                <a:moveTo>
                  <a:pt x="2356" y="7813"/>
                </a:moveTo>
                <a:cubicBezTo>
                  <a:pt x="2356" y="7943"/>
                  <a:pt x="2356" y="8040"/>
                  <a:pt x="2406" y="8161"/>
                </a:cubicBezTo>
                <a:cubicBezTo>
                  <a:pt x="2428" y="8214"/>
                  <a:pt x="2470" y="8259"/>
                  <a:pt x="2480" y="8310"/>
                </a:cubicBezTo>
                <a:cubicBezTo>
                  <a:pt x="2480" y="8326"/>
                  <a:pt x="2480" y="8343"/>
                  <a:pt x="2480" y="8359"/>
                </a:cubicBezTo>
              </a:path>
              <a:path w="4789" h="3028">
                <a:moveTo>
                  <a:pt x="2505" y="7813"/>
                </a:moveTo>
                <a:cubicBezTo>
                  <a:pt x="2513" y="7901"/>
                  <a:pt x="2527" y="7978"/>
                  <a:pt x="2555" y="8062"/>
                </a:cubicBezTo>
                <a:cubicBezTo>
                  <a:pt x="2575" y="8121"/>
                  <a:pt x="2640" y="8185"/>
                  <a:pt x="2654" y="8235"/>
                </a:cubicBezTo>
                <a:cubicBezTo>
                  <a:pt x="2654" y="8277"/>
                  <a:pt x="2646" y="8293"/>
                  <a:pt x="2679" y="8285"/>
                </a:cubicBezTo>
              </a:path>
              <a:path w="4789" h="3028">
                <a:moveTo>
                  <a:pt x="2729" y="7838"/>
                </a:moveTo>
                <a:cubicBezTo>
                  <a:pt x="2783" y="7804"/>
                  <a:pt x="2845" y="7754"/>
                  <a:pt x="2902" y="7739"/>
                </a:cubicBezTo>
              </a:path>
              <a:path w="4789" h="3028">
                <a:moveTo>
                  <a:pt x="2704" y="7888"/>
                </a:moveTo>
                <a:cubicBezTo>
                  <a:pt x="2684" y="7928"/>
                  <a:pt x="2618" y="8019"/>
                  <a:pt x="2704" y="8037"/>
                </a:cubicBezTo>
                <a:cubicBezTo>
                  <a:pt x="2753" y="8047"/>
                  <a:pt x="2877" y="8042"/>
                  <a:pt x="2902" y="8111"/>
                </a:cubicBezTo>
                <a:cubicBezTo>
                  <a:pt x="2917" y="8154"/>
                  <a:pt x="2947" y="8225"/>
                  <a:pt x="2902" y="8260"/>
                </a:cubicBezTo>
                <a:cubicBezTo>
                  <a:pt x="2830" y="8316"/>
                  <a:pt x="2810" y="8278"/>
                  <a:pt x="2753" y="8235"/>
                </a:cubicBezTo>
              </a:path>
              <a:path w="4789" h="3028">
                <a:moveTo>
                  <a:pt x="2927" y="7764"/>
                </a:moveTo>
                <a:cubicBezTo>
                  <a:pt x="2921" y="7821"/>
                  <a:pt x="2872" y="7932"/>
                  <a:pt x="2977" y="7913"/>
                </a:cubicBezTo>
                <a:cubicBezTo>
                  <a:pt x="3026" y="7904"/>
                  <a:pt x="3090" y="7836"/>
                  <a:pt x="3101" y="7789"/>
                </a:cubicBezTo>
                <a:cubicBezTo>
                  <a:pt x="3128" y="7677"/>
                  <a:pt x="3109" y="7702"/>
                  <a:pt x="3026" y="7739"/>
                </a:cubicBezTo>
              </a:path>
              <a:path w="4789" h="3028">
                <a:moveTo>
                  <a:pt x="2530" y="9401"/>
                </a:moveTo>
                <a:cubicBezTo>
                  <a:pt x="2772" y="9401"/>
                  <a:pt x="3013" y="9397"/>
                  <a:pt x="3249" y="9426"/>
                </a:cubicBezTo>
                <a:cubicBezTo>
                  <a:pt x="3458" y="9451"/>
                  <a:pt x="3693" y="9427"/>
                  <a:pt x="3894" y="9401"/>
                </a:cubicBezTo>
                <a:cubicBezTo>
                  <a:pt x="3949" y="9394"/>
                  <a:pt x="4084" y="9404"/>
                  <a:pt x="4118" y="9351"/>
                </a:cubicBezTo>
                <a:cubicBezTo>
                  <a:pt x="4118" y="9343"/>
                  <a:pt x="4118" y="9335"/>
                  <a:pt x="4118" y="9327"/>
                </a:cubicBezTo>
              </a:path>
              <a:path w="4789" h="3028">
                <a:moveTo>
                  <a:pt x="3671" y="9327"/>
                </a:moveTo>
                <a:cubicBezTo>
                  <a:pt x="3506" y="9327"/>
                  <a:pt x="3340" y="9327"/>
                  <a:pt x="3175" y="9327"/>
                </a:cubicBezTo>
              </a:path>
              <a:path w="4789" h="3028">
                <a:moveTo>
                  <a:pt x="3175" y="8533"/>
                </a:moveTo>
                <a:cubicBezTo>
                  <a:pt x="3098" y="8594"/>
                  <a:pt x="3102" y="8598"/>
                  <a:pt x="3051" y="8682"/>
                </a:cubicBezTo>
                <a:cubicBezTo>
                  <a:pt x="3016" y="8739"/>
                  <a:pt x="2999" y="8773"/>
                  <a:pt x="2952" y="8830"/>
                </a:cubicBezTo>
                <a:cubicBezTo>
                  <a:pt x="2925" y="8862"/>
                  <a:pt x="2887" y="8957"/>
                  <a:pt x="2877" y="9004"/>
                </a:cubicBezTo>
                <a:cubicBezTo>
                  <a:pt x="2865" y="9058"/>
                  <a:pt x="2862" y="9131"/>
                  <a:pt x="2853" y="9178"/>
                </a:cubicBezTo>
                <a:cubicBezTo>
                  <a:pt x="2841" y="9240"/>
                  <a:pt x="2853" y="9313"/>
                  <a:pt x="2853" y="9376"/>
                </a:cubicBezTo>
              </a:path>
              <a:path w="4789" h="3028">
                <a:moveTo>
                  <a:pt x="2704" y="9103"/>
                </a:moveTo>
                <a:cubicBezTo>
                  <a:pt x="2746" y="9156"/>
                  <a:pt x="2772" y="9216"/>
                  <a:pt x="2803" y="9277"/>
                </a:cubicBezTo>
                <a:cubicBezTo>
                  <a:pt x="2826" y="9323"/>
                  <a:pt x="2846" y="9361"/>
                  <a:pt x="2877" y="9401"/>
                </a:cubicBezTo>
                <a:cubicBezTo>
                  <a:pt x="2889" y="9351"/>
                  <a:pt x="2932" y="9329"/>
                  <a:pt x="2977" y="9302"/>
                </a:cubicBezTo>
                <a:cubicBezTo>
                  <a:pt x="3026" y="9277"/>
                  <a:pt x="3043" y="9268"/>
                  <a:pt x="3051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3" name="Ink 9"/>
          <p:cNvSpPr/>
          <p:nvPr/>
        </p:nvSpPr>
        <p:spPr>
          <a:xfrm>
            <a:off x="3214800" y="3224160"/>
            <a:ext cx="393480" cy="374760"/>
          </a:xfrm>
          <a:custGeom>
            <a:avLst/>
            <a:gdLst/>
            <a:ahLst/>
            <a:rect l="l" t="t" r="r" b="b"/>
            <a:pathLst>
              <a:path w="1092" h="1043">
                <a:moveTo>
                  <a:pt x="9029" y="9327"/>
                </a:moveTo>
                <a:cubicBezTo>
                  <a:pt x="9021" y="9399"/>
                  <a:pt x="9010" y="9466"/>
                  <a:pt x="8979" y="9525"/>
                </a:cubicBezTo>
                <a:cubicBezTo>
                  <a:pt x="8937" y="9604"/>
                  <a:pt x="8976" y="9644"/>
                  <a:pt x="9054" y="9649"/>
                </a:cubicBezTo>
                <a:cubicBezTo>
                  <a:pt x="9115" y="9653"/>
                  <a:pt x="9154" y="9648"/>
                  <a:pt x="9203" y="9624"/>
                </a:cubicBezTo>
              </a:path>
              <a:path w="1092" h="1043">
                <a:moveTo>
                  <a:pt x="9302" y="9252"/>
                </a:moveTo>
                <a:cubicBezTo>
                  <a:pt x="9281" y="9349"/>
                  <a:pt x="9263" y="9453"/>
                  <a:pt x="9252" y="9550"/>
                </a:cubicBezTo>
                <a:cubicBezTo>
                  <a:pt x="9240" y="9654"/>
                  <a:pt x="9272" y="9746"/>
                  <a:pt x="9277" y="9847"/>
                </a:cubicBezTo>
                <a:cubicBezTo>
                  <a:pt x="9277" y="9897"/>
                  <a:pt x="9277" y="9914"/>
                  <a:pt x="9277" y="9947"/>
                </a:cubicBezTo>
              </a:path>
              <a:path w="1092" h="1043">
                <a:moveTo>
                  <a:pt x="9426" y="9351"/>
                </a:moveTo>
                <a:cubicBezTo>
                  <a:pt x="9493" y="9313"/>
                  <a:pt x="9544" y="9288"/>
                  <a:pt x="9624" y="9277"/>
                </a:cubicBezTo>
                <a:cubicBezTo>
                  <a:pt x="9676" y="9277"/>
                  <a:pt x="9694" y="9275"/>
                  <a:pt x="9699" y="9227"/>
                </a:cubicBezTo>
              </a:path>
              <a:path w="1092" h="1043">
                <a:moveTo>
                  <a:pt x="9451" y="9327"/>
                </a:moveTo>
                <a:cubicBezTo>
                  <a:pt x="9374" y="9422"/>
                  <a:pt x="9341" y="9427"/>
                  <a:pt x="9351" y="9500"/>
                </a:cubicBezTo>
                <a:cubicBezTo>
                  <a:pt x="9431" y="9548"/>
                  <a:pt x="9428" y="9494"/>
                  <a:pt x="9500" y="9475"/>
                </a:cubicBezTo>
                <a:cubicBezTo>
                  <a:pt x="9563" y="9458"/>
                  <a:pt x="9637" y="9467"/>
                  <a:pt x="9674" y="9525"/>
                </a:cubicBezTo>
                <a:cubicBezTo>
                  <a:pt x="9718" y="9593"/>
                  <a:pt x="9744" y="9669"/>
                  <a:pt x="9748" y="9748"/>
                </a:cubicBezTo>
                <a:cubicBezTo>
                  <a:pt x="9756" y="9895"/>
                  <a:pt x="9668" y="9909"/>
                  <a:pt x="9550" y="9922"/>
                </a:cubicBezTo>
                <a:cubicBezTo>
                  <a:pt x="9467" y="9931"/>
                  <a:pt x="9438" y="9886"/>
                  <a:pt x="9401" y="9823"/>
                </a:cubicBezTo>
              </a:path>
              <a:path w="1092" h="1043">
                <a:moveTo>
                  <a:pt x="9773" y="9004"/>
                </a:moveTo>
                <a:cubicBezTo>
                  <a:pt x="9614" y="9004"/>
                  <a:pt x="9472" y="8988"/>
                  <a:pt x="9327" y="9054"/>
                </a:cubicBezTo>
                <a:cubicBezTo>
                  <a:pt x="9223" y="9101"/>
                  <a:pt x="9061" y="9165"/>
                  <a:pt x="9004" y="9277"/>
                </a:cubicBezTo>
                <a:cubicBezTo>
                  <a:pt x="8905" y="9470"/>
                  <a:pt x="8923" y="9572"/>
                  <a:pt x="9054" y="9723"/>
                </a:cubicBezTo>
                <a:cubicBezTo>
                  <a:pt x="9135" y="9817"/>
                  <a:pt x="9229" y="9912"/>
                  <a:pt x="9351" y="9947"/>
                </a:cubicBezTo>
                <a:cubicBezTo>
                  <a:pt x="9494" y="9988"/>
                  <a:pt x="9604" y="10004"/>
                  <a:pt x="9748" y="9971"/>
                </a:cubicBezTo>
                <a:cubicBezTo>
                  <a:pt x="9892" y="9938"/>
                  <a:pt x="9931" y="9917"/>
                  <a:pt x="9971" y="9773"/>
                </a:cubicBezTo>
                <a:cubicBezTo>
                  <a:pt x="10036" y="9541"/>
                  <a:pt x="10007" y="9515"/>
                  <a:pt x="9897" y="9327"/>
                </a:cubicBezTo>
                <a:cubicBezTo>
                  <a:pt x="9816" y="9187"/>
                  <a:pt x="9748" y="9123"/>
                  <a:pt x="9599" y="9054"/>
                </a:cubicBezTo>
                <a:cubicBezTo>
                  <a:pt x="9436" y="8979"/>
                  <a:pt x="9320" y="8988"/>
                  <a:pt x="9153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4" name="Ink 10"/>
          <p:cNvSpPr/>
          <p:nvPr/>
        </p:nvSpPr>
        <p:spPr>
          <a:xfrm>
            <a:off x="4010040" y="3125880"/>
            <a:ext cx="2143080" cy="928440"/>
          </a:xfrm>
          <a:custGeom>
            <a:avLst/>
            <a:gdLst/>
            <a:ahLst/>
            <a:rect l="l" t="t" r="r" b="b"/>
            <a:pathLst>
              <a:path w="5954" h="2580">
                <a:moveTo>
                  <a:pt x="11137" y="9103"/>
                </a:moveTo>
                <a:cubicBezTo>
                  <a:pt x="11171" y="9159"/>
                  <a:pt x="11182" y="9284"/>
                  <a:pt x="11187" y="9351"/>
                </a:cubicBezTo>
                <a:cubicBezTo>
                  <a:pt x="11203" y="9550"/>
                  <a:pt x="11185" y="9752"/>
                  <a:pt x="11162" y="9947"/>
                </a:cubicBezTo>
                <a:cubicBezTo>
                  <a:pt x="11162" y="9991"/>
                  <a:pt x="11165" y="10005"/>
                  <a:pt x="11137" y="10021"/>
                </a:cubicBezTo>
              </a:path>
              <a:path w="5954" h="2580">
                <a:moveTo>
                  <a:pt x="11460" y="9277"/>
                </a:moveTo>
                <a:cubicBezTo>
                  <a:pt x="11426" y="9484"/>
                  <a:pt x="11410" y="9643"/>
                  <a:pt x="11410" y="9847"/>
                </a:cubicBezTo>
                <a:cubicBezTo>
                  <a:pt x="11410" y="9903"/>
                  <a:pt x="11379" y="10086"/>
                  <a:pt x="11435" y="10120"/>
                </a:cubicBezTo>
                <a:cubicBezTo>
                  <a:pt x="11443" y="10120"/>
                  <a:pt x="11452" y="10120"/>
                  <a:pt x="11460" y="10120"/>
                </a:cubicBezTo>
              </a:path>
              <a:path w="5954" h="2580">
                <a:moveTo>
                  <a:pt x="11733" y="9327"/>
                </a:moveTo>
                <a:cubicBezTo>
                  <a:pt x="11819" y="9276"/>
                  <a:pt x="11905" y="9237"/>
                  <a:pt x="12005" y="9227"/>
                </a:cubicBezTo>
                <a:cubicBezTo>
                  <a:pt x="12093" y="9218"/>
                  <a:pt x="12189" y="9227"/>
                  <a:pt x="12278" y="9227"/>
                </a:cubicBezTo>
              </a:path>
              <a:path w="5954" h="2580">
                <a:moveTo>
                  <a:pt x="11906" y="9475"/>
                </a:moveTo>
                <a:cubicBezTo>
                  <a:pt x="11882" y="9573"/>
                  <a:pt x="11769" y="9831"/>
                  <a:pt x="11832" y="9947"/>
                </a:cubicBezTo>
                <a:cubicBezTo>
                  <a:pt x="11840" y="9963"/>
                  <a:pt x="11849" y="9980"/>
                  <a:pt x="11857" y="9996"/>
                </a:cubicBezTo>
              </a:path>
              <a:path w="5954" h="2580">
                <a:moveTo>
                  <a:pt x="12055" y="9376"/>
                </a:moveTo>
                <a:cubicBezTo>
                  <a:pt x="12032" y="9517"/>
                  <a:pt x="11983" y="9678"/>
                  <a:pt x="12005" y="9823"/>
                </a:cubicBezTo>
                <a:cubicBezTo>
                  <a:pt x="12019" y="9912"/>
                  <a:pt x="12085" y="9968"/>
                  <a:pt x="12105" y="10046"/>
                </a:cubicBezTo>
                <a:cubicBezTo>
                  <a:pt x="12105" y="10063"/>
                  <a:pt x="12105" y="10079"/>
                  <a:pt x="12105" y="10096"/>
                </a:cubicBezTo>
              </a:path>
              <a:path w="5954" h="2580">
                <a:moveTo>
                  <a:pt x="11137" y="10120"/>
                </a:moveTo>
                <a:cubicBezTo>
                  <a:pt x="11339" y="10140"/>
                  <a:pt x="11486" y="10125"/>
                  <a:pt x="11683" y="10120"/>
                </a:cubicBezTo>
                <a:cubicBezTo>
                  <a:pt x="11840" y="10116"/>
                  <a:pt x="11997" y="10120"/>
                  <a:pt x="12154" y="10120"/>
                </a:cubicBezTo>
              </a:path>
              <a:path w="5954" h="2580">
                <a:moveTo>
                  <a:pt x="11534" y="10418"/>
                </a:moveTo>
                <a:cubicBezTo>
                  <a:pt x="11623" y="10418"/>
                  <a:pt x="11697" y="10431"/>
                  <a:pt x="11782" y="10443"/>
                </a:cubicBezTo>
                <a:cubicBezTo>
                  <a:pt x="11841" y="10451"/>
                  <a:pt x="11859" y="10455"/>
                  <a:pt x="11906" y="10492"/>
                </a:cubicBezTo>
                <a:cubicBezTo>
                  <a:pt x="11824" y="10575"/>
                  <a:pt x="11784" y="10591"/>
                  <a:pt x="11683" y="10641"/>
                </a:cubicBezTo>
                <a:cubicBezTo>
                  <a:pt x="11675" y="10649"/>
                  <a:pt x="11666" y="10658"/>
                  <a:pt x="11658" y="10666"/>
                </a:cubicBezTo>
                <a:cubicBezTo>
                  <a:pt x="11702" y="10721"/>
                  <a:pt x="11737" y="10787"/>
                  <a:pt x="11782" y="10840"/>
                </a:cubicBezTo>
                <a:cubicBezTo>
                  <a:pt x="11831" y="10898"/>
                  <a:pt x="11907" y="10945"/>
                  <a:pt x="11881" y="11038"/>
                </a:cubicBezTo>
                <a:cubicBezTo>
                  <a:pt x="11863" y="11103"/>
                  <a:pt x="11739" y="11135"/>
                  <a:pt x="11683" y="11137"/>
                </a:cubicBezTo>
                <a:cubicBezTo>
                  <a:pt x="11620" y="11140"/>
                  <a:pt x="11507" y="11114"/>
                  <a:pt x="11460" y="11063"/>
                </a:cubicBezTo>
                <a:cubicBezTo>
                  <a:pt x="11452" y="11046"/>
                  <a:pt x="11443" y="11030"/>
                  <a:pt x="11435" y="11013"/>
                </a:cubicBezTo>
              </a:path>
              <a:path w="5954" h="2580">
                <a:moveTo>
                  <a:pt x="12526" y="10170"/>
                </a:moveTo>
                <a:cubicBezTo>
                  <a:pt x="12543" y="10153"/>
                  <a:pt x="12559" y="10137"/>
                  <a:pt x="12576" y="10120"/>
                </a:cubicBezTo>
              </a:path>
              <a:path w="5954" h="2580">
                <a:moveTo>
                  <a:pt x="13072" y="9401"/>
                </a:moveTo>
                <a:cubicBezTo>
                  <a:pt x="13188" y="9327"/>
                  <a:pt x="13194" y="9327"/>
                  <a:pt x="13320" y="9327"/>
                </a:cubicBezTo>
                <a:cubicBezTo>
                  <a:pt x="13440" y="9327"/>
                  <a:pt x="13577" y="9320"/>
                  <a:pt x="13692" y="9351"/>
                </a:cubicBezTo>
                <a:cubicBezTo>
                  <a:pt x="13771" y="9372"/>
                  <a:pt x="13836" y="9366"/>
                  <a:pt x="13717" y="9327"/>
                </a:cubicBezTo>
                <a:cubicBezTo>
                  <a:pt x="13709" y="9327"/>
                  <a:pt x="13700" y="9327"/>
                  <a:pt x="13692" y="9327"/>
                </a:cubicBezTo>
              </a:path>
              <a:path w="5954" h="2580">
                <a:moveTo>
                  <a:pt x="13097" y="9277"/>
                </a:moveTo>
                <a:cubicBezTo>
                  <a:pt x="13097" y="9360"/>
                  <a:pt x="13083" y="9421"/>
                  <a:pt x="13072" y="9500"/>
                </a:cubicBezTo>
                <a:cubicBezTo>
                  <a:pt x="13054" y="9623"/>
                  <a:pt x="13021" y="9711"/>
                  <a:pt x="12973" y="9823"/>
                </a:cubicBezTo>
                <a:cubicBezTo>
                  <a:pt x="12941" y="9899"/>
                  <a:pt x="12927" y="9991"/>
                  <a:pt x="12923" y="10071"/>
                </a:cubicBezTo>
                <a:cubicBezTo>
                  <a:pt x="12923" y="10087"/>
                  <a:pt x="12923" y="10104"/>
                  <a:pt x="12923" y="10120"/>
                </a:cubicBezTo>
              </a:path>
              <a:path w="5954" h="2580">
                <a:moveTo>
                  <a:pt x="13519" y="9252"/>
                </a:moveTo>
                <a:cubicBezTo>
                  <a:pt x="13475" y="9296"/>
                  <a:pt x="13281" y="9439"/>
                  <a:pt x="13295" y="9525"/>
                </a:cubicBezTo>
                <a:cubicBezTo>
                  <a:pt x="13321" y="9678"/>
                  <a:pt x="13586" y="9566"/>
                  <a:pt x="13643" y="9550"/>
                </a:cubicBezTo>
                <a:cubicBezTo>
                  <a:pt x="13689" y="9537"/>
                  <a:pt x="13755" y="9445"/>
                  <a:pt x="13767" y="9401"/>
                </a:cubicBezTo>
                <a:cubicBezTo>
                  <a:pt x="13767" y="9384"/>
                  <a:pt x="13767" y="9368"/>
                  <a:pt x="13767" y="9351"/>
                </a:cubicBezTo>
                <a:cubicBezTo>
                  <a:pt x="13655" y="9315"/>
                  <a:pt x="13585" y="9338"/>
                  <a:pt x="13469" y="9351"/>
                </a:cubicBezTo>
                <a:cubicBezTo>
                  <a:pt x="13424" y="9351"/>
                  <a:pt x="13411" y="9347"/>
                  <a:pt x="13395" y="9376"/>
                </a:cubicBezTo>
              </a:path>
              <a:path w="5954" h="2580">
                <a:moveTo>
                  <a:pt x="13469" y="9649"/>
                </a:moveTo>
                <a:cubicBezTo>
                  <a:pt x="13424" y="9748"/>
                  <a:pt x="13329" y="9895"/>
                  <a:pt x="13320" y="9996"/>
                </a:cubicBezTo>
                <a:cubicBezTo>
                  <a:pt x="13311" y="10100"/>
                  <a:pt x="13304" y="10125"/>
                  <a:pt x="13395" y="10145"/>
                </a:cubicBezTo>
                <a:cubicBezTo>
                  <a:pt x="13505" y="10170"/>
                  <a:pt x="13579" y="10165"/>
                  <a:pt x="13667" y="10096"/>
                </a:cubicBezTo>
                <a:cubicBezTo>
                  <a:pt x="13717" y="10057"/>
                  <a:pt x="13776" y="9934"/>
                  <a:pt x="13767" y="9872"/>
                </a:cubicBezTo>
                <a:cubicBezTo>
                  <a:pt x="13756" y="9796"/>
                  <a:pt x="13692" y="9767"/>
                  <a:pt x="13643" y="9723"/>
                </a:cubicBezTo>
                <a:cubicBezTo>
                  <a:pt x="13613" y="9694"/>
                  <a:pt x="13601" y="9680"/>
                  <a:pt x="13593" y="9649"/>
                </a:cubicBezTo>
              </a:path>
              <a:path w="5954" h="2580">
                <a:moveTo>
                  <a:pt x="14015" y="9401"/>
                </a:moveTo>
                <a:cubicBezTo>
                  <a:pt x="13949" y="9550"/>
                  <a:pt x="13838" y="9725"/>
                  <a:pt x="13866" y="9897"/>
                </a:cubicBezTo>
                <a:cubicBezTo>
                  <a:pt x="13876" y="9960"/>
                  <a:pt x="13984" y="10025"/>
                  <a:pt x="14039" y="10021"/>
                </a:cubicBezTo>
                <a:cubicBezTo>
                  <a:pt x="14110" y="10016"/>
                  <a:pt x="14193" y="9984"/>
                  <a:pt x="14238" y="9922"/>
                </a:cubicBezTo>
                <a:cubicBezTo>
                  <a:pt x="14303" y="9833"/>
                  <a:pt x="14387" y="9708"/>
                  <a:pt x="14412" y="9599"/>
                </a:cubicBezTo>
                <a:cubicBezTo>
                  <a:pt x="14434" y="9505"/>
                  <a:pt x="14339" y="9444"/>
                  <a:pt x="14263" y="9426"/>
                </a:cubicBezTo>
                <a:cubicBezTo>
                  <a:pt x="14213" y="9426"/>
                  <a:pt x="14196" y="9426"/>
                  <a:pt x="14163" y="9426"/>
                </a:cubicBezTo>
              </a:path>
              <a:path w="5954" h="2580">
                <a:moveTo>
                  <a:pt x="13022" y="10294"/>
                </a:moveTo>
                <a:cubicBezTo>
                  <a:pt x="13183" y="10316"/>
                  <a:pt x="13332" y="10319"/>
                  <a:pt x="13494" y="10319"/>
                </a:cubicBezTo>
                <a:cubicBezTo>
                  <a:pt x="13669" y="10319"/>
                  <a:pt x="13843" y="10331"/>
                  <a:pt x="14015" y="10294"/>
                </a:cubicBezTo>
                <a:cubicBezTo>
                  <a:pt x="14077" y="10281"/>
                  <a:pt x="14138" y="10269"/>
                  <a:pt x="14188" y="10244"/>
                </a:cubicBezTo>
              </a:path>
              <a:path w="5954" h="2580">
                <a:moveTo>
                  <a:pt x="13370" y="10517"/>
                </a:moveTo>
                <a:cubicBezTo>
                  <a:pt x="13514" y="10543"/>
                  <a:pt x="13647" y="10583"/>
                  <a:pt x="13791" y="10542"/>
                </a:cubicBezTo>
                <a:cubicBezTo>
                  <a:pt x="13832" y="10522"/>
                  <a:pt x="13848" y="10524"/>
                  <a:pt x="13841" y="10492"/>
                </a:cubicBezTo>
              </a:path>
              <a:path w="5954" h="2580">
                <a:moveTo>
                  <a:pt x="13618" y="10616"/>
                </a:moveTo>
                <a:cubicBezTo>
                  <a:pt x="13565" y="10805"/>
                  <a:pt x="13519" y="10927"/>
                  <a:pt x="13519" y="11112"/>
                </a:cubicBezTo>
                <a:cubicBezTo>
                  <a:pt x="13519" y="11216"/>
                  <a:pt x="13518" y="11205"/>
                  <a:pt x="13593" y="11162"/>
                </a:cubicBezTo>
              </a:path>
              <a:path w="5954" h="2580">
                <a:moveTo>
                  <a:pt x="13841" y="10641"/>
                </a:moveTo>
                <a:cubicBezTo>
                  <a:pt x="13815" y="10805"/>
                  <a:pt x="13805" y="10946"/>
                  <a:pt x="13841" y="11112"/>
                </a:cubicBezTo>
                <a:cubicBezTo>
                  <a:pt x="13864" y="11217"/>
                  <a:pt x="13890" y="11249"/>
                  <a:pt x="13990" y="11261"/>
                </a:cubicBezTo>
              </a:path>
              <a:path w="5954" h="2580">
                <a:moveTo>
                  <a:pt x="14536" y="10393"/>
                </a:moveTo>
                <a:cubicBezTo>
                  <a:pt x="14662" y="10379"/>
                  <a:pt x="14813" y="10383"/>
                  <a:pt x="14932" y="10344"/>
                </a:cubicBezTo>
              </a:path>
              <a:path w="5954" h="2580">
                <a:moveTo>
                  <a:pt x="14635" y="10567"/>
                </a:moveTo>
                <a:cubicBezTo>
                  <a:pt x="14810" y="10602"/>
                  <a:pt x="14843" y="10637"/>
                  <a:pt x="14982" y="10592"/>
                </a:cubicBezTo>
              </a:path>
              <a:path w="5954" h="2580">
                <a:moveTo>
                  <a:pt x="13320" y="10889"/>
                </a:moveTo>
                <a:cubicBezTo>
                  <a:pt x="13539" y="10864"/>
                  <a:pt x="13735" y="10854"/>
                  <a:pt x="13940" y="10765"/>
                </a:cubicBezTo>
                <a:cubicBezTo>
                  <a:pt x="13973" y="10749"/>
                  <a:pt x="14006" y="10732"/>
                  <a:pt x="14039" y="10716"/>
                </a:cubicBezTo>
              </a:path>
              <a:path w="5954" h="2580">
                <a:moveTo>
                  <a:pt x="11733" y="9674"/>
                </a:moveTo>
                <a:cubicBezTo>
                  <a:pt x="11869" y="9570"/>
                  <a:pt x="11984" y="9513"/>
                  <a:pt x="12129" y="9426"/>
                </a:cubicBezTo>
                <a:cubicBezTo>
                  <a:pt x="12231" y="9358"/>
                  <a:pt x="12287" y="9328"/>
                  <a:pt x="12378" y="9302"/>
                </a:cubicBezTo>
              </a:path>
              <a:path w="5954" h="2580">
                <a:moveTo>
                  <a:pt x="11584" y="11063"/>
                </a:moveTo>
                <a:cubicBezTo>
                  <a:pt x="11767" y="10907"/>
                  <a:pt x="11917" y="10829"/>
                  <a:pt x="12129" y="10716"/>
                </a:cubicBezTo>
                <a:cubicBezTo>
                  <a:pt x="12255" y="10653"/>
                  <a:pt x="12283" y="10642"/>
                  <a:pt x="12353" y="10592"/>
                </a:cubicBezTo>
              </a:path>
              <a:path w="5954" h="2580">
                <a:moveTo>
                  <a:pt x="12998" y="9773"/>
                </a:moveTo>
                <a:cubicBezTo>
                  <a:pt x="13134" y="9709"/>
                  <a:pt x="13254" y="9625"/>
                  <a:pt x="13395" y="9575"/>
                </a:cubicBezTo>
                <a:cubicBezTo>
                  <a:pt x="13553" y="9518"/>
                  <a:pt x="13698" y="9465"/>
                  <a:pt x="13841" y="9376"/>
                </a:cubicBezTo>
              </a:path>
              <a:path w="5954" h="2580">
                <a:moveTo>
                  <a:pt x="13692" y="8731"/>
                </a:moveTo>
                <a:cubicBezTo>
                  <a:pt x="13648" y="8865"/>
                  <a:pt x="13631" y="8985"/>
                  <a:pt x="13618" y="9128"/>
                </a:cubicBezTo>
                <a:cubicBezTo>
                  <a:pt x="13613" y="9189"/>
                  <a:pt x="13611" y="9262"/>
                  <a:pt x="13667" y="9302"/>
                </a:cubicBezTo>
                <a:cubicBezTo>
                  <a:pt x="13777" y="9381"/>
                  <a:pt x="13852" y="9281"/>
                  <a:pt x="13940" y="9227"/>
                </a:cubicBezTo>
                <a:cubicBezTo>
                  <a:pt x="14010" y="9183"/>
                  <a:pt x="14034" y="9139"/>
                  <a:pt x="14039" y="9054"/>
                </a:cubicBezTo>
                <a:cubicBezTo>
                  <a:pt x="14039" y="9009"/>
                  <a:pt x="14043" y="8996"/>
                  <a:pt x="14015" y="8979"/>
                </a:cubicBezTo>
                <a:cubicBezTo>
                  <a:pt x="13891" y="9024"/>
                  <a:pt x="13892" y="9035"/>
                  <a:pt x="13841" y="9153"/>
                </a:cubicBezTo>
                <a:cubicBezTo>
                  <a:pt x="13799" y="9251"/>
                  <a:pt x="13770" y="9228"/>
                  <a:pt x="13891" y="9277"/>
                </a:cubicBezTo>
              </a:path>
              <a:path w="5954" h="2580">
                <a:moveTo>
                  <a:pt x="14213" y="8756"/>
                </a:moveTo>
                <a:cubicBezTo>
                  <a:pt x="14196" y="8818"/>
                  <a:pt x="14122" y="8989"/>
                  <a:pt x="14163" y="9054"/>
                </a:cubicBezTo>
                <a:cubicBezTo>
                  <a:pt x="14227" y="9155"/>
                  <a:pt x="14293" y="9172"/>
                  <a:pt x="14387" y="9103"/>
                </a:cubicBezTo>
                <a:cubicBezTo>
                  <a:pt x="14457" y="9051"/>
                  <a:pt x="14506" y="8984"/>
                  <a:pt x="14536" y="8905"/>
                </a:cubicBezTo>
                <a:cubicBezTo>
                  <a:pt x="14552" y="8863"/>
                  <a:pt x="14595" y="8718"/>
                  <a:pt x="14536" y="8682"/>
                </a:cubicBezTo>
                <a:cubicBezTo>
                  <a:pt x="14491" y="8654"/>
                  <a:pt x="14404" y="8692"/>
                  <a:pt x="14362" y="8706"/>
                </a:cubicBezTo>
              </a:path>
              <a:path w="5954" h="2580">
                <a:moveTo>
                  <a:pt x="15751" y="9599"/>
                </a:moveTo>
                <a:cubicBezTo>
                  <a:pt x="15712" y="9740"/>
                  <a:pt x="15666" y="9880"/>
                  <a:pt x="15627" y="10021"/>
                </a:cubicBezTo>
                <a:cubicBezTo>
                  <a:pt x="15593" y="10145"/>
                  <a:pt x="15573" y="10269"/>
                  <a:pt x="15652" y="10368"/>
                </a:cubicBezTo>
                <a:cubicBezTo>
                  <a:pt x="15696" y="10423"/>
                  <a:pt x="15745" y="10499"/>
                  <a:pt x="15825" y="10492"/>
                </a:cubicBezTo>
                <a:cubicBezTo>
                  <a:pt x="15912" y="10485"/>
                  <a:pt x="15961" y="10413"/>
                  <a:pt x="15999" y="10344"/>
                </a:cubicBezTo>
                <a:cubicBezTo>
                  <a:pt x="16044" y="10263"/>
                  <a:pt x="16070" y="10171"/>
                  <a:pt x="16024" y="10096"/>
                </a:cubicBezTo>
                <a:cubicBezTo>
                  <a:pt x="15934" y="10136"/>
                  <a:pt x="15860" y="10191"/>
                  <a:pt x="15825" y="10294"/>
                </a:cubicBezTo>
                <a:cubicBezTo>
                  <a:pt x="15788" y="10404"/>
                  <a:pt x="15845" y="10380"/>
                  <a:pt x="15925" y="10393"/>
                </a:cubicBezTo>
              </a:path>
              <a:path w="5954" h="2580">
                <a:moveTo>
                  <a:pt x="16222" y="9624"/>
                </a:moveTo>
                <a:cubicBezTo>
                  <a:pt x="16180" y="9792"/>
                  <a:pt x="16153" y="9955"/>
                  <a:pt x="16123" y="10120"/>
                </a:cubicBezTo>
                <a:cubicBezTo>
                  <a:pt x="16103" y="10229"/>
                  <a:pt x="16090" y="10347"/>
                  <a:pt x="16197" y="10418"/>
                </a:cubicBezTo>
                <a:cubicBezTo>
                  <a:pt x="16283" y="10476"/>
                  <a:pt x="16312" y="10460"/>
                  <a:pt x="16396" y="10418"/>
                </a:cubicBezTo>
                <a:cubicBezTo>
                  <a:pt x="16472" y="10380"/>
                  <a:pt x="16496" y="10301"/>
                  <a:pt x="16520" y="10220"/>
                </a:cubicBezTo>
                <a:cubicBezTo>
                  <a:pt x="16539" y="10142"/>
                  <a:pt x="16564" y="10125"/>
                  <a:pt x="16520" y="10096"/>
                </a:cubicBezTo>
                <a:cubicBezTo>
                  <a:pt x="16427" y="10136"/>
                  <a:pt x="16357" y="10161"/>
                  <a:pt x="16321" y="10269"/>
                </a:cubicBezTo>
                <a:cubicBezTo>
                  <a:pt x="16278" y="10399"/>
                  <a:pt x="16380" y="10405"/>
                  <a:pt x="16470" y="10418"/>
                </a:cubicBezTo>
              </a:path>
              <a:path w="5954" h="2580">
                <a:moveTo>
                  <a:pt x="16694" y="9699"/>
                </a:moveTo>
                <a:cubicBezTo>
                  <a:pt x="16605" y="9724"/>
                  <a:pt x="16566" y="9845"/>
                  <a:pt x="16545" y="9947"/>
                </a:cubicBezTo>
                <a:cubicBezTo>
                  <a:pt x="16526" y="10039"/>
                  <a:pt x="16509" y="10180"/>
                  <a:pt x="16545" y="10269"/>
                </a:cubicBezTo>
                <a:cubicBezTo>
                  <a:pt x="16583" y="10363"/>
                  <a:pt x="16687" y="10426"/>
                  <a:pt x="16768" y="10393"/>
                </a:cubicBezTo>
                <a:cubicBezTo>
                  <a:pt x="16861" y="10355"/>
                  <a:pt x="16903" y="10266"/>
                  <a:pt x="16917" y="10170"/>
                </a:cubicBezTo>
                <a:cubicBezTo>
                  <a:pt x="16928" y="10099"/>
                  <a:pt x="16946" y="9881"/>
                  <a:pt x="16892" y="9823"/>
                </a:cubicBezTo>
                <a:cubicBezTo>
                  <a:pt x="16844" y="9799"/>
                  <a:pt x="16830" y="9791"/>
                  <a:pt x="16793" y="9798"/>
                </a:cubicBezTo>
              </a:path>
              <a:path w="5954" h="2580">
                <a:moveTo>
                  <a:pt x="16942" y="9426"/>
                </a:moveTo>
                <a:cubicBezTo>
                  <a:pt x="16885" y="9483"/>
                  <a:pt x="16844" y="9557"/>
                  <a:pt x="16942" y="9599"/>
                </a:cubicBezTo>
                <a:cubicBezTo>
                  <a:pt x="17002" y="9625"/>
                  <a:pt x="17055" y="9561"/>
                  <a:pt x="17090" y="9525"/>
                </a:cubicBezTo>
                <a:cubicBezTo>
                  <a:pt x="17055" y="9489"/>
                  <a:pt x="17036" y="9476"/>
                  <a:pt x="16991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5" name="Ink 11"/>
          <p:cNvSpPr/>
          <p:nvPr/>
        </p:nvSpPr>
        <p:spPr>
          <a:xfrm>
            <a:off x="874800" y="4062240"/>
            <a:ext cx="1260360" cy="287640"/>
          </a:xfrm>
          <a:custGeom>
            <a:avLst/>
            <a:gdLst/>
            <a:ahLst/>
            <a:rect l="l" t="t" r="r" b="b"/>
            <a:pathLst>
              <a:path w="3498" h="795">
                <a:moveTo>
                  <a:pt x="2431" y="11311"/>
                </a:moveTo>
                <a:cubicBezTo>
                  <a:pt x="2502" y="11284"/>
                  <a:pt x="2581" y="11265"/>
                  <a:pt x="2654" y="11311"/>
                </a:cubicBezTo>
                <a:cubicBezTo>
                  <a:pt x="2671" y="11328"/>
                  <a:pt x="2687" y="11344"/>
                  <a:pt x="2704" y="11361"/>
                </a:cubicBezTo>
              </a:path>
              <a:path w="3498" h="795">
                <a:moveTo>
                  <a:pt x="2679" y="11410"/>
                </a:moveTo>
                <a:cubicBezTo>
                  <a:pt x="2577" y="11512"/>
                  <a:pt x="2573" y="11503"/>
                  <a:pt x="2480" y="11559"/>
                </a:cubicBezTo>
                <a:cubicBezTo>
                  <a:pt x="2523" y="11585"/>
                  <a:pt x="2620" y="11587"/>
                  <a:pt x="2654" y="11633"/>
                </a:cubicBezTo>
                <a:cubicBezTo>
                  <a:pt x="2719" y="11720"/>
                  <a:pt x="2722" y="11782"/>
                  <a:pt x="2654" y="11857"/>
                </a:cubicBezTo>
                <a:cubicBezTo>
                  <a:pt x="2613" y="11901"/>
                  <a:pt x="2520" y="11841"/>
                  <a:pt x="2480" y="11807"/>
                </a:cubicBezTo>
                <a:cubicBezTo>
                  <a:pt x="2458" y="11784"/>
                  <a:pt x="2450" y="11779"/>
                  <a:pt x="2456" y="11757"/>
                </a:cubicBezTo>
              </a:path>
              <a:path w="3498" h="795">
                <a:moveTo>
                  <a:pt x="2977" y="11336"/>
                </a:moveTo>
                <a:cubicBezTo>
                  <a:pt x="2934" y="11410"/>
                  <a:pt x="2910" y="11477"/>
                  <a:pt x="2877" y="11559"/>
                </a:cubicBezTo>
                <a:cubicBezTo>
                  <a:pt x="2855" y="11613"/>
                  <a:pt x="2821" y="11753"/>
                  <a:pt x="2853" y="11807"/>
                </a:cubicBezTo>
                <a:cubicBezTo>
                  <a:pt x="2870" y="11836"/>
                  <a:pt x="2977" y="11876"/>
                  <a:pt x="3001" y="11881"/>
                </a:cubicBezTo>
                <a:cubicBezTo>
                  <a:pt x="3052" y="11891"/>
                  <a:pt x="3133" y="11836"/>
                  <a:pt x="3175" y="11807"/>
                </a:cubicBezTo>
                <a:cubicBezTo>
                  <a:pt x="3209" y="11783"/>
                  <a:pt x="3235" y="11671"/>
                  <a:pt x="3225" y="11633"/>
                </a:cubicBezTo>
                <a:cubicBezTo>
                  <a:pt x="3217" y="11625"/>
                  <a:pt x="3208" y="11617"/>
                  <a:pt x="3200" y="11609"/>
                </a:cubicBezTo>
                <a:cubicBezTo>
                  <a:pt x="3133" y="11656"/>
                  <a:pt x="3084" y="11713"/>
                  <a:pt x="3101" y="11807"/>
                </a:cubicBezTo>
                <a:cubicBezTo>
                  <a:pt x="3109" y="11851"/>
                  <a:pt x="3146" y="11877"/>
                  <a:pt x="3175" y="11906"/>
                </a:cubicBezTo>
              </a:path>
              <a:path w="3498" h="795">
                <a:moveTo>
                  <a:pt x="3547" y="11410"/>
                </a:moveTo>
                <a:cubicBezTo>
                  <a:pt x="3478" y="11529"/>
                  <a:pt x="3429" y="11597"/>
                  <a:pt x="3423" y="11733"/>
                </a:cubicBezTo>
                <a:cubicBezTo>
                  <a:pt x="3418" y="11837"/>
                  <a:pt x="3404" y="11881"/>
                  <a:pt x="3497" y="11931"/>
                </a:cubicBezTo>
                <a:cubicBezTo>
                  <a:pt x="3548" y="11958"/>
                  <a:pt x="3624" y="11962"/>
                  <a:pt x="3671" y="11931"/>
                </a:cubicBezTo>
                <a:cubicBezTo>
                  <a:pt x="3773" y="11865"/>
                  <a:pt x="3810" y="11724"/>
                  <a:pt x="3795" y="11609"/>
                </a:cubicBezTo>
                <a:cubicBezTo>
                  <a:pt x="3789" y="11559"/>
                  <a:pt x="3717" y="11432"/>
                  <a:pt x="3671" y="11410"/>
                </a:cubicBezTo>
                <a:cubicBezTo>
                  <a:pt x="3616" y="11384"/>
                  <a:pt x="3613" y="11426"/>
                  <a:pt x="3597" y="11361"/>
                </a:cubicBezTo>
              </a:path>
              <a:path w="3498" h="795">
                <a:moveTo>
                  <a:pt x="3969" y="11658"/>
                </a:moveTo>
                <a:cubicBezTo>
                  <a:pt x="4073" y="11677"/>
                  <a:pt x="4093" y="11703"/>
                  <a:pt x="4167" y="11658"/>
                </a:cubicBezTo>
              </a:path>
              <a:path w="3498" h="795">
                <a:moveTo>
                  <a:pt x="4291" y="11435"/>
                </a:moveTo>
                <a:cubicBezTo>
                  <a:pt x="4354" y="11411"/>
                  <a:pt x="4462" y="11390"/>
                  <a:pt x="4514" y="11460"/>
                </a:cubicBezTo>
                <a:cubicBezTo>
                  <a:pt x="4584" y="11555"/>
                  <a:pt x="4465" y="11593"/>
                  <a:pt x="4415" y="11658"/>
                </a:cubicBezTo>
                <a:cubicBezTo>
                  <a:pt x="4399" y="11679"/>
                  <a:pt x="4273" y="11787"/>
                  <a:pt x="4266" y="11807"/>
                </a:cubicBezTo>
                <a:cubicBezTo>
                  <a:pt x="4253" y="11843"/>
                  <a:pt x="4302" y="11923"/>
                  <a:pt x="4341" y="11931"/>
                </a:cubicBezTo>
                <a:cubicBezTo>
                  <a:pt x="4407" y="11945"/>
                  <a:pt x="4456" y="11928"/>
                  <a:pt x="4514" y="11906"/>
                </a:cubicBezTo>
              </a:path>
              <a:path w="3498" h="795">
                <a:moveTo>
                  <a:pt x="4663" y="11435"/>
                </a:moveTo>
                <a:cubicBezTo>
                  <a:pt x="4740" y="11416"/>
                  <a:pt x="4772" y="11427"/>
                  <a:pt x="4837" y="11485"/>
                </a:cubicBezTo>
                <a:cubicBezTo>
                  <a:pt x="4912" y="11551"/>
                  <a:pt x="4795" y="11610"/>
                  <a:pt x="4762" y="11658"/>
                </a:cubicBezTo>
                <a:cubicBezTo>
                  <a:pt x="4735" y="11697"/>
                  <a:pt x="4674" y="11786"/>
                  <a:pt x="4663" y="11832"/>
                </a:cubicBezTo>
                <a:cubicBezTo>
                  <a:pt x="4644" y="11912"/>
                  <a:pt x="4696" y="11952"/>
                  <a:pt x="4762" y="11956"/>
                </a:cubicBezTo>
                <a:cubicBezTo>
                  <a:pt x="4811" y="11959"/>
                  <a:pt x="4862" y="11956"/>
                  <a:pt x="4911" y="11956"/>
                </a:cubicBezTo>
              </a:path>
              <a:path w="3498" h="795">
                <a:moveTo>
                  <a:pt x="4688" y="11311"/>
                </a:moveTo>
                <a:cubicBezTo>
                  <a:pt x="4688" y="11400"/>
                  <a:pt x="4695" y="11475"/>
                  <a:pt x="4663" y="11559"/>
                </a:cubicBezTo>
                <a:cubicBezTo>
                  <a:pt x="4630" y="11646"/>
                  <a:pt x="4626" y="11720"/>
                  <a:pt x="4663" y="11807"/>
                </a:cubicBezTo>
                <a:cubicBezTo>
                  <a:pt x="4692" y="11875"/>
                  <a:pt x="4731" y="11922"/>
                  <a:pt x="4812" y="11906"/>
                </a:cubicBezTo>
                <a:cubicBezTo>
                  <a:pt x="4887" y="11891"/>
                  <a:pt x="4923" y="11797"/>
                  <a:pt x="4936" y="11733"/>
                </a:cubicBezTo>
                <a:cubicBezTo>
                  <a:pt x="4950" y="11665"/>
                  <a:pt x="4951" y="11577"/>
                  <a:pt x="4961" y="11509"/>
                </a:cubicBezTo>
                <a:cubicBezTo>
                  <a:pt x="4961" y="11493"/>
                  <a:pt x="4961" y="11476"/>
                  <a:pt x="4961" y="11460"/>
                </a:cubicBezTo>
                <a:cubicBezTo>
                  <a:pt x="4939" y="11541"/>
                  <a:pt x="4948" y="11602"/>
                  <a:pt x="4936" y="11683"/>
                </a:cubicBezTo>
                <a:cubicBezTo>
                  <a:pt x="4920" y="11788"/>
                  <a:pt x="4911" y="11876"/>
                  <a:pt x="4911" y="11981"/>
                </a:cubicBezTo>
                <a:cubicBezTo>
                  <a:pt x="4911" y="12039"/>
                  <a:pt x="4911" y="12047"/>
                  <a:pt x="4911" y="12080"/>
                </a:cubicBezTo>
              </a:path>
              <a:path w="3498" h="795">
                <a:moveTo>
                  <a:pt x="5159" y="11485"/>
                </a:moveTo>
                <a:cubicBezTo>
                  <a:pt x="5261" y="11425"/>
                  <a:pt x="5354" y="11425"/>
                  <a:pt x="5457" y="11385"/>
                </a:cubicBezTo>
                <a:cubicBezTo>
                  <a:pt x="5465" y="11377"/>
                  <a:pt x="5474" y="11369"/>
                  <a:pt x="5482" y="11361"/>
                </a:cubicBezTo>
              </a:path>
              <a:path w="3498" h="795">
                <a:moveTo>
                  <a:pt x="5184" y="11410"/>
                </a:moveTo>
                <a:cubicBezTo>
                  <a:pt x="5145" y="11463"/>
                  <a:pt x="5089" y="11555"/>
                  <a:pt x="5184" y="11609"/>
                </a:cubicBezTo>
                <a:cubicBezTo>
                  <a:pt x="5289" y="11669"/>
                  <a:pt x="5413" y="11726"/>
                  <a:pt x="5407" y="11881"/>
                </a:cubicBezTo>
                <a:cubicBezTo>
                  <a:pt x="5405" y="11929"/>
                  <a:pt x="5327" y="11997"/>
                  <a:pt x="5283" y="12005"/>
                </a:cubicBezTo>
                <a:cubicBezTo>
                  <a:pt x="5215" y="12017"/>
                  <a:pt x="5098" y="11990"/>
                  <a:pt x="5110" y="11906"/>
                </a:cubicBezTo>
                <a:cubicBezTo>
                  <a:pt x="5118" y="11881"/>
                  <a:pt x="5127" y="11857"/>
                  <a:pt x="5135" y="11832"/>
                </a:cubicBezTo>
              </a:path>
              <a:path w="3498" h="795">
                <a:moveTo>
                  <a:pt x="5556" y="11658"/>
                </a:moveTo>
                <a:cubicBezTo>
                  <a:pt x="5650" y="11642"/>
                  <a:pt x="5740" y="11626"/>
                  <a:pt x="5829" y="11609"/>
                </a:cubicBezTo>
              </a:path>
              <a:path w="3498" h="795">
                <a:moveTo>
                  <a:pt x="5581" y="11733"/>
                </a:moveTo>
                <a:cubicBezTo>
                  <a:pt x="5718" y="11756"/>
                  <a:pt x="5793" y="11759"/>
                  <a:pt x="5928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6" name="Ink 12"/>
          <p:cNvSpPr/>
          <p:nvPr/>
        </p:nvSpPr>
        <p:spPr>
          <a:xfrm>
            <a:off x="2232000" y="4116240"/>
            <a:ext cx="312840" cy="268560"/>
          </a:xfrm>
          <a:custGeom>
            <a:avLst/>
            <a:gdLst/>
            <a:ahLst/>
            <a:rect l="l" t="t" r="r" b="b"/>
            <a:pathLst>
              <a:path w="869" h="745">
                <a:moveTo>
                  <a:pt x="6251" y="11435"/>
                </a:moveTo>
                <a:cubicBezTo>
                  <a:pt x="6251" y="11532"/>
                  <a:pt x="6249" y="11641"/>
                  <a:pt x="6226" y="11733"/>
                </a:cubicBezTo>
                <a:cubicBezTo>
                  <a:pt x="6208" y="11805"/>
                  <a:pt x="6184" y="11877"/>
                  <a:pt x="6201" y="11956"/>
                </a:cubicBezTo>
                <a:cubicBezTo>
                  <a:pt x="6223" y="12021"/>
                  <a:pt x="6231" y="12036"/>
                  <a:pt x="6226" y="12080"/>
                </a:cubicBezTo>
              </a:path>
              <a:path w="869" h="745">
                <a:moveTo>
                  <a:pt x="6524" y="11460"/>
                </a:moveTo>
                <a:cubicBezTo>
                  <a:pt x="6508" y="11605"/>
                  <a:pt x="6499" y="11737"/>
                  <a:pt x="6499" y="11881"/>
                </a:cubicBezTo>
                <a:cubicBezTo>
                  <a:pt x="6499" y="11954"/>
                  <a:pt x="6514" y="12021"/>
                  <a:pt x="6548" y="12080"/>
                </a:cubicBezTo>
              </a:path>
              <a:path w="869" h="745">
                <a:moveTo>
                  <a:pt x="6821" y="11559"/>
                </a:moveTo>
                <a:cubicBezTo>
                  <a:pt x="6945" y="11534"/>
                  <a:pt x="6989" y="11542"/>
                  <a:pt x="7069" y="11460"/>
                </a:cubicBezTo>
              </a:path>
              <a:path w="869" h="745">
                <a:moveTo>
                  <a:pt x="6796" y="11534"/>
                </a:moveTo>
                <a:cubicBezTo>
                  <a:pt x="6722" y="11626"/>
                  <a:pt x="6692" y="11626"/>
                  <a:pt x="6772" y="11708"/>
                </a:cubicBezTo>
                <a:cubicBezTo>
                  <a:pt x="6831" y="11768"/>
                  <a:pt x="6898" y="11751"/>
                  <a:pt x="6970" y="11782"/>
                </a:cubicBezTo>
                <a:cubicBezTo>
                  <a:pt x="7042" y="11813"/>
                  <a:pt x="7043" y="11906"/>
                  <a:pt x="7045" y="11981"/>
                </a:cubicBezTo>
                <a:cubicBezTo>
                  <a:pt x="7047" y="12033"/>
                  <a:pt x="7046" y="12157"/>
                  <a:pt x="6970" y="12179"/>
                </a:cubicBezTo>
                <a:cubicBezTo>
                  <a:pt x="6915" y="12195"/>
                  <a:pt x="6821" y="12170"/>
                  <a:pt x="6772" y="12154"/>
                </a:cubicBezTo>
                <a:cubicBezTo>
                  <a:pt x="6697" y="12116"/>
                  <a:pt x="6660" y="12088"/>
                  <a:pt x="6623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7" name="Ink 13"/>
          <p:cNvSpPr/>
          <p:nvPr/>
        </p:nvSpPr>
        <p:spPr>
          <a:xfrm>
            <a:off x="598320" y="4545000"/>
            <a:ext cx="1633680" cy="322200"/>
          </a:xfrm>
          <a:custGeom>
            <a:avLst/>
            <a:gdLst/>
            <a:ahLst/>
            <a:rect l="l" t="t" r="r" b="b"/>
            <a:pathLst>
              <a:path w="4540" h="894">
                <a:moveTo>
                  <a:pt x="1662" y="12626"/>
                </a:moveTo>
                <a:cubicBezTo>
                  <a:pt x="1697" y="12683"/>
                  <a:pt x="1709" y="12728"/>
                  <a:pt x="1712" y="12799"/>
                </a:cubicBezTo>
                <a:cubicBezTo>
                  <a:pt x="1719" y="12976"/>
                  <a:pt x="1713" y="13147"/>
                  <a:pt x="1736" y="13320"/>
                </a:cubicBezTo>
                <a:cubicBezTo>
                  <a:pt x="1736" y="13362"/>
                  <a:pt x="1736" y="13370"/>
                  <a:pt x="1736" y="13395"/>
                </a:cubicBezTo>
              </a:path>
              <a:path w="4540" h="894">
                <a:moveTo>
                  <a:pt x="2183" y="12849"/>
                </a:moveTo>
                <a:cubicBezTo>
                  <a:pt x="2040" y="12784"/>
                  <a:pt x="2057" y="12774"/>
                  <a:pt x="1935" y="12774"/>
                </a:cubicBezTo>
                <a:cubicBezTo>
                  <a:pt x="1945" y="12853"/>
                  <a:pt x="1980" y="12878"/>
                  <a:pt x="2009" y="12948"/>
                </a:cubicBezTo>
                <a:cubicBezTo>
                  <a:pt x="2044" y="13032"/>
                  <a:pt x="2082" y="13124"/>
                  <a:pt x="2133" y="13196"/>
                </a:cubicBezTo>
                <a:cubicBezTo>
                  <a:pt x="2194" y="13281"/>
                  <a:pt x="2237" y="13314"/>
                  <a:pt x="2208" y="13419"/>
                </a:cubicBezTo>
                <a:cubicBezTo>
                  <a:pt x="2150" y="13386"/>
                  <a:pt x="2123" y="13386"/>
                  <a:pt x="2084" y="13320"/>
                </a:cubicBezTo>
                <a:cubicBezTo>
                  <a:pt x="2049" y="13262"/>
                  <a:pt x="2013" y="13237"/>
                  <a:pt x="2009" y="13171"/>
                </a:cubicBezTo>
                <a:cubicBezTo>
                  <a:pt x="2005" y="13101"/>
                  <a:pt x="2049" y="13054"/>
                  <a:pt x="2084" y="12998"/>
                </a:cubicBezTo>
                <a:cubicBezTo>
                  <a:pt x="2139" y="12910"/>
                  <a:pt x="2193" y="12893"/>
                  <a:pt x="2282" y="12849"/>
                </a:cubicBezTo>
                <a:cubicBezTo>
                  <a:pt x="2303" y="12901"/>
                  <a:pt x="2285" y="12959"/>
                  <a:pt x="2257" y="13022"/>
                </a:cubicBezTo>
                <a:cubicBezTo>
                  <a:pt x="2224" y="13096"/>
                  <a:pt x="2216" y="13206"/>
                  <a:pt x="2282" y="13271"/>
                </a:cubicBezTo>
                <a:cubicBezTo>
                  <a:pt x="2336" y="13324"/>
                  <a:pt x="2442" y="13352"/>
                  <a:pt x="2505" y="13320"/>
                </a:cubicBezTo>
                <a:cubicBezTo>
                  <a:pt x="2575" y="13285"/>
                  <a:pt x="2601" y="13249"/>
                  <a:pt x="2604" y="13171"/>
                </a:cubicBezTo>
                <a:cubicBezTo>
                  <a:pt x="2609" y="13058"/>
                  <a:pt x="2530" y="12977"/>
                  <a:pt x="2456" y="12898"/>
                </a:cubicBezTo>
                <a:cubicBezTo>
                  <a:pt x="2434" y="12875"/>
                  <a:pt x="2332" y="12822"/>
                  <a:pt x="2332" y="12799"/>
                </a:cubicBezTo>
                <a:cubicBezTo>
                  <a:pt x="2340" y="12799"/>
                  <a:pt x="2348" y="12799"/>
                  <a:pt x="2356" y="12799"/>
                </a:cubicBezTo>
              </a:path>
              <a:path w="4540" h="894">
                <a:moveTo>
                  <a:pt x="3225" y="12824"/>
                </a:moveTo>
                <a:cubicBezTo>
                  <a:pt x="3225" y="12920"/>
                  <a:pt x="3204" y="13004"/>
                  <a:pt x="3200" y="13097"/>
                </a:cubicBezTo>
                <a:cubicBezTo>
                  <a:pt x="3196" y="13196"/>
                  <a:pt x="3200" y="13296"/>
                  <a:pt x="3200" y="13395"/>
                </a:cubicBezTo>
              </a:path>
              <a:path w="4540" h="894">
                <a:moveTo>
                  <a:pt x="3448" y="12750"/>
                </a:moveTo>
                <a:cubicBezTo>
                  <a:pt x="3423" y="12824"/>
                  <a:pt x="3407" y="12919"/>
                  <a:pt x="3398" y="12998"/>
                </a:cubicBezTo>
                <a:cubicBezTo>
                  <a:pt x="3383" y="13126"/>
                  <a:pt x="3411" y="13248"/>
                  <a:pt x="3423" y="13370"/>
                </a:cubicBezTo>
                <a:cubicBezTo>
                  <a:pt x="3423" y="13448"/>
                  <a:pt x="3408" y="13466"/>
                  <a:pt x="3448" y="13494"/>
                </a:cubicBezTo>
              </a:path>
              <a:path w="4540" h="894">
                <a:moveTo>
                  <a:pt x="2803" y="13047"/>
                </a:moveTo>
                <a:cubicBezTo>
                  <a:pt x="2862" y="13082"/>
                  <a:pt x="2932" y="13074"/>
                  <a:pt x="3001" y="13097"/>
                </a:cubicBezTo>
              </a:path>
              <a:path w="4540" h="894">
                <a:moveTo>
                  <a:pt x="3795" y="12849"/>
                </a:moveTo>
                <a:cubicBezTo>
                  <a:pt x="3875" y="12833"/>
                  <a:pt x="3949" y="12817"/>
                  <a:pt x="4018" y="12799"/>
                </a:cubicBezTo>
              </a:path>
              <a:path w="4540" h="894">
                <a:moveTo>
                  <a:pt x="3770" y="12824"/>
                </a:moveTo>
                <a:cubicBezTo>
                  <a:pt x="3725" y="12871"/>
                  <a:pt x="3701" y="12890"/>
                  <a:pt x="3746" y="12948"/>
                </a:cubicBezTo>
                <a:cubicBezTo>
                  <a:pt x="3789" y="13003"/>
                  <a:pt x="3905" y="12974"/>
                  <a:pt x="3969" y="13022"/>
                </a:cubicBezTo>
                <a:cubicBezTo>
                  <a:pt x="4037" y="13072"/>
                  <a:pt x="4060" y="13088"/>
                  <a:pt x="4068" y="13171"/>
                </a:cubicBezTo>
                <a:cubicBezTo>
                  <a:pt x="4073" y="13221"/>
                  <a:pt x="4086" y="13312"/>
                  <a:pt x="4043" y="13345"/>
                </a:cubicBezTo>
                <a:cubicBezTo>
                  <a:pt x="3995" y="13382"/>
                  <a:pt x="3952" y="13416"/>
                  <a:pt x="3894" y="13419"/>
                </a:cubicBezTo>
                <a:cubicBezTo>
                  <a:pt x="3807" y="13424"/>
                  <a:pt x="3768" y="13410"/>
                  <a:pt x="3746" y="13320"/>
                </a:cubicBezTo>
                <a:cubicBezTo>
                  <a:pt x="3746" y="13304"/>
                  <a:pt x="3746" y="13287"/>
                  <a:pt x="3746" y="13271"/>
                </a:cubicBezTo>
              </a:path>
              <a:path w="4540" h="894">
                <a:moveTo>
                  <a:pt x="4291" y="13047"/>
                </a:moveTo>
                <a:cubicBezTo>
                  <a:pt x="4394" y="13047"/>
                  <a:pt x="4429" y="13054"/>
                  <a:pt x="4514" y="13022"/>
                </a:cubicBezTo>
              </a:path>
              <a:path w="4540" h="894">
                <a:moveTo>
                  <a:pt x="4341" y="13196"/>
                </a:moveTo>
                <a:cubicBezTo>
                  <a:pt x="4467" y="13215"/>
                  <a:pt x="4541" y="13223"/>
                  <a:pt x="4663" y="13196"/>
                </a:cubicBezTo>
              </a:path>
              <a:path w="4540" h="894">
                <a:moveTo>
                  <a:pt x="4911" y="12824"/>
                </a:moveTo>
                <a:cubicBezTo>
                  <a:pt x="4865" y="12897"/>
                  <a:pt x="4826" y="12970"/>
                  <a:pt x="4787" y="13047"/>
                </a:cubicBezTo>
                <a:cubicBezTo>
                  <a:pt x="4751" y="13119"/>
                  <a:pt x="4755" y="13174"/>
                  <a:pt x="4787" y="13246"/>
                </a:cubicBezTo>
                <a:cubicBezTo>
                  <a:pt x="4811" y="13301"/>
                  <a:pt x="4882" y="13370"/>
                  <a:pt x="4936" y="13395"/>
                </a:cubicBezTo>
                <a:cubicBezTo>
                  <a:pt x="5075" y="13460"/>
                  <a:pt x="5075" y="13452"/>
                  <a:pt x="5184" y="13395"/>
                </a:cubicBezTo>
                <a:cubicBezTo>
                  <a:pt x="5215" y="13379"/>
                  <a:pt x="5297" y="13335"/>
                  <a:pt x="5308" y="13295"/>
                </a:cubicBezTo>
                <a:cubicBezTo>
                  <a:pt x="5327" y="13228"/>
                  <a:pt x="5302" y="13190"/>
                  <a:pt x="5259" y="13146"/>
                </a:cubicBezTo>
                <a:cubicBezTo>
                  <a:pt x="5216" y="13162"/>
                  <a:pt x="5128" y="13210"/>
                  <a:pt x="5110" y="13271"/>
                </a:cubicBezTo>
                <a:cubicBezTo>
                  <a:pt x="5093" y="13330"/>
                  <a:pt x="5101" y="13450"/>
                  <a:pt x="5135" y="13494"/>
                </a:cubicBezTo>
                <a:cubicBezTo>
                  <a:pt x="5143" y="13502"/>
                  <a:pt x="5151" y="13511"/>
                  <a:pt x="5159" y="13519"/>
                </a:cubicBezTo>
              </a:path>
              <a:path w="4540" h="894">
                <a:moveTo>
                  <a:pt x="5507" y="12898"/>
                </a:moveTo>
                <a:cubicBezTo>
                  <a:pt x="5602" y="12883"/>
                  <a:pt x="5690" y="12867"/>
                  <a:pt x="5779" y="12849"/>
                </a:cubicBezTo>
              </a:path>
              <a:path w="4540" h="894">
                <a:moveTo>
                  <a:pt x="5482" y="12973"/>
                </a:moveTo>
                <a:cubicBezTo>
                  <a:pt x="5474" y="12998"/>
                  <a:pt x="5465" y="13022"/>
                  <a:pt x="5457" y="13047"/>
                </a:cubicBezTo>
                <a:cubicBezTo>
                  <a:pt x="5517" y="13083"/>
                  <a:pt x="5580" y="13072"/>
                  <a:pt x="5655" y="13072"/>
                </a:cubicBezTo>
                <a:cubicBezTo>
                  <a:pt x="5721" y="13072"/>
                  <a:pt x="5735" y="13102"/>
                  <a:pt x="5779" y="13146"/>
                </a:cubicBezTo>
                <a:cubicBezTo>
                  <a:pt x="5813" y="13180"/>
                  <a:pt x="5818" y="13271"/>
                  <a:pt x="5804" y="13320"/>
                </a:cubicBezTo>
                <a:cubicBezTo>
                  <a:pt x="5792" y="13364"/>
                  <a:pt x="5759" y="13478"/>
                  <a:pt x="5705" y="13494"/>
                </a:cubicBezTo>
                <a:cubicBezTo>
                  <a:pt x="5649" y="13510"/>
                  <a:pt x="5585" y="13464"/>
                  <a:pt x="5556" y="13419"/>
                </a:cubicBezTo>
                <a:cubicBezTo>
                  <a:pt x="5532" y="13371"/>
                  <a:pt x="5523" y="13357"/>
                  <a:pt x="5531" y="13320"/>
                </a:cubicBezTo>
              </a:path>
              <a:path w="4540" h="894">
                <a:moveTo>
                  <a:pt x="6028" y="12675"/>
                </a:moveTo>
                <a:cubicBezTo>
                  <a:pt x="5971" y="12732"/>
                  <a:pt x="5936" y="12735"/>
                  <a:pt x="5978" y="12824"/>
                </a:cubicBezTo>
                <a:cubicBezTo>
                  <a:pt x="6010" y="12893"/>
                  <a:pt x="6102" y="12880"/>
                  <a:pt x="6152" y="12849"/>
                </a:cubicBezTo>
                <a:cubicBezTo>
                  <a:pt x="6199" y="12820"/>
                  <a:pt x="6219" y="12744"/>
                  <a:pt x="6152" y="12725"/>
                </a:cubicBezTo>
                <a:cubicBezTo>
                  <a:pt x="6102" y="12725"/>
                  <a:pt x="6085" y="12725"/>
                  <a:pt x="6052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8" name="Ink 14"/>
          <p:cNvSpPr/>
          <p:nvPr/>
        </p:nvSpPr>
        <p:spPr>
          <a:xfrm>
            <a:off x="3840120" y="1276200"/>
            <a:ext cx="1160640" cy="982800"/>
          </a:xfrm>
          <a:custGeom>
            <a:avLst/>
            <a:gdLst/>
            <a:ahLst/>
            <a:rect l="l" t="t" r="r" b="b"/>
            <a:pathLst>
              <a:path w="3226" h="2730">
                <a:moveTo>
                  <a:pt x="12427" y="5531"/>
                </a:moveTo>
                <a:cubicBezTo>
                  <a:pt x="12418" y="5607"/>
                  <a:pt x="12389" y="5641"/>
                  <a:pt x="12353" y="5705"/>
                </a:cubicBezTo>
                <a:cubicBezTo>
                  <a:pt x="12291" y="5814"/>
                  <a:pt x="12259" y="5864"/>
                  <a:pt x="12179" y="5953"/>
                </a:cubicBezTo>
                <a:cubicBezTo>
                  <a:pt x="12130" y="6007"/>
                  <a:pt x="12119" y="6038"/>
                  <a:pt x="12055" y="6077"/>
                </a:cubicBezTo>
                <a:cubicBezTo>
                  <a:pt x="12008" y="6106"/>
                  <a:pt x="11976" y="6148"/>
                  <a:pt x="11931" y="6176"/>
                </a:cubicBezTo>
                <a:cubicBezTo>
                  <a:pt x="11875" y="6211"/>
                  <a:pt x="11813" y="6228"/>
                  <a:pt x="11757" y="6251"/>
                </a:cubicBezTo>
                <a:cubicBezTo>
                  <a:pt x="11676" y="6285"/>
                  <a:pt x="11597" y="6276"/>
                  <a:pt x="11509" y="6276"/>
                </a:cubicBezTo>
                <a:cubicBezTo>
                  <a:pt x="11404" y="6276"/>
                  <a:pt x="11310" y="6279"/>
                  <a:pt x="11212" y="6251"/>
                </a:cubicBezTo>
                <a:cubicBezTo>
                  <a:pt x="11113" y="6223"/>
                  <a:pt x="11071" y="6224"/>
                  <a:pt x="10988" y="6176"/>
                </a:cubicBezTo>
                <a:cubicBezTo>
                  <a:pt x="10942" y="6150"/>
                  <a:pt x="10903" y="6114"/>
                  <a:pt x="10864" y="6077"/>
                </a:cubicBezTo>
                <a:cubicBezTo>
                  <a:pt x="10806" y="6022"/>
                  <a:pt x="10796" y="5988"/>
                  <a:pt x="10765" y="5928"/>
                </a:cubicBezTo>
                <a:cubicBezTo>
                  <a:pt x="10733" y="5867"/>
                  <a:pt x="10711" y="5820"/>
                  <a:pt x="10691" y="5755"/>
                </a:cubicBezTo>
                <a:cubicBezTo>
                  <a:pt x="10673" y="5697"/>
                  <a:pt x="10666" y="5651"/>
                  <a:pt x="10666" y="5581"/>
                </a:cubicBezTo>
                <a:cubicBezTo>
                  <a:pt x="10666" y="5501"/>
                  <a:pt x="10695" y="5473"/>
                  <a:pt x="10716" y="5407"/>
                </a:cubicBezTo>
                <a:cubicBezTo>
                  <a:pt x="10736" y="5343"/>
                  <a:pt x="10763" y="5304"/>
                  <a:pt x="10790" y="5234"/>
                </a:cubicBezTo>
                <a:cubicBezTo>
                  <a:pt x="10829" y="5132"/>
                  <a:pt x="10839" y="5148"/>
                  <a:pt x="10914" y="5085"/>
                </a:cubicBezTo>
                <a:cubicBezTo>
                  <a:pt x="10952" y="5054"/>
                  <a:pt x="11005" y="4954"/>
                  <a:pt x="11038" y="4936"/>
                </a:cubicBezTo>
                <a:cubicBezTo>
                  <a:pt x="11069" y="4920"/>
                  <a:pt x="11205" y="4847"/>
                  <a:pt x="11237" y="4837"/>
                </a:cubicBezTo>
                <a:cubicBezTo>
                  <a:pt x="11329" y="4810"/>
                  <a:pt x="11439" y="4782"/>
                  <a:pt x="11534" y="4762"/>
                </a:cubicBezTo>
                <a:cubicBezTo>
                  <a:pt x="11620" y="4744"/>
                  <a:pt x="11743" y="4718"/>
                  <a:pt x="11832" y="4738"/>
                </a:cubicBezTo>
                <a:cubicBezTo>
                  <a:pt x="11913" y="4756"/>
                  <a:pt x="12000" y="4766"/>
                  <a:pt x="12080" y="4787"/>
                </a:cubicBezTo>
                <a:cubicBezTo>
                  <a:pt x="12144" y="4804"/>
                  <a:pt x="12125" y="4805"/>
                  <a:pt x="12179" y="4837"/>
                </a:cubicBezTo>
              </a:path>
              <a:path w="3226" h="2730">
                <a:moveTo>
                  <a:pt x="11658" y="5507"/>
                </a:moveTo>
                <a:cubicBezTo>
                  <a:pt x="11715" y="5450"/>
                  <a:pt x="11761" y="5396"/>
                  <a:pt x="11832" y="5358"/>
                </a:cubicBezTo>
                <a:cubicBezTo>
                  <a:pt x="11889" y="5327"/>
                  <a:pt x="11910" y="5280"/>
                  <a:pt x="11956" y="5234"/>
                </a:cubicBezTo>
                <a:cubicBezTo>
                  <a:pt x="12005" y="5185"/>
                  <a:pt x="12071" y="5124"/>
                  <a:pt x="12129" y="5085"/>
                </a:cubicBezTo>
                <a:cubicBezTo>
                  <a:pt x="12205" y="5034"/>
                  <a:pt x="12262" y="4976"/>
                  <a:pt x="12328" y="4911"/>
                </a:cubicBezTo>
                <a:cubicBezTo>
                  <a:pt x="12401" y="4839"/>
                  <a:pt x="12475" y="4776"/>
                  <a:pt x="12551" y="4713"/>
                </a:cubicBezTo>
                <a:cubicBezTo>
                  <a:pt x="12611" y="4664"/>
                  <a:pt x="12669" y="4619"/>
                  <a:pt x="12725" y="4564"/>
                </a:cubicBezTo>
                <a:cubicBezTo>
                  <a:pt x="12764" y="4525"/>
                  <a:pt x="12804" y="4534"/>
                  <a:pt x="12849" y="4490"/>
                </a:cubicBezTo>
                <a:cubicBezTo>
                  <a:pt x="12872" y="4468"/>
                  <a:pt x="12867" y="4473"/>
                  <a:pt x="12898" y="4465"/>
                </a:cubicBezTo>
              </a:path>
              <a:path w="3226" h="2730">
                <a:moveTo>
                  <a:pt x="12502" y="4539"/>
                </a:moveTo>
                <a:cubicBezTo>
                  <a:pt x="12581" y="4493"/>
                  <a:pt x="12668" y="4506"/>
                  <a:pt x="12750" y="4465"/>
                </a:cubicBezTo>
                <a:cubicBezTo>
                  <a:pt x="12787" y="4446"/>
                  <a:pt x="12853" y="4419"/>
                  <a:pt x="12874" y="4490"/>
                </a:cubicBezTo>
                <a:cubicBezTo>
                  <a:pt x="12894" y="4560"/>
                  <a:pt x="12821" y="4634"/>
                  <a:pt x="12849" y="4713"/>
                </a:cubicBezTo>
                <a:cubicBezTo>
                  <a:pt x="12875" y="4784"/>
                  <a:pt x="12856" y="4774"/>
                  <a:pt x="12923" y="4762"/>
                </a:cubicBezTo>
              </a:path>
              <a:path w="3226" h="2730">
                <a:moveTo>
                  <a:pt x="13097" y="3919"/>
                </a:moveTo>
                <a:cubicBezTo>
                  <a:pt x="13080" y="4038"/>
                  <a:pt x="13061" y="4123"/>
                  <a:pt x="13072" y="4217"/>
                </a:cubicBezTo>
                <a:cubicBezTo>
                  <a:pt x="13081" y="4294"/>
                  <a:pt x="13133" y="4315"/>
                  <a:pt x="13196" y="4266"/>
                </a:cubicBezTo>
                <a:cubicBezTo>
                  <a:pt x="13246" y="4227"/>
                  <a:pt x="13285" y="4183"/>
                  <a:pt x="13295" y="4118"/>
                </a:cubicBezTo>
                <a:cubicBezTo>
                  <a:pt x="13295" y="4056"/>
                  <a:pt x="13304" y="4041"/>
                  <a:pt x="13271" y="4018"/>
                </a:cubicBezTo>
                <a:cubicBezTo>
                  <a:pt x="13253" y="4067"/>
                  <a:pt x="13205" y="4164"/>
                  <a:pt x="13221" y="4217"/>
                </a:cubicBezTo>
                <a:cubicBezTo>
                  <a:pt x="13244" y="4240"/>
                  <a:pt x="13248" y="4248"/>
                  <a:pt x="13271" y="4242"/>
                </a:cubicBezTo>
              </a:path>
              <a:path w="3226" h="2730">
                <a:moveTo>
                  <a:pt x="13543" y="3770"/>
                </a:moveTo>
                <a:cubicBezTo>
                  <a:pt x="13452" y="3782"/>
                  <a:pt x="13406" y="3797"/>
                  <a:pt x="13444" y="3894"/>
                </a:cubicBezTo>
                <a:cubicBezTo>
                  <a:pt x="13481" y="3988"/>
                  <a:pt x="13572" y="3990"/>
                  <a:pt x="13618" y="4068"/>
                </a:cubicBezTo>
                <a:cubicBezTo>
                  <a:pt x="13650" y="4121"/>
                  <a:pt x="13659" y="4209"/>
                  <a:pt x="13667" y="4266"/>
                </a:cubicBezTo>
                <a:cubicBezTo>
                  <a:pt x="13585" y="4256"/>
                  <a:pt x="13539" y="4233"/>
                  <a:pt x="13519" y="4142"/>
                </a:cubicBezTo>
                <a:cubicBezTo>
                  <a:pt x="13504" y="4074"/>
                  <a:pt x="13564" y="4023"/>
                  <a:pt x="13593" y="3969"/>
                </a:cubicBezTo>
                <a:cubicBezTo>
                  <a:pt x="13620" y="3919"/>
                  <a:pt x="13623" y="3873"/>
                  <a:pt x="13643" y="3820"/>
                </a:cubicBezTo>
              </a:path>
              <a:path w="3226" h="2730">
                <a:moveTo>
                  <a:pt x="13742" y="3621"/>
                </a:moveTo>
                <a:cubicBezTo>
                  <a:pt x="13725" y="3654"/>
                  <a:pt x="13709" y="3688"/>
                  <a:pt x="13692" y="3721"/>
                </a:cubicBezTo>
                <a:cubicBezTo>
                  <a:pt x="13771" y="3751"/>
                  <a:pt x="13782" y="3755"/>
                  <a:pt x="13841" y="3696"/>
                </a:cubicBezTo>
                <a:cubicBezTo>
                  <a:pt x="13881" y="3656"/>
                  <a:pt x="13958" y="3519"/>
                  <a:pt x="13841" y="3572"/>
                </a:cubicBezTo>
                <a:cubicBezTo>
                  <a:pt x="13833" y="3580"/>
                  <a:pt x="13824" y="3589"/>
                  <a:pt x="13816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29" name="Ink 15"/>
          <p:cNvSpPr/>
          <p:nvPr/>
        </p:nvSpPr>
        <p:spPr>
          <a:xfrm>
            <a:off x="3919680" y="2081160"/>
            <a:ext cx="411120" cy="142920"/>
          </a:xfrm>
          <a:custGeom>
            <a:avLst/>
            <a:gdLst/>
            <a:ahLst/>
            <a:rect l="l" t="t" r="r" b="b"/>
            <a:pathLst>
              <a:path w="1142" h="398">
                <a:moveTo>
                  <a:pt x="10889" y="5953"/>
                </a:moveTo>
                <a:cubicBezTo>
                  <a:pt x="10974" y="5947"/>
                  <a:pt x="11030" y="5936"/>
                  <a:pt x="11112" y="5928"/>
                </a:cubicBezTo>
              </a:path>
              <a:path w="1142" h="398">
                <a:moveTo>
                  <a:pt x="11162" y="5804"/>
                </a:moveTo>
                <a:cubicBezTo>
                  <a:pt x="11205" y="5782"/>
                  <a:pt x="11304" y="5757"/>
                  <a:pt x="11361" y="5779"/>
                </a:cubicBezTo>
                <a:cubicBezTo>
                  <a:pt x="11422" y="5803"/>
                  <a:pt x="11405" y="5884"/>
                  <a:pt x="11385" y="5928"/>
                </a:cubicBezTo>
                <a:cubicBezTo>
                  <a:pt x="11363" y="5978"/>
                  <a:pt x="11278" y="6011"/>
                  <a:pt x="11237" y="6052"/>
                </a:cubicBezTo>
                <a:cubicBezTo>
                  <a:pt x="11174" y="6115"/>
                  <a:pt x="11329" y="6077"/>
                  <a:pt x="11361" y="6077"/>
                </a:cubicBezTo>
              </a:path>
              <a:path w="1142" h="398">
                <a:moveTo>
                  <a:pt x="11658" y="5804"/>
                </a:moveTo>
                <a:cubicBezTo>
                  <a:pt x="11580" y="5812"/>
                  <a:pt x="11547" y="5828"/>
                  <a:pt x="11485" y="5879"/>
                </a:cubicBezTo>
                <a:cubicBezTo>
                  <a:pt x="11440" y="5923"/>
                  <a:pt x="11423" y="5933"/>
                  <a:pt x="11435" y="5978"/>
                </a:cubicBezTo>
                <a:cubicBezTo>
                  <a:pt x="11471" y="6000"/>
                  <a:pt x="11552" y="6035"/>
                  <a:pt x="11584" y="5978"/>
                </a:cubicBezTo>
                <a:cubicBezTo>
                  <a:pt x="11607" y="5911"/>
                  <a:pt x="11612" y="5893"/>
                  <a:pt x="11633" y="5854"/>
                </a:cubicBezTo>
                <a:cubicBezTo>
                  <a:pt x="11633" y="5942"/>
                  <a:pt x="11624" y="6021"/>
                  <a:pt x="11658" y="6102"/>
                </a:cubicBezTo>
                <a:cubicBezTo>
                  <a:pt x="11680" y="6146"/>
                  <a:pt x="11683" y="6157"/>
                  <a:pt x="11708" y="6176"/>
                </a:cubicBezTo>
              </a:path>
              <a:path w="1142" h="398">
                <a:moveTo>
                  <a:pt x="11757" y="5854"/>
                </a:moveTo>
                <a:cubicBezTo>
                  <a:pt x="11818" y="5793"/>
                  <a:pt x="11834" y="5805"/>
                  <a:pt x="11906" y="5854"/>
                </a:cubicBezTo>
                <a:cubicBezTo>
                  <a:pt x="11876" y="5922"/>
                  <a:pt x="11859" y="5976"/>
                  <a:pt x="11807" y="6028"/>
                </a:cubicBezTo>
                <a:cubicBezTo>
                  <a:pt x="11857" y="6028"/>
                  <a:pt x="11873" y="6028"/>
                  <a:pt x="11906" y="6028"/>
                </a:cubicBezTo>
              </a:path>
              <a:path w="1142" h="398">
                <a:moveTo>
                  <a:pt x="11981" y="5829"/>
                </a:moveTo>
                <a:cubicBezTo>
                  <a:pt x="11956" y="5854"/>
                  <a:pt x="11948" y="5862"/>
                  <a:pt x="11981" y="5879"/>
                </a:cubicBezTo>
                <a:cubicBezTo>
                  <a:pt x="12023" y="5836"/>
                  <a:pt x="12028" y="5851"/>
                  <a:pt x="12005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0" name="Ink 16"/>
          <p:cNvSpPr/>
          <p:nvPr/>
        </p:nvSpPr>
        <p:spPr>
          <a:xfrm>
            <a:off x="4518000" y="1633680"/>
            <a:ext cx="1455840" cy="322200"/>
          </a:xfrm>
          <a:custGeom>
            <a:avLst/>
            <a:gdLst/>
            <a:ahLst/>
            <a:rect l="l" t="t" r="r" b="b"/>
            <a:pathLst>
              <a:path w="4044" h="894">
                <a:moveTo>
                  <a:pt x="12799" y="5432"/>
                </a:moveTo>
                <a:cubicBezTo>
                  <a:pt x="12832" y="5377"/>
                  <a:pt x="12824" y="5327"/>
                  <a:pt x="12824" y="5259"/>
                </a:cubicBezTo>
                <a:cubicBezTo>
                  <a:pt x="12824" y="5190"/>
                  <a:pt x="12829" y="5141"/>
                  <a:pt x="12799" y="5085"/>
                </a:cubicBezTo>
                <a:cubicBezTo>
                  <a:pt x="12772" y="5035"/>
                  <a:pt x="12737" y="4943"/>
                  <a:pt x="12725" y="4887"/>
                </a:cubicBezTo>
                <a:cubicBezTo>
                  <a:pt x="12725" y="4842"/>
                  <a:pt x="12728" y="4829"/>
                  <a:pt x="12700" y="4812"/>
                </a:cubicBezTo>
                <a:cubicBezTo>
                  <a:pt x="12675" y="4878"/>
                  <a:pt x="12662" y="4904"/>
                  <a:pt x="12626" y="4961"/>
                </a:cubicBezTo>
                <a:cubicBezTo>
                  <a:pt x="12621" y="4969"/>
                  <a:pt x="12526" y="5119"/>
                  <a:pt x="12576" y="5035"/>
                </a:cubicBezTo>
                <a:cubicBezTo>
                  <a:pt x="12606" y="4985"/>
                  <a:pt x="12640" y="4933"/>
                  <a:pt x="12675" y="4887"/>
                </a:cubicBezTo>
                <a:cubicBezTo>
                  <a:pt x="12710" y="4841"/>
                  <a:pt x="12704" y="4808"/>
                  <a:pt x="12750" y="4762"/>
                </a:cubicBezTo>
                <a:cubicBezTo>
                  <a:pt x="12797" y="4801"/>
                  <a:pt x="12887" y="4873"/>
                  <a:pt x="12948" y="4887"/>
                </a:cubicBezTo>
                <a:cubicBezTo>
                  <a:pt x="12993" y="4887"/>
                  <a:pt x="13006" y="4883"/>
                  <a:pt x="13022" y="4911"/>
                </a:cubicBezTo>
              </a:path>
              <a:path w="4044" h="894">
                <a:moveTo>
                  <a:pt x="13519" y="5110"/>
                </a:moveTo>
                <a:cubicBezTo>
                  <a:pt x="13670" y="5110"/>
                  <a:pt x="14157" y="5191"/>
                  <a:pt x="14263" y="5085"/>
                </a:cubicBezTo>
                <a:cubicBezTo>
                  <a:pt x="14255" y="5085"/>
                  <a:pt x="14246" y="5085"/>
                  <a:pt x="14238" y="5085"/>
                </a:cubicBezTo>
              </a:path>
              <a:path w="4044" h="894">
                <a:moveTo>
                  <a:pt x="13568" y="4911"/>
                </a:moveTo>
                <a:cubicBezTo>
                  <a:pt x="13568" y="5018"/>
                  <a:pt x="13568" y="5056"/>
                  <a:pt x="13494" y="5135"/>
                </a:cubicBezTo>
                <a:cubicBezTo>
                  <a:pt x="13463" y="5168"/>
                  <a:pt x="13455" y="5198"/>
                  <a:pt x="13419" y="5234"/>
                </a:cubicBezTo>
                <a:cubicBezTo>
                  <a:pt x="13487" y="5288"/>
                  <a:pt x="13519" y="5262"/>
                  <a:pt x="13593" y="5283"/>
                </a:cubicBezTo>
                <a:cubicBezTo>
                  <a:pt x="13681" y="5307"/>
                  <a:pt x="13748" y="5333"/>
                  <a:pt x="13841" y="5333"/>
                </a:cubicBezTo>
              </a:path>
              <a:path w="4044" h="894">
                <a:moveTo>
                  <a:pt x="14337" y="4911"/>
                </a:moveTo>
                <a:cubicBezTo>
                  <a:pt x="14301" y="4990"/>
                  <a:pt x="14241" y="5046"/>
                  <a:pt x="14238" y="5135"/>
                </a:cubicBezTo>
                <a:cubicBezTo>
                  <a:pt x="14234" y="5256"/>
                  <a:pt x="14210" y="5304"/>
                  <a:pt x="14312" y="5358"/>
                </a:cubicBezTo>
                <a:cubicBezTo>
                  <a:pt x="14397" y="5403"/>
                  <a:pt x="14454" y="5372"/>
                  <a:pt x="14536" y="5333"/>
                </a:cubicBezTo>
                <a:cubicBezTo>
                  <a:pt x="14613" y="5296"/>
                  <a:pt x="14623" y="5215"/>
                  <a:pt x="14635" y="5135"/>
                </a:cubicBezTo>
                <a:cubicBezTo>
                  <a:pt x="14646" y="5058"/>
                  <a:pt x="14627" y="4976"/>
                  <a:pt x="14585" y="4911"/>
                </a:cubicBezTo>
                <a:cubicBezTo>
                  <a:pt x="14534" y="4833"/>
                  <a:pt x="14420" y="4855"/>
                  <a:pt x="14362" y="4862"/>
                </a:cubicBezTo>
                <a:cubicBezTo>
                  <a:pt x="14317" y="4862"/>
                  <a:pt x="14304" y="4858"/>
                  <a:pt x="14288" y="4887"/>
                </a:cubicBezTo>
              </a:path>
              <a:path w="4044" h="894">
                <a:moveTo>
                  <a:pt x="14089" y="5110"/>
                </a:moveTo>
                <a:cubicBezTo>
                  <a:pt x="14272" y="5149"/>
                  <a:pt x="14400" y="5159"/>
                  <a:pt x="14585" y="5159"/>
                </a:cubicBezTo>
                <a:cubicBezTo>
                  <a:pt x="14635" y="5159"/>
                  <a:pt x="14651" y="5159"/>
                  <a:pt x="14684" y="5159"/>
                </a:cubicBezTo>
              </a:path>
              <a:path w="4044" h="894">
                <a:moveTo>
                  <a:pt x="14784" y="4539"/>
                </a:moveTo>
                <a:cubicBezTo>
                  <a:pt x="14784" y="4618"/>
                  <a:pt x="14763" y="4685"/>
                  <a:pt x="14759" y="4762"/>
                </a:cubicBezTo>
                <a:cubicBezTo>
                  <a:pt x="14759" y="4779"/>
                  <a:pt x="14759" y="4795"/>
                  <a:pt x="14759" y="4812"/>
                </a:cubicBezTo>
              </a:path>
              <a:path w="4044" h="894">
                <a:moveTo>
                  <a:pt x="15180" y="4961"/>
                </a:moveTo>
                <a:cubicBezTo>
                  <a:pt x="15250" y="4980"/>
                  <a:pt x="15307" y="5010"/>
                  <a:pt x="15354" y="4986"/>
                </a:cubicBezTo>
              </a:path>
              <a:path w="4044" h="894">
                <a:moveTo>
                  <a:pt x="15156" y="5135"/>
                </a:moveTo>
                <a:cubicBezTo>
                  <a:pt x="15242" y="5119"/>
                  <a:pt x="15323" y="5109"/>
                  <a:pt x="15404" y="5085"/>
                </a:cubicBezTo>
              </a:path>
              <a:path w="4044" h="894">
                <a:moveTo>
                  <a:pt x="15652" y="4738"/>
                </a:moveTo>
                <a:cubicBezTo>
                  <a:pt x="15642" y="4828"/>
                  <a:pt x="15606" y="4900"/>
                  <a:pt x="15577" y="4986"/>
                </a:cubicBezTo>
                <a:cubicBezTo>
                  <a:pt x="15548" y="5071"/>
                  <a:pt x="15553" y="5145"/>
                  <a:pt x="15553" y="5234"/>
                </a:cubicBezTo>
                <a:cubicBezTo>
                  <a:pt x="15553" y="5302"/>
                  <a:pt x="15588" y="5332"/>
                  <a:pt x="15652" y="5358"/>
                </a:cubicBezTo>
                <a:cubicBezTo>
                  <a:pt x="15762" y="5403"/>
                  <a:pt x="15842" y="5354"/>
                  <a:pt x="15900" y="5259"/>
                </a:cubicBezTo>
                <a:cubicBezTo>
                  <a:pt x="15935" y="5202"/>
                  <a:pt x="15940" y="5135"/>
                  <a:pt x="15900" y="5085"/>
                </a:cubicBezTo>
                <a:cubicBezTo>
                  <a:pt x="15852" y="5026"/>
                  <a:pt x="15814" y="5072"/>
                  <a:pt x="15776" y="5110"/>
                </a:cubicBezTo>
                <a:cubicBezTo>
                  <a:pt x="15721" y="5165"/>
                  <a:pt x="15718" y="5198"/>
                  <a:pt x="15751" y="5259"/>
                </a:cubicBezTo>
                <a:cubicBezTo>
                  <a:pt x="15759" y="5275"/>
                  <a:pt x="15768" y="5292"/>
                  <a:pt x="15776" y="5308"/>
                </a:cubicBezTo>
              </a:path>
              <a:path w="4044" h="894">
                <a:moveTo>
                  <a:pt x="16222" y="4762"/>
                </a:moveTo>
                <a:cubicBezTo>
                  <a:pt x="16172" y="4765"/>
                  <a:pt x="16001" y="4742"/>
                  <a:pt x="15974" y="4837"/>
                </a:cubicBezTo>
                <a:cubicBezTo>
                  <a:pt x="15948" y="4927"/>
                  <a:pt x="16056" y="4999"/>
                  <a:pt x="16098" y="5060"/>
                </a:cubicBezTo>
                <a:cubicBezTo>
                  <a:pt x="16140" y="5122"/>
                  <a:pt x="16227" y="5186"/>
                  <a:pt x="16247" y="5259"/>
                </a:cubicBezTo>
                <a:cubicBezTo>
                  <a:pt x="16247" y="5275"/>
                  <a:pt x="16247" y="5292"/>
                  <a:pt x="16247" y="5308"/>
                </a:cubicBezTo>
                <a:cubicBezTo>
                  <a:pt x="16216" y="5314"/>
                  <a:pt x="16117" y="5344"/>
                  <a:pt x="16098" y="5283"/>
                </a:cubicBezTo>
                <a:cubicBezTo>
                  <a:pt x="16088" y="5250"/>
                  <a:pt x="16103" y="5131"/>
                  <a:pt x="16123" y="5110"/>
                </a:cubicBezTo>
                <a:cubicBezTo>
                  <a:pt x="16179" y="5050"/>
                  <a:pt x="16245" y="5005"/>
                  <a:pt x="16297" y="4936"/>
                </a:cubicBezTo>
                <a:cubicBezTo>
                  <a:pt x="16331" y="4901"/>
                  <a:pt x="16344" y="4878"/>
                  <a:pt x="16346" y="4837"/>
                </a:cubicBezTo>
              </a:path>
              <a:path w="4044" h="894">
                <a:moveTo>
                  <a:pt x="16446" y="4638"/>
                </a:moveTo>
                <a:cubicBezTo>
                  <a:pt x="16436" y="4665"/>
                  <a:pt x="16389" y="4812"/>
                  <a:pt x="16470" y="4812"/>
                </a:cubicBezTo>
                <a:cubicBezTo>
                  <a:pt x="16501" y="4812"/>
                  <a:pt x="16598" y="4767"/>
                  <a:pt x="16594" y="4713"/>
                </a:cubicBezTo>
                <a:cubicBezTo>
                  <a:pt x="16590" y="4657"/>
                  <a:pt x="16475" y="4653"/>
                  <a:pt x="16446" y="46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1" name="Ink 17"/>
          <p:cNvSpPr/>
          <p:nvPr/>
        </p:nvSpPr>
        <p:spPr>
          <a:xfrm>
            <a:off x="6732720" y="2303640"/>
            <a:ext cx="2278080" cy="1697040"/>
          </a:xfrm>
          <a:custGeom>
            <a:avLst/>
            <a:gdLst/>
            <a:ahLst/>
            <a:rect l="l" t="t" r="r" b="b"/>
            <a:pathLst>
              <a:path w="6326" h="4713">
                <a:moveTo>
                  <a:pt x="19397" y="6548"/>
                </a:moveTo>
                <a:cubicBezTo>
                  <a:pt x="19292" y="6664"/>
                  <a:pt x="19178" y="6760"/>
                  <a:pt x="19100" y="6896"/>
                </a:cubicBezTo>
                <a:cubicBezTo>
                  <a:pt x="19021" y="7034"/>
                  <a:pt x="18936" y="7162"/>
                  <a:pt x="18901" y="7317"/>
                </a:cubicBezTo>
                <a:cubicBezTo>
                  <a:pt x="18850" y="7543"/>
                  <a:pt x="18745" y="7752"/>
                  <a:pt x="18728" y="7987"/>
                </a:cubicBezTo>
                <a:cubicBezTo>
                  <a:pt x="18714" y="8174"/>
                  <a:pt x="18685" y="8370"/>
                  <a:pt x="18703" y="8558"/>
                </a:cubicBezTo>
                <a:cubicBezTo>
                  <a:pt x="18720" y="8745"/>
                  <a:pt x="18729" y="8928"/>
                  <a:pt x="18802" y="9103"/>
                </a:cubicBezTo>
                <a:cubicBezTo>
                  <a:pt x="18881" y="9293"/>
                  <a:pt x="18993" y="9466"/>
                  <a:pt x="19124" y="9624"/>
                </a:cubicBezTo>
                <a:cubicBezTo>
                  <a:pt x="19229" y="9751"/>
                  <a:pt x="19414" y="9915"/>
                  <a:pt x="19571" y="9971"/>
                </a:cubicBezTo>
                <a:cubicBezTo>
                  <a:pt x="19736" y="10030"/>
                  <a:pt x="19941" y="10083"/>
                  <a:pt x="20117" y="10096"/>
                </a:cubicBezTo>
                <a:cubicBezTo>
                  <a:pt x="20322" y="10112"/>
                  <a:pt x="20493" y="10084"/>
                  <a:pt x="20687" y="10021"/>
                </a:cubicBezTo>
                <a:cubicBezTo>
                  <a:pt x="20924" y="9944"/>
                  <a:pt x="21162" y="9897"/>
                  <a:pt x="21357" y="9723"/>
                </a:cubicBezTo>
                <a:cubicBezTo>
                  <a:pt x="21555" y="9546"/>
                  <a:pt x="21683" y="9398"/>
                  <a:pt x="21853" y="9178"/>
                </a:cubicBezTo>
                <a:cubicBezTo>
                  <a:pt x="22005" y="8981"/>
                  <a:pt x="22079" y="8707"/>
                  <a:pt x="22101" y="8458"/>
                </a:cubicBezTo>
                <a:cubicBezTo>
                  <a:pt x="22123" y="8206"/>
                  <a:pt x="22055" y="7978"/>
                  <a:pt x="22002" y="7739"/>
                </a:cubicBezTo>
                <a:cubicBezTo>
                  <a:pt x="21961" y="7552"/>
                  <a:pt x="21849" y="7325"/>
                  <a:pt x="21729" y="7169"/>
                </a:cubicBezTo>
                <a:cubicBezTo>
                  <a:pt x="21598" y="6999"/>
                  <a:pt x="21399" y="6852"/>
                  <a:pt x="21233" y="6722"/>
                </a:cubicBezTo>
                <a:cubicBezTo>
                  <a:pt x="21073" y="6596"/>
                  <a:pt x="20884" y="6506"/>
                  <a:pt x="20687" y="6449"/>
                </a:cubicBezTo>
                <a:cubicBezTo>
                  <a:pt x="20491" y="6393"/>
                  <a:pt x="20293" y="6400"/>
                  <a:pt x="20092" y="6400"/>
                </a:cubicBezTo>
                <a:cubicBezTo>
                  <a:pt x="19873" y="6400"/>
                  <a:pt x="19670" y="6507"/>
                  <a:pt x="19521" y="6648"/>
                </a:cubicBezTo>
                <a:cubicBezTo>
                  <a:pt x="19505" y="6673"/>
                  <a:pt x="19488" y="6697"/>
                  <a:pt x="19472" y="6722"/>
                </a:cubicBezTo>
              </a:path>
              <a:path w="6326" h="4713">
                <a:moveTo>
                  <a:pt x="20191" y="8285"/>
                </a:moveTo>
                <a:cubicBezTo>
                  <a:pt x="20279" y="8298"/>
                  <a:pt x="20367" y="8323"/>
                  <a:pt x="20464" y="8334"/>
                </a:cubicBezTo>
                <a:cubicBezTo>
                  <a:pt x="20556" y="8344"/>
                  <a:pt x="20647" y="8356"/>
                  <a:pt x="20737" y="8359"/>
                </a:cubicBezTo>
                <a:cubicBezTo>
                  <a:pt x="21203" y="8374"/>
                  <a:pt x="22526" y="8574"/>
                  <a:pt x="22126" y="8334"/>
                </a:cubicBezTo>
                <a:cubicBezTo>
                  <a:pt x="22109" y="8334"/>
                  <a:pt x="22093" y="8334"/>
                  <a:pt x="22076" y="8334"/>
                </a:cubicBezTo>
              </a:path>
              <a:path w="6326" h="4713">
                <a:moveTo>
                  <a:pt x="20588" y="8260"/>
                </a:moveTo>
                <a:cubicBezTo>
                  <a:pt x="20558" y="8210"/>
                  <a:pt x="20562" y="8160"/>
                  <a:pt x="20538" y="8111"/>
                </a:cubicBezTo>
                <a:cubicBezTo>
                  <a:pt x="20522" y="8079"/>
                  <a:pt x="20446" y="8074"/>
                  <a:pt x="20414" y="8062"/>
                </a:cubicBezTo>
              </a:path>
              <a:path w="6326" h="4713">
                <a:moveTo>
                  <a:pt x="20414" y="8210"/>
                </a:moveTo>
                <a:cubicBezTo>
                  <a:pt x="20407" y="8133"/>
                  <a:pt x="20422" y="8130"/>
                  <a:pt x="20340" y="8086"/>
                </a:cubicBezTo>
                <a:cubicBezTo>
                  <a:pt x="20293" y="8061"/>
                  <a:pt x="20239" y="8022"/>
                  <a:pt x="20191" y="8012"/>
                </a:cubicBezTo>
                <a:cubicBezTo>
                  <a:pt x="20142" y="8002"/>
                  <a:pt x="20051" y="8033"/>
                  <a:pt x="20017" y="8062"/>
                </a:cubicBezTo>
                <a:cubicBezTo>
                  <a:pt x="19981" y="8093"/>
                  <a:pt x="19930" y="8138"/>
                  <a:pt x="19918" y="8186"/>
                </a:cubicBezTo>
                <a:cubicBezTo>
                  <a:pt x="19901" y="8256"/>
                  <a:pt x="19893" y="8304"/>
                  <a:pt x="19893" y="8384"/>
                </a:cubicBezTo>
                <a:cubicBezTo>
                  <a:pt x="19893" y="8451"/>
                  <a:pt x="19929" y="8526"/>
                  <a:pt x="19968" y="8582"/>
                </a:cubicBezTo>
                <a:cubicBezTo>
                  <a:pt x="20010" y="8642"/>
                  <a:pt x="20055" y="8641"/>
                  <a:pt x="20117" y="8657"/>
                </a:cubicBezTo>
                <a:cubicBezTo>
                  <a:pt x="20171" y="8671"/>
                  <a:pt x="20224" y="8702"/>
                  <a:pt x="20290" y="8706"/>
                </a:cubicBezTo>
                <a:cubicBezTo>
                  <a:pt x="20374" y="8711"/>
                  <a:pt x="20392" y="8691"/>
                  <a:pt x="20464" y="8657"/>
                </a:cubicBezTo>
                <a:cubicBezTo>
                  <a:pt x="20509" y="8636"/>
                  <a:pt x="20589" y="8608"/>
                  <a:pt x="20613" y="8558"/>
                </a:cubicBezTo>
                <a:cubicBezTo>
                  <a:pt x="20643" y="8495"/>
                  <a:pt x="20637" y="8424"/>
                  <a:pt x="20662" y="8359"/>
                </a:cubicBezTo>
                <a:cubicBezTo>
                  <a:pt x="20682" y="8306"/>
                  <a:pt x="20708" y="8271"/>
                  <a:pt x="20712" y="8210"/>
                </a:cubicBezTo>
                <a:cubicBezTo>
                  <a:pt x="20716" y="8143"/>
                  <a:pt x="20716" y="8091"/>
                  <a:pt x="20687" y="8037"/>
                </a:cubicBezTo>
                <a:cubicBezTo>
                  <a:pt x="20655" y="7977"/>
                  <a:pt x="20634" y="7914"/>
                  <a:pt x="20588" y="7863"/>
                </a:cubicBezTo>
                <a:cubicBezTo>
                  <a:pt x="20538" y="7808"/>
                  <a:pt x="20474" y="7799"/>
                  <a:pt x="20414" y="7764"/>
                </a:cubicBezTo>
                <a:cubicBezTo>
                  <a:pt x="20354" y="7729"/>
                  <a:pt x="20289" y="7739"/>
                  <a:pt x="20216" y="7739"/>
                </a:cubicBezTo>
                <a:cubicBezTo>
                  <a:pt x="20109" y="7739"/>
                  <a:pt x="20082" y="7753"/>
                  <a:pt x="19993" y="7789"/>
                </a:cubicBezTo>
                <a:cubicBezTo>
                  <a:pt x="19918" y="7819"/>
                  <a:pt x="19854" y="7857"/>
                  <a:pt x="19794" y="7913"/>
                </a:cubicBezTo>
                <a:cubicBezTo>
                  <a:pt x="19730" y="7973"/>
                  <a:pt x="19716" y="7987"/>
                  <a:pt x="19695" y="8062"/>
                </a:cubicBezTo>
                <a:cubicBezTo>
                  <a:pt x="19678" y="8122"/>
                  <a:pt x="19649" y="8186"/>
                  <a:pt x="19645" y="8260"/>
                </a:cubicBezTo>
                <a:cubicBezTo>
                  <a:pt x="19641" y="8338"/>
                  <a:pt x="19621" y="8400"/>
                  <a:pt x="19621" y="8483"/>
                </a:cubicBezTo>
                <a:cubicBezTo>
                  <a:pt x="19621" y="8555"/>
                  <a:pt x="19637" y="8625"/>
                  <a:pt x="19645" y="8682"/>
                </a:cubicBezTo>
                <a:cubicBezTo>
                  <a:pt x="19656" y="8762"/>
                  <a:pt x="19643" y="8769"/>
                  <a:pt x="19695" y="8830"/>
                </a:cubicBezTo>
                <a:cubicBezTo>
                  <a:pt x="19732" y="8874"/>
                  <a:pt x="19788" y="8915"/>
                  <a:pt x="19844" y="8930"/>
                </a:cubicBezTo>
                <a:cubicBezTo>
                  <a:pt x="19904" y="8946"/>
                  <a:pt x="19976" y="8975"/>
                  <a:pt x="20042" y="8979"/>
                </a:cubicBezTo>
                <a:cubicBezTo>
                  <a:pt x="20162" y="8986"/>
                  <a:pt x="20285" y="8969"/>
                  <a:pt x="20389" y="8954"/>
                </a:cubicBezTo>
                <a:cubicBezTo>
                  <a:pt x="20471" y="8942"/>
                  <a:pt x="20445" y="8887"/>
                  <a:pt x="20513" y="8855"/>
                </a:cubicBezTo>
                <a:cubicBezTo>
                  <a:pt x="20555" y="8855"/>
                  <a:pt x="20580" y="8855"/>
                  <a:pt x="20538" y="8855"/>
                </a:cubicBezTo>
              </a:path>
              <a:path w="6326" h="4713">
                <a:moveTo>
                  <a:pt x="20241" y="8384"/>
                </a:moveTo>
                <a:cubicBezTo>
                  <a:pt x="20289" y="8434"/>
                  <a:pt x="20325" y="8478"/>
                  <a:pt x="20365" y="8533"/>
                </a:cubicBezTo>
                <a:cubicBezTo>
                  <a:pt x="20413" y="8598"/>
                  <a:pt x="20433" y="8669"/>
                  <a:pt x="20464" y="8731"/>
                </a:cubicBezTo>
                <a:cubicBezTo>
                  <a:pt x="20507" y="8816"/>
                  <a:pt x="20628" y="8901"/>
                  <a:pt x="20687" y="8979"/>
                </a:cubicBezTo>
                <a:cubicBezTo>
                  <a:pt x="20725" y="9029"/>
                  <a:pt x="20795" y="9062"/>
                  <a:pt x="20811" y="9128"/>
                </a:cubicBezTo>
                <a:cubicBezTo>
                  <a:pt x="20828" y="9200"/>
                  <a:pt x="20843" y="9193"/>
                  <a:pt x="20886" y="9252"/>
                </a:cubicBezTo>
                <a:cubicBezTo>
                  <a:pt x="20934" y="9318"/>
                  <a:pt x="20976" y="9368"/>
                  <a:pt x="21034" y="9426"/>
                </a:cubicBezTo>
                <a:cubicBezTo>
                  <a:pt x="21073" y="9466"/>
                  <a:pt x="21118" y="9488"/>
                  <a:pt x="21158" y="9525"/>
                </a:cubicBezTo>
                <a:cubicBezTo>
                  <a:pt x="21193" y="9556"/>
                  <a:pt x="21225" y="9591"/>
                  <a:pt x="21258" y="9624"/>
                </a:cubicBezTo>
              </a:path>
              <a:path w="6326" h="4713">
                <a:moveTo>
                  <a:pt x="20985" y="9674"/>
                </a:moveTo>
                <a:cubicBezTo>
                  <a:pt x="21042" y="9731"/>
                  <a:pt x="21065" y="9748"/>
                  <a:pt x="21134" y="9773"/>
                </a:cubicBezTo>
                <a:cubicBezTo>
                  <a:pt x="21169" y="9786"/>
                  <a:pt x="21284" y="9837"/>
                  <a:pt x="21307" y="9773"/>
                </a:cubicBezTo>
                <a:cubicBezTo>
                  <a:pt x="21325" y="9723"/>
                  <a:pt x="21372" y="9601"/>
                  <a:pt x="21382" y="9550"/>
                </a:cubicBezTo>
                <a:cubicBezTo>
                  <a:pt x="21396" y="9482"/>
                  <a:pt x="21372" y="9436"/>
                  <a:pt x="21406" y="9376"/>
                </a:cubicBezTo>
              </a:path>
              <a:path w="6326" h="4713">
                <a:moveTo>
                  <a:pt x="21332" y="10021"/>
                </a:moveTo>
                <a:cubicBezTo>
                  <a:pt x="21361" y="9985"/>
                  <a:pt x="21430" y="9930"/>
                  <a:pt x="21456" y="10021"/>
                </a:cubicBezTo>
                <a:cubicBezTo>
                  <a:pt x="21476" y="10092"/>
                  <a:pt x="21426" y="10149"/>
                  <a:pt x="21382" y="10195"/>
                </a:cubicBezTo>
                <a:cubicBezTo>
                  <a:pt x="21426" y="10195"/>
                  <a:pt x="21560" y="10167"/>
                  <a:pt x="21580" y="10220"/>
                </a:cubicBezTo>
                <a:cubicBezTo>
                  <a:pt x="21603" y="10281"/>
                  <a:pt x="21564" y="10347"/>
                  <a:pt x="21530" y="10393"/>
                </a:cubicBezTo>
                <a:cubicBezTo>
                  <a:pt x="21510" y="10420"/>
                  <a:pt x="21480" y="10444"/>
                  <a:pt x="21456" y="10468"/>
                </a:cubicBezTo>
              </a:path>
              <a:path w="6326" h="4713">
                <a:moveTo>
                  <a:pt x="21580" y="9996"/>
                </a:moveTo>
                <a:cubicBezTo>
                  <a:pt x="21616" y="10114"/>
                  <a:pt x="21630" y="10202"/>
                  <a:pt x="21704" y="10294"/>
                </a:cubicBezTo>
                <a:cubicBezTo>
                  <a:pt x="21773" y="10237"/>
                  <a:pt x="21768" y="10188"/>
                  <a:pt x="21729" y="10096"/>
                </a:cubicBezTo>
                <a:cubicBezTo>
                  <a:pt x="21699" y="10025"/>
                  <a:pt x="21668" y="9996"/>
                  <a:pt x="21605" y="10021"/>
                </a:cubicBezTo>
              </a:path>
              <a:path w="6326" h="4713">
                <a:moveTo>
                  <a:pt x="21754" y="9699"/>
                </a:moveTo>
                <a:cubicBezTo>
                  <a:pt x="21711" y="9769"/>
                  <a:pt x="21750" y="9837"/>
                  <a:pt x="21754" y="9922"/>
                </a:cubicBezTo>
                <a:cubicBezTo>
                  <a:pt x="21757" y="9979"/>
                  <a:pt x="21753" y="10105"/>
                  <a:pt x="21803" y="10145"/>
                </a:cubicBezTo>
                <a:cubicBezTo>
                  <a:pt x="21820" y="10145"/>
                  <a:pt x="21836" y="10145"/>
                  <a:pt x="21853" y="10145"/>
                </a:cubicBezTo>
                <a:cubicBezTo>
                  <a:pt x="21882" y="10068"/>
                  <a:pt x="21888" y="10025"/>
                  <a:pt x="21853" y="9947"/>
                </a:cubicBezTo>
                <a:cubicBezTo>
                  <a:pt x="21834" y="9904"/>
                  <a:pt x="21833" y="9792"/>
                  <a:pt x="21779" y="9773"/>
                </a:cubicBezTo>
                <a:cubicBezTo>
                  <a:pt x="21705" y="9747"/>
                  <a:pt x="21713" y="9791"/>
                  <a:pt x="21729" y="9823"/>
                </a:cubicBezTo>
              </a:path>
              <a:path w="6326" h="4713">
                <a:moveTo>
                  <a:pt x="21803" y="9599"/>
                </a:moveTo>
                <a:cubicBezTo>
                  <a:pt x="21778" y="9678"/>
                  <a:pt x="21785" y="9670"/>
                  <a:pt x="21853" y="9699"/>
                </a:cubicBezTo>
                <a:cubicBezTo>
                  <a:pt x="21885" y="9614"/>
                  <a:pt x="21898" y="9588"/>
                  <a:pt x="21803" y="9575"/>
                </a:cubicBezTo>
              </a:path>
              <a:path w="6326" h="4713">
                <a:moveTo>
                  <a:pt x="21010" y="9302"/>
                </a:moveTo>
                <a:cubicBezTo>
                  <a:pt x="21062" y="9248"/>
                  <a:pt x="21098" y="9254"/>
                  <a:pt x="21158" y="9227"/>
                </a:cubicBezTo>
                <a:cubicBezTo>
                  <a:pt x="21259" y="9182"/>
                  <a:pt x="21340" y="9034"/>
                  <a:pt x="21406" y="8954"/>
                </a:cubicBezTo>
                <a:cubicBezTo>
                  <a:pt x="21441" y="8911"/>
                  <a:pt x="21538" y="8831"/>
                  <a:pt x="21555" y="8781"/>
                </a:cubicBezTo>
                <a:cubicBezTo>
                  <a:pt x="21576" y="8717"/>
                  <a:pt x="21529" y="8666"/>
                  <a:pt x="21580" y="8632"/>
                </a:cubicBezTo>
              </a:path>
              <a:path w="6326" h="4713">
                <a:moveTo>
                  <a:pt x="21382" y="8706"/>
                </a:moveTo>
                <a:cubicBezTo>
                  <a:pt x="21411" y="8655"/>
                  <a:pt x="21439" y="8623"/>
                  <a:pt x="21481" y="8582"/>
                </a:cubicBezTo>
                <a:cubicBezTo>
                  <a:pt x="21497" y="8567"/>
                  <a:pt x="21560" y="8430"/>
                  <a:pt x="21605" y="8483"/>
                </a:cubicBezTo>
                <a:cubicBezTo>
                  <a:pt x="21652" y="8538"/>
                  <a:pt x="21650" y="8649"/>
                  <a:pt x="21679" y="8706"/>
                </a:cubicBezTo>
                <a:cubicBezTo>
                  <a:pt x="21703" y="8754"/>
                  <a:pt x="21697" y="8792"/>
                  <a:pt x="21754" y="8806"/>
                </a:cubicBezTo>
              </a:path>
              <a:path w="6326" h="4713">
                <a:moveTo>
                  <a:pt x="21927" y="9004"/>
                </a:moveTo>
                <a:cubicBezTo>
                  <a:pt x="21996" y="9046"/>
                  <a:pt x="22045" y="9008"/>
                  <a:pt x="22126" y="9004"/>
                </a:cubicBezTo>
                <a:cubicBezTo>
                  <a:pt x="22222" y="8999"/>
                  <a:pt x="22307" y="8956"/>
                  <a:pt x="22399" y="8930"/>
                </a:cubicBezTo>
                <a:cubicBezTo>
                  <a:pt x="22557" y="8886"/>
                  <a:pt x="22678" y="8839"/>
                  <a:pt x="22845" y="8806"/>
                </a:cubicBezTo>
                <a:cubicBezTo>
                  <a:pt x="22950" y="8785"/>
                  <a:pt x="23044" y="8743"/>
                  <a:pt x="23143" y="8706"/>
                </a:cubicBezTo>
                <a:cubicBezTo>
                  <a:pt x="23218" y="8678"/>
                  <a:pt x="23294" y="8667"/>
                  <a:pt x="23366" y="8657"/>
                </a:cubicBezTo>
              </a:path>
              <a:path w="6326" h="4713">
                <a:moveTo>
                  <a:pt x="22101" y="8706"/>
                </a:moveTo>
                <a:cubicBezTo>
                  <a:pt x="22101" y="8771"/>
                  <a:pt x="22096" y="8824"/>
                  <a:pt x="22076" y="8880"/>
                </a:cubicBezTo>
                <a:cubicBezTo>
                  <a:pt x="22057" y="8933"/>
                  <a:pt x="21990" y="8980"/>
                  <a:pt x="21977" y="9029"/>
                </a:cubicBezTo>
                <a:cubicBezTo>
                  <a:pt x="21954" y="9116"/>
                  <a:pt x="22035" y="9144"/>
                  <a:pt x="22101" y="9153"/>
                </a:cubicBezTo>
                <a:cubicBezTo>
                  <a:pt x="22177" y="9163"/>
                  <a:pt x="22245" y="9128"/>
                  <a:pt x="22324" y="9128"/>
                </a:cubicBezTo>
                <a:cubicBezTo>
                  <a:pt x="22400" y="9128"/>
                  <a:pt x="22420" y="9125"/>
                  <a:pt x="22473" y="9178"/>
                </a:cubicBezTo>
              </a:path>
              <a:path w="6326" h="4713">
                <a:moveTo>
                  <a:pt x="23416" y="8334"/>
                </a:moveTo>
                <a:cubicBezTo>
                  <a:pt x="23403" y="8435"/>
                  <a:pt x="23360" y="8555"/>
                  <a:pt x="23366" y="8657"/>
                </a:cubicBezTo>
                <a:cubicBezTo>
                  <a:pt x="23371" y="8755"/>
                  <a:pt x="23398" y="8865"/>
                  <a:pt x="23440" y="8954"/>
                </a:cubicBezTo>
                <a:cubicBezTo>
                  <a:pt x="23475" y="9029"/>
                  <a:pt x="23594" y="9070"/>
                  <a:pt x="23664" y="9004"/>
                </a:cubicBezTo>
                <a:cubicBezTo>
                  <a:pt x="23716" y="8955"/>
                  <a:pt x="23713" y="8870"/>
                  <a:pt x="23713" y="8806"/>
                </a:cubicBezTo>
                <a:cubicBezTo>
                  <a:pt x="23713" y="8717"/>
                  <a:pt x="23722" y="8583"/>
                  <a:pt x="23664" y="8508"/>
                </a:cubicBezTo>
                <a:cubicBezTo>
                  <a:pt x="23632" y="8466"/>
                  <a:pt x="23528" y="8441"/>
                  <a:pt x="23490" y="8434"/>
                </a:cubicBezTo>
                <a:cubicBezTo>
                  <a:pt x="23440" y="8425"/>
                  <a:pt x="23431" y="8448"/>
                  <a:pt x="23391" y="8458"/>
                </a:cubicBezTo>
              </a:path>
              <a:path w="6326" h="4713">
                <a:moveTo>
                  <a:pt x="23242" y="8756"/>
                </a:moveTo>
                <a:cubicBezTo>
                  <a:pt x="23332" y="8751"/>
                  <a:pt x="23435" y="8754"/>
                  <a:pt x="23515" y="8706"/>
                </a:cubicBezTo>
                <a:cubicBezTo>
                  <a:pt x="23572" y="8672"/>
                  <a:pt x="23639" y="8694"/>
                  <a:pt x="23688" y="8632"/>
                </a:cubicBezTo>
                <a:cubicBezTo>
                  <a:pt x="23705" y="8607"/>
                  <a:pt x="23721" y="8583"/>
                  <a:pt x="23738" y="8558"/>
                </a:cubicBezTo>
              </a:path>
              <a:path w="6326" h="4713">
                <a:moveTo>
                  <a:pt x="23688" y="7888"/>
                </a:moveTo>
                <a:cubicBezTo>
                  <a:pt x="23688" y="7984"/>
                  <a:pt x="23696" y="8049"/>
                  <a:pt x="23738" y="8136"/>
                </a:cubicBezTo>
                <a:cubicBezTo>
                  <a:pt x="23777" y="8212"/>
                  <a:pt x="23776" y="8227"/>
                  <a:pt x="23812" y="8260"/>
                </a:cubicBezTo>
              </a:path>
              <a:path w="6326" h="4713">
                <a:moveTo>
                  <a:pt x="24061" y="8384"/>
                </a:moveTo>
                <a:cubicBezTo>
                  <a:pt x="24099" y="8361"/>
                  <a:pt x="24112" y="8359"/>
                  <a:pt x="24160" y="8359"/>
                </a:cubicBezTo>
              </a:path>
              <a:path w="6326" h="4713">
                <a:moveTo>
                  <a:pt x="24135" y="8582"/>
                </a:moveTo>
                <a:cubicBezTo>
                  <a:pt x="24207" y="8573"/>
                  <a:pt x="24233" y="8559"/>
                  <a:pt x="24284" y="8508"/>
                </a:cubicBezTo>
                <a:cubicBezTo>
                  <a:pt x="24292" y="8500"/>
                  <a:pt x="24301" y="8491"/>
                  <a:pt x="24309" y="8483"/>
                </a:cubicBezTo>
              </a:path>
              <a:path w="6326" h="4713">
                <a:moveTo>
                  <a:pt x="24408" y="7863"/>
                </a:moveTo>
                <a:cubicBezTo>
                  <a:pt x="24408" y="7957"/>
                  <a:pt x="24430" y="8042"/>
                  <a:pt x="24433" y="8136"/>
                </a:cubicBezTo>
                <a:cubicBezTo>
                  <a:pt x="24436" y="8242"/>
                  <a:pt x="24443" y="8331"/>
                  <a:pt x="24457" y="8434"/>
                </a:cubicBezTo>
                <a:cubicBezTo>
                  <a:pt x="24467" y="8508"/>
                  <a:pt x="24490" y="8543"/>
                  <a:pt x="24557" y="8582"/>
                </a:cubicBezTo>
                <a:cubicBezTo>
                  <a:pt x="24617" y="8617"/>
                  <a:pt x="24648" y="8648"/>
                  <a:pt x="24705" y="8582"/>
                </a:cubicBezTo>
                <a:cubicBezTo>
                  <a:pt x="24758" y="8520"/>
                  <a:pt x="24752" y="8400"/>
                  <a:pt x="24730" y="8334"/>
                </a:cubicBezTo>
                <a:cubicBezTo>
                  <a:pt x="24700" y="8305"/>
                  <a:pt x="24689" y="8291"/>
                  <a:pt x="24681" y="8260"/>
                </a:cubicBezTo>
                <a:cubicBezTo>
                  <a:pt x="24635" y="8317"/>
                  <a:pt x="24611" y="8381"/>
                  <a:pt x="24631" y="8458"/>
                </a:cubicBezTo>
                <a:cubicBezTo>
                  <a:pt x="24650" y="8528"/>
                  <a:pt x="24650" y="8597"/>
                  <a:pt x="24705" y="8582"/>
                </a:cubicBezTo>
              </a:path>
              <a:path w="6326" h="4713">
                <a:moveTo>
                  <a:pt x="24730" y="7739"/>
                </a:moveTo>
                <a:cubicBezTo>
                  <a:pt x="24692" y="7852"/>
                  <a:pt x="24705" y="7942"/>
                  <a:pt x="24730" y="8062"/>
                </a:cubicBezTo>
                <a:cubicBezTo>
                  <a:pt x="24748" y="8149"/>
                  <a:pt x="24768" y="8243"/>
                  <a:pt x="24829" y="8310"/>
                </a:cubicBezTo>
                <a:cubicBezTo>
                  <a:pt x="24878" y="8364"/>
                  <a:pt x="24910" y="8375"/>
                  <a:pt x="24978" y="8334"/>
                </a:cubicBezTo>
                <a:cubicBezTo>
                  <a:pt x="25063" y="8283"/>
                  <a:pt x="24989" y="8153"/>
                  <a:pt x="24978" y="8086"/>
                </a:cubicBezTo>
                <a:cubicBezTo>
                  <a:pt x="24962" y="7990"/>
                  <a:pt x="24924" y="7946"/>
                  <a:pt x="24854" y="7888"/>
                </a:cubicBezTo>
                <a:cubicBezTo>
                  <a:pt x="24824" y="7858"/>
                  <a:pt x="24819" y="7844"/>
                  <a:pt x="24854" y="7813"/>
                </a:cubicBezTo>
              </a:path>
              <a:path w="6326" h="4713">
                <a:moveTo>
                  <a:pt x="24805" y="7317"/>
                </a:moveTo>
                <a:cubicBezTo>
                  <a:pt x="24839" y="7378"/>
                  <a:pt x="24869" y="7400"/>
                  <a:pt x="24879" y="7466"/>
                </a:cubicBezTo>
                <a:cubicBezTo>
                  <a:pt x="24924" y="7421"/>
                  <a:pt x="24958" y="7428"/>
                  <a:pt x="25003" y="7392"/>
                </a:cubicBezTo>
                <a:cubicBezTo>
                  <a:pt x="25043" y="7360"/>
                  <a:pt x="25005" y="7278"/>
                  <a:pt x="24978" y="7243"/>
                </a:cubicBezTo>
                <a:cubicBezTo>
                  <a:pt x="24913" y="7160"/>
                  <a:pt x="24880" y="7266"/>
                  <a:pt x="24854" y="7317"/>
                </a:cubicBezTo>
              </a:path>
              <a:path w="6326" h="4713">
                <a:moveTo>
                  <a:pt x="24061" y="9401"/>
                </a:moveTo>
                <a:cubicBezTo>
                  <a:pt x="24159" y="9401"/>
                  <a:pt x="24219" y="9370"/>
                  <a:pt x="24309" y="9351"/>
                </a:cubicBezTo>
                <a:cubicBezTo>
                  <a:pt x="24360" y="9351"/>
                  <a:pt x="24378" y="9350"/>
                  <a:pt x="24408" y="9327"/>
                </a:cubicBezTo>
              </a:path>
              <a:path w="6326" h="4713">
                <a:moveTo>
                  <a:pt x="24185" y="9475"/>
                </a:moveTo>
                <a:cubicBezTo>
                  <a:pt x="24176" y="9542"/>
                  <a:pt x="24216" y="9635"/>
                  <a:pt x="24234" y="9723"/>
                </a:cubicBezTo>
                <a:cubicBezTo>
                  <a:pt x="24253" y="9815"/>
                  <a:pt x="24249" y="9898"/>
                  <a:pt x="24309" y="9971"/>
                </a:cubicBezTo>
              </a:path>
              <a:path w="6326" h="4713">
                <a:moveTo>
                  <a:pt x="24408" y="9475"/>
                </a:moveTo>
                <a:cubicBezTo>
                  <a:pt x="24408" y="9573"/>
                  <a:pt x="24404" y="9680"/>
                  <a:pt x="24433" y="9773"/>
                </a:cubicBezTo>
                <a:cubicBezTo>
                  <a:pt x="24454" y="9841"/>
                  <a:pt x="24470" y="9887"/>
                  <a:pt x="24507" y="9947"/>
                </a:cubicBezTo>
                <a:cubicBezTo>
                  <a:pt x="24515" y="9963"/>
                  <a:pt x="24524" y="9980"/>
                  <a:pt x="24532" y="9996"/>
                </a:cubicBezTo>
              </a:path>
              <a:path w="6326" h="4713">
                <a:moveTo>
                  <a:pt x="24085" y="10195"/>
                </a:moveTo>
                <a:cubicBezTo>
                  <a:pt x="24162" y="10185"/>
                  <a:pt x="24231" y="10156"/>
                  <a:pt x="24309" y="10145"/>
                </a:cubicBezTo>
                <a:cubicBezTo>
                  <a:pt x="24382" y="10134"/>
                  <a:pt x="24460" y="10123"/>
                  <a:pt x="24532" y="10096"/>
                </a:cubicBezTo>
                <a:cubicBezTo>
                  <a:pt x="24583" y="10077"/>
                  <a:pt x="24626" y="10055"/>
                  <a:pt x="24681" y="10046"/>
                </a:cubicBezTo>
              </a:path>
              <a:path w="6326" h="4713">
                <a:moveTo>
                  <a:pt x="24284" y="10492"/>
                </a:moveTo>
                <a:cubicBezTo>
                  <a:pt x="24322" y="10416"/>
                  <a:pt x="24350" y="10399"/>
                  <a:pt x="24408" y="10344"/>
                </a:cubicBezTo>
                <a:cubicBezTo>
                  <a:pt x="24450" y="10304"/>
                  <a:pt x="24542" y="10185"/>
                  <a:pt x="24606" y="10269"/>
                </a:cubicBezTo>
                <a:cubicBezTo>
                  <a:pt x="24643" y="10317"/>
                  <a:pt x="24607" y="10438"/>
                  <a:pt x="24581" y="10492"/>
                </a:cubicBezTo>
                <a:cubicBezTo>
                  <a:pt x="24564" y="10527"/>
                  <a:pt x="24510" y="10564"/>
                  <a:pt x="24482" y="10592"/>
                </a:cubicBezTo>
                <a:cubicBezTo>
                  <a:pt x="24533" y="10585"/>
                  <a:pt x="24599" y="10545"/>
                  <a:pt x="24656" y="10567"/>
                </a:cubicBezTo>
                <a:cubicBezTo>
                  <a:pt x="24704" y="10585"/>
                  <a:pt x="24728" y="10676"/>
                  <a:pt x="24730" y="10716"/>
                </a:cubicBezTo>
                <a:cubicBezTo>
                  <a:pt x="24736" y="10815"/>
                  <a:pt x="24678" y="10887"/>
                  <a:pt x="24631" y="10964"/>
                </a:cubicBezTo>
                <a:cubicBezTo>
                  <a:pt x="24597" y="11020"/>
                  <a:pt x="24527" y="11096"/>
                  <a:pt x="24457" y="11112"/>
                </a:cubicBezTo>
                <a:cubicBezTo>
                  <a:pt x="24375" y="11131"/>
                  <a:pt x="24339" y="11115"/>
                  <a:pt x="24333" y="11038"/>
                </a:cubicBezTo>
                <a:cubicBezTo>
                  <a:pt x="24333" y="11030"/>
                  <a:pt x="24333" y="11021"/>
                  <a:pt x="24333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3f2d9"/>
                </a:solidFill>
                <a:latin typeface="Arial"/>
              </a:rPr>
              <a:t>Lesson 4.4</a:t>
            </a:r>
            <a:br>
              <a:rPr sz="8500"/>
            </a:br>
            <a:r>
              <a:rPr b="0" lang="en-US" sz="8500" spc="-1" strike="noStrike">
                <a:solidFill>
                  <a:srgbClr val="f3f2d9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f3f2d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9"/>
                </a:solidFill>
                <a:latin typeface="Arial"/>
              </a:rPr>
              <a:t>Find the remaining trig functions of </a:t>
            </a:r>
            <a:r>
              <a:rPr b="0" lang="el-GR" sz="4000" spc="-1" strike="noStrike">
                <a:solidFill>
                  <a:srgbClr val="f3f2d9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 when Cos </a:t>
            </a:r>
            <a:r>
              <a:rPr b="0" lang="el-GR" sz="4000" spc="-1" strike="noStrike">
                <a:solidFill>
                  <a:srgbClr val="f3f2d9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 = -</a:t>
            </a:r>
            <a:r>
              <a:rPr b="0" lang="en-US" sz="4000" spc="-1" strike="noStrike" baseline="30000">
                <a:solidFill>
                  <a:srgbClr val="f3f2d9"/>
                </a:solidFill>
                <a:latin typeface="Arial"/>
                <a:ea typeface="Arial"/>
              </a:rPr>
              <a:t>4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/</a:t>
            </a:r>
            <a:r>
              <a:rPr b="0" lang="en-US" sz="4000" spc="-1" strike="noStrike" baseline="-25000">
                <a:solidFill>
                  <a:srgbClr val="f3f2d9"/>
                </a:solidFill>
                <a:latin typeface="Arial"/>
                <a:ea typeface="Arial"/>
              </a:rPr>
              <a:t>5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 and </a:t>
            </a:r>
            <a:r>
              <a:rPr b="0" lang="el-GR" sz="4000" spc="-1" strike="noStrike">
                <a:solidFill>
                  <a:srgbClr val="f3f2d9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 lies in the second quadrant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4" name="Ink 3"/>
          <p:cNvSpPr/>
          <p:nvPr/>
        </p:nvSpPr>
        <p:spPr>
          <a:xfrm>
            <a:off x="1589040" y="4759200"/>
            <a:ext cx="992160" cy="455760"/>
          </a:xfrm>
          <a:custGeom>
            <a:avLst/>
            <a:gdLst/>
            <a:ahLst/>
            <a:rect l="l" t="t" r="r" b="b"/>
            <a:pathLst>
              <a:path w="2755" h="1266">
                <a:moveTo>
                  <a:pt x="4762" y="13221"/>
                </a:moveTo>
                <a:cubicBezTo>
                  <a:pt x="4772" y="13312"/>
                  <a:pt x="4803" y="13403"/>
                  <a:pt x="4812" y="13494"/>
                </a:cubicBezTo>
                <a:cubicBezTo>
                  <a:pt x="4825" y="13627"/>
                  <a:pt x="4851" y="13759"/>
                  <a:pt x="4862" y="13891"/>
                </a:cubicBezTo>
                <a:cubicBezTo>
                  <a:pt x="4870" y="13987"/>
                  <a:pt x="4887" y="14066"/>
                  <a:pt x="4887" y="14163"/>
                </a:cubicBezTo>
                <a:cubicBezTo>
                  <a:pt x="4887" y="14180"/>
                  <a:pt x="4887" y="14196"/>
                  <a:pt x="4887" y="14213"/>
                </a:cubicBezTo>
              </a:path>
              <a:path w="2755" h="1266">
                <a:moveTo>
                  <a:pt x="4415" y="13618"/>
                </a:moveTo>
                <a:cubicBezTo>
                  <a:pt x="4504" y="13618"/>
                  <a:pt x="4553" y="13656"/>
                  <a:pt x="4638" y="13667"/>
                </a:cubicBezTo>
                <a:cubicBezTo>
                  <a:pt x="4781" y="13685"/>
                  <a:pt x="4914" y="13734"/>
                  <a:pt x="5060" y="13767"/>
                </a:cubicBezTo>
                <a:cubicBezTo>
                  <a:pt x="5129" y="13783"/>
                  <a:pt x="5393" y="13804"/>
                  <a:pt x="5432" y="13841"/>
                </a:cubicBezTo>
                <a:cubicBezTo>
                  <a:pt x="5484" y="13891"/>
                  <a:pt x="5292" y="13871"/>
                  <a:pt x="5234" y="13915"/>
                </a:cubicBezTo>
                <a:cubicBezTo>
                  <a:pt x="5189" y="13949"/>
                  <a:pt x="5193" y="14029"/>
                  <a:pt x="5209" y="14064"/>
                </a:cubicBezTo>
                <a:cubicBezTo>
                  <a:pt x="5250" y="14151"/>
                  <a:pt x="5356" y="14238"/>
                  <a:pt x="5457" y="14238"/>
                </a:cubicBezTo>
                <a:cubicBezTo>
                  <a:pt x="5538" y="14238"/>
                  <a:pt x="5617" y="14167"/>
                  <a:pt x="5631" y="14089"/>
                </a:cubicBezTo>
                <a:cubicBezTo>
                  <a:pt x="5645" y="14008"/>
                  <a:pt x="5634" y="13968"/>
                  <a:pt x="5581" y="13915"/>
                </a:cubicBezTo>
                <a:cubicBezTo>
                  <a:pt x="5558" y="13984"/>
                  <a:pt x="5607" y="14092"/>
                  <a:pt x="5655" y="14163"/>
                </a:cubicBezTo>
                <a:cubicBezTo>
                  <a:pt x="5700" y="14229"/>
                  <a:pt x="5780" y="14257"/>
                  <a:pt x="5854" y="14263"/>
                </a:cubicBezTo>
                <a:cubicBezTo>
                  <a:pt x="5862" y="14263"/>
                  <a:pt x="5871" y="14263"/>
                  <a:pt x="5879" y="14263"/>
                </a:cubicBezTo>
              </a:path>
              <a:path w="2755" h="1266">
                <a:moveTo>
                  <a:pt x="6028" y="13891"/>
                </a:moveTo>
                <a:cubicBezTo>
                  <a:pt x="6018" y="13970"/>
                  <a:pt x="6003" y="14030"/>
                  <a:pt x="6003" y="14114"/>
                </a:cubicBezTo>
                <a:cubicBezTo>
                  <a:pt x="6003" y="14139"/>
                  <a:pt x="6003" y="14163"/>
                  <a:pt x="6003" y="14188"/>
                </a:cubicBezTo>
                <a:cubicBezTo>
                  <a:pt x="6023" y="14115"/>
                  <a:pt x="6029" y="14034"/>
                  <a:pt x="6052" y="13965"/>
                </a:cubicBezTo>
                <a:cubicBezTo>
                  <a:pt x="6079" y="13884"/>
                  <a:pt x="6163" y="13819"/>
                  <a:pt x="6251" y="13841"/>
                </a:cubicBezTo>
                <a:cubicBezTo>
                  <a:pt x="6339" y="13863"/>
                  <a:pt x="6399" y="14009"/>
                  <a:pt x="6424" y="14089"/>
                </a:cubicBezTo>
                <a:cubicBezTo>
                  <a:pt x="6452" y="14181"/>
                  <a:pt x="6465" y="14273"/>
                  <a:pt x="6499" y="14362"/>
                </a:cubicBezTo>
                <a:cubicBezTo>
                  <a:pt x="6519" y="14402"/>
                  <a:pt x="6528" y="14409"/>
                  <a:pt x="6524" y="14436"/>
                </a:cubicBezTo>
              </a:path>
              <a:path w="2755" h="1266">
                <a:moveTo>
                  <a:pt x="6796" y="14213"/>
                </a:moveTo>
                <a:cubicBezTo>
                  <a:pt x="6862" y="14213"/>
                  <a:pt x="6929" y="14213"/>
                  <a:pt x="6995" y="14213"/>
                </a:cubicBezTo>
              </a:path>
              <a:path w="2755" h="1266">
                <a:moveTo>
                  <a:pt x="6945" y="14486"/>
                </a:moveTo>
                <a:cubicBezTo>
                  <a:pt x="7020" y="14486"/>
                  <a:pt x="7094" y="14486"/>
                  <a:pt x="7169" y="144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5" name="Ink 4"/>
          <p:cNvSpPr/>
          <p:nvPr/>
        </p:nvSpPr>
        <p:spPr>
          <a:xfrm>
            <a:off x="4241880" y="2973240"/>
            <a:ext cx="768240" cy="277920"/>
          </a:xfrm>
          <a:custGeom>
            <a:avLst/>
            <a:gdLst/>
            <a:ahLst/>
            <a:rect l="l" t="t" r="r" b="b"/>
            <a:pathLst>
              <a:path w="2134" h="770">
                <a:moveTo>
                  <a:pt x="12229" y="8334"/>
                </a:moveTo>
                <a:cubicBezTo>
                  <a:pt x="12190" y="8267"/>
                  <a:pt x="12166" y="8241"/>
                  <a:pt x="12080" y="8260"/>
                </a:cubicBezTo>
                <a:cubicBezTo>
                  <a:pt x="11978" y="8282"/>
                  <a:pt x="11952" y="8347"/>
                  <a:pt x="11906" y="8434"/>
                </a:cubicBezTo>
                <a:cubicBezTo>
                  <a:pt x="11863" y="8515"/>
                  <a:pt x="11796" y="8613"/>
                  <a:pt x="11782" y="8706"/>
                </a:cubicBezTo>
                <a:cubicBezTo>
                  <a:pt x="11768" y="8796"/>
                  <a:pt x="11769" y="8857"/>
                  <a:pt x="11832" y="8905"/>
                </a:cubicBezTo>
                <a:cubicBezTo>
                  <a:pt x="11956" y="9000"/>
                  <a:pt x="12060" y="8996"/>
                  <a:pt x="12204" y="8954"/>
                </a:cubicBezTo>
                <a:cubicBezTo>
                  <a:pt x="12229" y="8946"/>
                  <a:pt x="12253" y="8938"/>
                  <a:pt x="12278" y="8930"/>
                </a:cubicBezTo>
              </a:path>
              <a:path w="2134" h="770">
                <a:moveTo>
                  <a:pt x="12601" y="8310"/>
                </a:moveTo>
                <a:cubicBezTo>
                  <a:pt x="12479" y="8371"/>
                  <a:pt x="12324" y="8390"/>
                  <a:pt x="12427" y="8533"/>
                </a:cubicBezTo>
                <a:cubicBezTo>
                  <a:pt x="12484" y="8613"/>
                  <a:pt x="12580" y="8664"/>
                  <a:pt x="12650" y="8731"/>
                </a:cubicBezTo>
                <a:cubicBezTo>
                  <a:pt x="12698" y="8777"/>
                  <a:pt x="12767" y="8856"/>
                  <a:pt x="12750" y="8930"/>
                </a:cubicBezTo>
                <a:cubicBezTo>
                  <a:pt x="12724" y="9044"/>
                  <a:pt x="12564" y="9041"/>
                  <a:pt x="12477" y="9029"/>
                </a:cubicBezTo>
                <a:cubicBezTo>
                  <a:pt x="12397" y="9018"/>
                  <a:pt x="12364" y="9005"/>
                  <a:pt x="12353" y="8930"/>
                </a:cubicBezTo>
              </a:path>
              <a:path w="2134" h="770">
                <a:moveTo>
                  <a:pt x="13122" y="8409"/>
                </a:moveTo>
                <a:cubicBezTo>
                  <a:pt x="13241" y="8439"/>
                  <a:pt x="13280" y="8421"/>
                  <a:pt x="13295" y="8533"/>
                </a:cubicBezTo>
                <a:cubicBezTo>
                  <a:pt x="13266" y="8481"/>
                  <a:pt x="13236" y="8424"/>
                  <a:pt x="13171" y="8409"/>
                </a:cubicBezTo>
                <a:cubicBezTo>
                  <a:pt x="13084" y="8389"/>
                  <a:pt x="13032" y="8427"/>
                  <a:pt x="12973" y="8483"/>
                </a:cubicBezTo>
                <a:cubicBezTo>
                  <a:pt x="12916" y="8536"/>
                  <a:pt x="12870" y="8650"/>
                  <a:pt x="12874" y="8731"/>
                </a:cubicBezTo>
                <a:cubicBezTo>
                  <a:pt x="12881" y="8867"/>
                  <a:pt x="12915" y="8926"/>
                  <a:pt x="13022" y="8979"/>
                </a:cubicBezTo>
                <a:cubicBezTo>
                  <a:pt x="13107" y="9022"/>
                  <a:pt x="13250" y="9019"/>
                  <a:pt x="13345" y="9004"/>
                </a:cubicBezTo>
                <a:cubicBezTo>
                  <a:pt x="13440" y="8980"/>
                  <a:pt x="13469" y="8974"/>
                  <a:pt x="13519" y="8930"/>
                </a:cubicBezTo>
              </a:path>
              <a:path w="2134" h="770">
                <a:moveTo>
                  <a:pt x="13791" y="8434"/>
                </a:moveTo>
                <a:cubicBezTo>
                  <a:pt x="13832" y="8434"/>
                  <a:pt x="13874" y="8434"/>
                  <a:pt x="13915" y="8434"/>
                </a:cubicBezTo>
              </a:path>
              <a:path w="2134" h="770">
                <a:moveTo>
                  <a:pt x="13692" y="8607"/>
                </a:moveTo>
                <a:cubicBezTo>
                  <a:pt x="13816" y="8649"/>
                  <a:pt x="13841" y="8674"/>
                  <a:pt x="13915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6" name="Ink 5"/>
          <p:cNvSpPr/>
          <p:nvPr/>
        </p:nvSpPr>
        <p:spPr>
          <a:xfrm>
            <a:off x="2786040" y="3705120"/>
            <a:ext cx="625320" cy="812880"/>
          </a:xfrm>
          <a:custGeom>
            <a:avLst/>
            <a:gdLst/>
            <a:ahLst/>
            <a:rect l="l" t="t" r="r" b="b"/>
            <a:pathLst>
              <a:path w="1737" h="2258">
                <a:moveTo>
                  <a:pt x="7739" y="11038"/>
                </a:moveTo>
                <a:cubicBezTo>
                  <a:pt x="7869" y="11038"/>
                  <a:pt x="7987" y="11057"/>
                  <a:pt x="8111" y="11063"/>
                </a:cubicBezTo>
                <a:cubicBezTo>
                  <a:pt x="8169" y="11063"/>
                  <a:pt x="8194" y="11063"/>
                  <a:pt x="8235" y="11063"/>
                </a:cubicBezTo>
              </a:path>
              <a:path w="1737" h="2258">
                <a:moveTo>
                  <a:pt x="8657" y="10567"/>
                </a:moveTo>
                <a:cubicBezTo>
                  <a:pt x="8679" y="10642"/>
                  <a:pt x="8664" y="10634"/>
                  <a:pt x="8607" y="10691"/>
                </a:cubicBezTo>
                <a:cubicBezTo>
                  <a:pt x="8557" y="10741"/>
                  <a:pt x="8559" y="10789"/>
                  <a:pt x="8533" y="10840"/>
                </a:cubicBezTo>
                <a:cubicBezTo>
                  <a:pt x="8498" y="10909"/>
                  <a:pt x="8553" y="10948"/>
                  <a:pt x="8632" y="10964"/>
                </a:cubicBezTo>
                <a:cubicBezTo>
                  <a:pt x="8705" y="10979"/>
                  <a:pt x="8790" y="10968"/>
                  <a:pt x="8855" y="10939"/>
                </a:cubicBezTo>
                <a:cubicBezTo>
                  <a:pt x="8915" y="10909"/>
                  <a:pt x="8941" y="10894"/>
                  <a:pt x="8979" y="10864"/>
                </a:cubicBezTo>
              </a:path>
              <a:path w="1737" h="2258">
                <a:moveTo>
                  <a:pt x="8979" y="10294"/>
                </a:moveTo>
                <a:cubicBezTo>
                  <a:pt x="8954" y="10382"/>
                  <a:pt x="8916" y="10477"/>
                  <a:pt x="8905" y="10567"/>
                </a:cubicBezTo>
                <a:cubicBezTo>
                  <a:pt x="8881" y="10771"/>
                  <a:pt x="8908" y="10986"/>
                  <a:pt x="8930" y="11187"/>
                </a:cubicBezTo>
                <a:cubicBezTo>
                  <a:pt x="8937" y="11251"/>
                  <a:pt x="8954" y="11290"/>
                  <a:pt x="8954" y="11361"/>
                </a:cubicBezTo>
              </a:path>
              <a:path w="1737" h="2258">
                <a:moveTo>
                  <a:pt x="8706" y="11460"/>
                </a:moveTo>
                <a:cubicBezTo>
                  <a:pt x="8846" y="11478"/>
                  <a:pt x="8963" y="11485"/>
                  <a:pt x="9103" y="11485"/>
                </a:cubicBezTo>
                <a:cubicBezTo>
                  <a:pt x="9203" y="11485"/>
                  <a:pt x="9284" y="11481"/>
                  <a:pt x="9376" y="11460"/>
                </a:cubicBezTo>
                <a:cubicBezTo>
                  <a:pt x="9384" y="11460"/>
                  <a:pt x="9393" y="11460"/>
                  <a:pt x="9401" y="11460"/>
                </a:cubicBezTo>
              </a:path>
              <a:path w="1737" h="2258">
                <a:moveTo>
                  <a:pt x="8979" y="11683"/>
                </a:moveTo>
                <a:cubicBezTo>
                  <a:pt x="9070" y="11722"/>
                  <a:pt x="9183" y="11807"/>
                  <a:pt x="9277" y="11733"/>
                </a:cubicBezTo>
                <a:cubicBezTo>
                  <a:pt x="9285" y="11725"/>
                  <a:pt x="9294" y="11716"/>
                  <a:pt x="9302" y="11708"/>
                </a:cubicBezTo>
              </a:path>
              <a:path w="1737" h="2258">
                <a:moveTo>
                  <a:pt x="9004" y="11708"/>
                </a:moveTo>
                <a:cubicBezTo>
                  <a:pt x="8985" y="11792"/>
                  <a:pt x="8912" y="11947"/>
                  <a:pt x="8979" y="12030"/>
                </a:cubicBezTo>
                <a:cubicBezTo>
                  <a:pt x="9020" y="12081"/>
                  <a:pt x="9050" y="12098"/>
                  <a:pt x="9103" y="12055"/>
                </a:cubicBezTo>
                <a:cubicBezTo>
                  <a:pt x="9155" y="12013"/>
                  <a:pt x="9202" y="11978"/>
                  <a:pt x="9277" y="12005"/>
                </a:cubicBezTo>
                <a:cubicBezTo>
                  <a:pt x="9333" y="12025"/>
                  <a:pt x="9394" y="12107"/>
                  <a:pt x="9426" y="12154"/>
                </a:cubicBezTo>
                <a:cubicBezTo>
                  <a:pt x="9476" y="12228"/>
                  <a:pt x="9475" y="12292"/>
                  <a:pt x="9475" y="12378"/>
                </a:cubicBezTo>
                <a:cubicBezTo>
                  <a:pt x="9475" y="12488"/>
                  <a:pt x="9437" y="12530"/>
                  <a:pt x="9327" y="12551"/>
                </a:cubicBezTo>
                <a:cubicBezTo>
                  <a:pt x="9221" y="12571"/>
                  <a:pt x="9080" y="12564"/>
                  <a:pt x="8979" y="12526"/>
                </a:cubicBezTo>
                <a:cubicBezTo>
                  <a:pt x="8925" y="12500"/>
                  <a:pt x="8905" y="12488"/>
                  <a:pt x="8880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7" name="Ink 6"/>
          <p:cNvSpPr/>
          <p:nvPr/>
        </p:nvSpPr>
        <p:spPr>
          <a:xfrm>
            <a:off x="2803680" y="4803840"/>
            <a:ext cx="571320" cy="760320"/>
          </a:xfrm>
          <a:custGeom>
            <a:avLst/>
            <a:gdLst/>
            <a:ahLst/>
            <a:rect l="l" t="t" r="r" b="b"/>
            <a:pathLst>
              <a:path w="1588" h="2109">
                <a:moveTo>
                  <a:pt x="8136" y="13891"/>
                </a:moveTo>
                <a:cubicBezTo>
                  <a:pt x="8069" y="13923"/>
                  <a:pt x="7965" y="13928"/>
                  <a:pt x="7888" y="13940"/>
                </a:cubicBezTo>
                <a:cubicBezTo>
                  <a:pt x="7871" y="13940"/>
                  <a:pt x="7855" y="13940"/>
                  <a:pt x="7838" y="13940"/>
                </a:cubicBezTo>
                <a:cubicBezTo>
                  <a:pt x="7918" y="13940"/>
                  <a:pt x="7984" y="13919"/>
                  <a:pt x="8062" y="13915"/>
                </a:cubicBezTo>
                <a:cubicBezTo>
                  <a:pt x="8126" y="13912"/>
                  <a:pt x="8165" y="13891"/>
                  <a:pt x="8235" y="13891"/>
                </a:cubicBezTo>
                <a:cubicBezTo>
                  <a:pt x="8387" y="13891"/>
                  <a:pt x="8296" y="13891"/>
                  <a:pt x="8186" y="13891"/>
                </a:cubicBezTo>
                <a:cubicBezTo>
                  <a:pt x="8100" y="13891"/>
                  <a:pt x="7855" y="13891"/>
                  <a:pt x="7938" y="13915"/>
                </a:cubicBezTo>
                <a:cubicBezTo>
                  <a:pt x="8015" y="13937"/>
                  <a:pt x="8108" y="13923"/>
                  <a:pt x="8186" y="13940"/>
                </a:cubicBezTo>
                <a:cubicBezTo>
                  <a:pt x="8211" y="13948"/>
                  <a:pt x="8235" y="13957"/>
                  <a:pt x="8260" y="13965"/>
                </a:cubicBezTo>
                <a:cubicBezTo>
                  <a:pt x="8430" y="13965"/>
                  <a:pt x="8090" y="13941"/>
                  <a:pt x="8062" y="13940"/>
                </a:cubicBezTo>
                <a:cubicBezTo>
                  <a:pt x="8045" y="13940"/>
                  <a:pt x="8029" y="13940"/>
                  <a:pt x="8012" y="13940"/>
                </a:cubicBezTo>
                <a:cubicBezTo>
                  <a:pt x="7997" y="13984"/>
                  <a:pt x="8070" y="13979"/>
                  <a:pt x="8136" y="13965"/>
                </a:cubicBezTo>
                <a:cubicBezTo>
                  <a:pt x="8210" y="13949"/>
                  <a:pt x="8386" y="14011"/>
                  <a:pt x="8359" y="13940"/>
                </a:cubicBezTo>
                <a:cubicBezTo>
                  <a:pt x="8339" y="13889"/>
                  <a:pt x="8181" y="13915"/>
                  <a:pt x="8136" y="13915"/>
                </a:cubicBezTo>
                <a:cubicBezTo>
                  <a:pt x="8062" y="13915"/>
                  <a:pt x="7999" y="13923"/>
                  <a:pt x="7938" y="13940"/>
                </a:cubicBezTo>
                <a:cubicBezTo>
                  <a:pt x="7930" y="13940"/>
                  <a:pt x="7921" y="13940"/>
                  <a:pt x="7913" y="13940"/>
                </a:cubicBezTo>
              </a:path>
              <a:path w="1588" h="2109">
                <a:moveTo>
                  <a:pt x="8210" y="13915"/>
                </a:moveTo>
                <a:cubicBezTo>
                  <a:pt x="8126" y="13915"/>
                  <a:pt x="8042" y="13909"/>
                  <a:pt x="7962" y="13891"/>
                </a:cubicBezTo>
                <a:cubicBezTo>
                  <a:pt x="7881" y="13872"/>
                  <a:pt x="7860" y="13855"/>
                  <a:pt x="7789" y="13891"/>
                </a:cubicBezTo>
                <a:cubicBezTo>
                  <a:pt x="7875" y="13900"/>
                  <a:pt x="7949" y="13915"/>
                  <a:pt x="8037" y="13915"/>
                </a:cubicBezTo>
                <a:cubicBezTo>
                  <a:pt x="8133" y="13915"/>
                  <a:pt x="8243" y="13914"/>
                  <a:pt x="8334" y="13940"/>
                </a:cubicBezTo>
                <a:cubicBezTo>
                  <a:pt x="8351" y="13948"/>
                  <a:pt x="8367" y="13957"/>
                  <a:pt x="8384" y="13965"/>
                </a:cubicBezTo>
                <a:cubicBezTo>
                  <a:pt x="8303" y="13973"/>
                  <a:pt x="8247" y="13990"/>
                  <a:pt x="8161" y="13990"/>
                </a:cubicBezTo>
                <a:cubicBezTo>
                  <a:pt x="8083" y="13990"/>
                  <a:pt x="8001" y="13976"/>
                  <a:pt x="7938" y="14015"/>
                </a:cubicBezTo>
                <a:cubicBezTo>
                  <a:pt x="8012" y="14015"/>
                  <a:pt x="8076" y="14027"/>
                  <a:pt x="8136" y="14039"/>
                </a:cubicBezTo>
                <a:cubicBezTo>
                  <a:pt x="8190" y="14049"/>
                  <a:pt x="8255" y="14039"/>
                  <a:pt x="8310" y="14039"/>
                </a:cubicBezTo>
                <a:cubicBezTo>
                  <a:pt x="8222" y="13996"/>
                  <a:pt x="8136" y="13975"/>
                  <a:pt x="8037" y="13965"/>
                </a:cubicBezTo>
                <a:cubicBezTo>
                  <a:pt x="8013" y="13963"/>
                  <a:pt x="7801" y="13976"/>
                  <a:pt x="7938" y="13990"/>
                </a:cubicBezTo>
                <a:cubicBezTo>
                  <a:pt x="7946" y="13990"/>
                  <a:pt x="7954" y="13990"/>
                  <a:pt x="7962" y="13990"/>
                </a:cubicBezTo>
              </a:path>
              <a:path w="1588" h="2109">
                <a:moveTo>
                  <a:pt x="8781" y="13370"/>
                </a:moveTo>
                <a:cubicBezTo>
                  <a:pt x="8792" y="13404"/>
                  <a:pt x="8857" y="13396"/>
                  <a:pt x="8930" y="13370"/>
                </a:cubicBezTo>
                <a:cubicBezTo>
                  <a:pt x="8997" y="13346"/>
                  <a:pt x="9068" y="13331"/>
                  <a:pt x="9128" y="13395"/>
                </a:cubicBezTo>
                <a:cubicBezTo>
                  <a:pt x="9136" y="13411"/>
                  <a:pt x="9145" y="13428"/>
                  <a:pt x="9153" y="13444"/>
                </a:cubicBezTo>
                <a:cubicBezTo>
                  <a:pt x="9133" y="13514"/>
                  <a:pt x="9101" y="13530"/>
                  <a:pt x="9029" y="13568"/>
                </a:cubicBezTo>
                <a:cubicBezTo>
                  <a:pt x="8986" y="13591"/>
                  <a:pt x="8873" y="13681"/>
                  <a:pt x="8905" y="13618"/>
                </a:cubicBezTo>
                <a:cubicBezTo>
                  <a:pt x="8974" y="13618"/>
                  <a:pt x="9022" y="13613"/>
                  <a:pt x="9079" y="13643"/>
                </a:cubicBezTo>
                <a:cubicBezTo>
                  <a:pt x="9154" y="13683"/>
                  <a:pt x="9176" y="13699"/>
                  <a:pt x="9203" y="13767"/>
                </a:cubicBezTo>
                <a:cubicBezTo>
                  <a:pt x="9221" y="13811"/>
                  <a:pt x="9253" y="13894"/>
                  <a:pt x="9178" y="13915"/>
                </a:cubicBezTo>
                <a:cubicBezTo>
                  <a:pt x="9088" y="13940"/>
                  <a:pt x="8958" y="13913"/>
                  <a:pt x="8880" y="13891"/>
                </a:cubicBezTo>
                <a:cubicBezTo>
                  <a:pt x="8872" y="13891"/>
                  <a:pt x="8863" y="13891"/>
                  <a:pt x="8855" y="13891"/>
                </a:cubicBezTo>
              </a:path>
              <a:path w="1588" h="2109">
                <a:moveTo>
                  <a:pt x="8682" y="14064"/>
                </a:moveTo>
                <a:cubicBezTo>
                  <a:pt x="8766" y="14090"/>
                  <a:pt x="8846" y="14071"/>
                  <a:pt x="8930" y="14089"/>
                </a:cubicBezTo>
                <a:cubicBezTo>
                  <a:pt x="9037" y="14112"/>
                  <a:pt x="9141" y="14135"/>
                  <a:pt x="9252" y="14139"/>
                </a:cubicBezTo>
                <a:cubicBezTo>
                  <a:pt x="9317" y="14141"/>
                  <a:pt x="9351" y="14152"/>
                  <a:pt x="9376" y="14114"/>
                </a:cubicBezTo>
              </a:path>
              <a:path w="1588" h="2109">
                <a:moveTo>
                  <a:pt x="8954" y="14362"/>
                </a:moveTo>
                <a:cubicBezTo>
                  <a:pt x="8901" y="14445"/>
                  <a:pt x="8834" y="14520"/>
                  <a:pt x="8930" y="14610"/>
                </a:cubicBezTo>
                <a:cubicBezTo>
                  <a:pt x="8988" y="14664"/>
                  <a:pt x="9086" y="14662"/>
                  <a:pt x="9153" y="14684"/>
                </a:cubicBezTo>
                <a:cubicBezTo>
                  <a:pt x="9236" y="14711"/>
                  <a:pt x="9255" y="14716"/>
                  <a:pt x="9327" y="14660"/>
                </a:cubicBezTo>
              </a:path>
              <a:path w="1588" h="2109">
                <a:moveTo>
                  <a:pt x="9327" y="14312"/>
                </a:moveTo>
                <a:cubicBezTo>
                  <a:pt x="9304" y="14424"/>
                  <a:pt x="9263" y="14551"/>
                  <a:pt x="9252" y="14660"/>
                </a:cubicBezTo>
                <a:cubicBezTo>
                  <a:pt x="9239" y="14789"/>
                  <a:pt x="9230" y="14927"/>
                  <a:pt x="9227" y="15056"/>
                </a:cubicBezTo>
                <a:cubicBezTo>
                  <a:pt x="9224" y="15190"/>
                  <a:pt x="9252" y="15322"/>
                  <a:pt x="9277" y="154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8" name="Ink 7"/>
          <p:cNvSpPr/>
          <p:nvPr/>
        </p:nvSpPr>
        <p:spPr>
          <a:xfrm>
            <a:off x="2687760" y="2652840"/>
            <a:ext cx="312480" cy="588960"/>
          </a:xfrm>
          <a:custGeom>
            <a:avLst/>
            <a:gdLst/>
            <a:ahLst/>
            <a:rect l="l" t="t" r="r" b="b"/>
            <a:pathLst>
              <a:path w="869" h="1638">
                <a:moveTo>
                  <a:pt x="7640" y="7491"/>
                </a:moveTo>
                <a:cubicBezTo>
                  <a:pt x="7667" y="7444"/>
                  <a:pt x="7708" y="7382"/>
                  <a:pt x="7764" y="7367"/>
                </a:cubicBezTo>
                <a:cubicBezTo>
                  <a:pt x="7821" y="7352"/>
                  <a:pt x="7956" y="7357"/>
                  <a:pt x="7987" y="7417"/>
                </a:cubicBezTo>
                <a:cubicBezTo>
                  <a:pt x="8019" y="7478"/>
                  <a:pt x="7930" y="7583"/>
                  <a:pt x="7888" y="7615"/>
                </a:cubicBezTo>
                <a:cubicBezTo>
                  <a:pt x="7834" y="7656"/>
                  <a:pt x="7782" y="7685"/>
                  <a:pt x="7714" y="7689"/>
                </a:cubicBezTo>
                <a:cubicBezTo>
                  <a:pt x="7584" y="7696"/>
                  <a:pt x="7790" y="7689"/>
                  <a:pt x="7813" y="7689"/>
                </a:cubicBezTo>
                <a:cubicBezTo>
                  <a:pt x="7877" y="7689"/>
                  <a:pt x="7944" y="7678"/>
                  <a:pt x="7987" y="7739"/>
                </a:cubicBezTo>
                <a:cubicBezTo>
                  <a:pt x="8018" y="7782"/>
                  <a:pt x="8080" y="7855"/>
                  <a:pt x="8062" y="7913"/>
                </a:cubicBezTo>
                <a:cubicBezTo>
                  <a:pt x="8048" y="7959"/>
                  <a:pt x="7950" y="8007"/>
                  <a:pt x="7913" y="8012"/>
                </a:cubicBezTo>
                <a:cubicBezTo>
                  <a:pt x="7819" y="8025"/>
                  <a:pt x="7751" y="7998"/>
                  <a:pt x="7665" y="7987"/>
                </a:cubicBezTo>
              </a:path>
              <a:path w="869" h="1638">
                <a:moveTo>
                  <a:pt x="7466" y="8111"/>
                </a:moveTo>
                <a:cubicBezTo>
                  <a:pt x="7687" y="8111"/>
                  <a:pt x="8151" y="8023"/>
                  <a:pt x="8334" y="8136"/>
                </a:cubicBezTo>
              </a:path>
              <a:path w="869" h="1638">
                <a:moveTo>
                  <a:pt x="7764" y="8285"/>
                </a:moveTo>
                <a:cubicBezTo>
                  <a:pt x="7870" y="8285"/>
                  <a:pt x="7960" y="8252"/>
                  <a:pt x="8062" y="8235"/>
                </a:cubicBezTo>
                <a:cubicBezTo>
                  <a:pt x="8111" y="8235"/>
                  <a:pt x="8128" y="8235"/>
                  <a:pt x="8161" y="8235"/>
                </a:cubicBezTo>
              </a:path>
              <a:path w="869" h="1638">
                <a:moveTo>
                  <a:pt x="7764" y="8285"/>
                </a:moveTo>
                <a:cubicBezTo>
                  <a:pt x="7748" y="8343"/>
                  <a:pt x="7715" y="8446"/>
                  <a:pt x="7739" y="8508"/>
                </a:cubicBezTo>
                <a:cubicBezTo>
                  <a:pt x="7764" y="8533"/>
                  <a:pt x="7772" y="8541"/>
                  <a:pt x="7789" y="8558"/>
                </a:cubicBezTo>
                <a:cubicBezTo>
                  <a:pt x="7827" y="8527"/>
                  <a:pt x="7888" y="8470"/>
                  <a:pt x="7938" y="8458"/>
                </a:cubicBezTo>
                <a:cubicBezTo>
                  <a:pt x="8005" y="8442"/>
                  <a:pt x="8060" y="8469"/>
                  <a:pt x="8111" y="8508"/>
                </a:cubicBezTo>
                <a:cubicBezTo>
                  <a:pt x="8158" y="8544"/>
                  <a:pt x="8183" y="8604"/>
                  <a:pt x="8186" y="8657"/>
                </a:cubicBezTo>
                <a:cubicBezTo>
                  <a:pt x="8193" y="8783"/>
                  <a:pt x="8231" y="8791"/>
                  <a:pt x="8161" y="8930"/>
                </a:cubicBezTo>
                <a:cubicBezTo>
                  <a:pt x="8144" y="8964"/>
                  <a:pt x="8018" y="9009"/>
                  <a:pt x="7987" y="9004"/>
                </a:cubicBezTo>
                <a:cubicBezTo>
                  <a:pt x="7935" y="8996"/>
                  <a:pt x="7847" y="8979"/>
                  <a:pt x="7789" y="8954"/>
                </a:cubicBezTo>
                <a:cubicBezTo>
                  <a:pt x="7712" y="8920"/>
                  <a:pt x="7705" y="8879"/>
                  <a:pt x="7689" y="88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9" name="Ink 8"/>
          <p:cNvSpPr/>
          <p:nvPr/>
        </p:nvSpPr>
        <p:spPr>
          <a:xfrm>
            <a:off x="2446200" y="2982960"/>
            <a:ext cx="162000" cy="17280"/>
          </a:xfrm>
          <a:custGeom>
            <a:avLst/>
            <a:gdLst/>
            <a:ahLst/>
            <a:rect l="l" t="t" r="r" b="b"/>
            <a:pathLst>
              <a:path w="448" h="50">
                <a:moveTo>
                  <a:pt x="6796" y="8285"/>
                </a:moveTo>
                <a:cubicBezTo>
                  <a:pt x="6928" y="8285"/>
                  <a:pt x="7061" y="8285"/>
                  <a:pt x="7193" y="8285"/>
                </a:cubicBezTo>
                <a:cubicBezTo>
                  <a:pt x="7327" y="8285"/>
                  <a:pt x="7117" y="8285"/>
                  <a:pt x="7094" y="8285"/>
                </a:cubicBezTo>
                <a:cubicBezTo>
                  <a:pt x="7000" y="8285"/>
                  <a:pt x="6740" y="8261"/>
                  <a:pt x="6821" y="8310"/>
                </a:cubicBezTo>
                <a:cubicBezTo>
                  <a:pt x="6882" y="8346"/>
                  <a:pt x="6967" y="8320"/>
                  <a:pt x="7020" y="8310"/>
                </a:cubicBezTo>
                <a:cubicBezTo>
                  <a:pt x="7036" y="8310"/>
                  <a:pt x="7053" y="8310"/>
                  <a:pt x="7069" y="8310"/>
                </a:cubicBezTo>
                <a:cubicBezTo>
                  <a:pt x="7133" y="8327"/>
                  <a:pt x="7188" y="8370"/>
                  <a:pt x="7169" y="8310"/>
                </a:cubicBezTo>
                <a:cubicBezTo>
                  <a:pt x="7122" y="8310"/>
                  <a:pt x="6730" y="8320"/>
                  <a:pt x="6846" y="8334"/>
                </a:cubicBezTo>
                <a:cubicBezTo>
                  <a:pt x="6932" y="8344"/>
                  <a:pt x="7032" y="8334"/>
                  <a:pt x="7119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0" name="Ink 9"/>
          <p:cNvSpPr/>
          <p:nvPr/>
        </p:nvSpPr>
        <p:spPr>
          <a:xfrm>
            <a:off x="2411280" y="3106800"/>
            <a:ext cx="196920" cy="9360"/>
          </a:xfrm>
          <a:custGeom>
            <a:avLst/>
            <a:gdLst/>
            <a:ahLst/>
            <a:rect l="l" t="t" r="r" b="b"/>
            <a:pathLst>
              <a:path w="547" h="26">
                <a:moveTo>
                  <a:pt x="6697" y="8632"/>
                </a:moveTo>
                <a:cubicBezTo>
                  <a:pt x="6850" y="8632"/>
                  <a:pt x="6999" y="8633"/>
                  <a:pt x="7144" y="8657"/>
                </a:cubicBezTo>
                <a:cubicBezTo>
                  <a:pt x="7193" y="8657"/>
                  <a:pt x="7210" y="8657"/>
                  <a:pt x="7243" y="8657"/>
                </a:cubicBezTo>
                <a:cubicBezTo>
                  <a:pt x="7173" y="8631"/>
                  <a:pt x="7121" y="8632"/>
                  <a:pt x="7045" y="8632"/>
                </a:cubicBezTo>
                <a:cubicBezTo>
                  <a:pt x="6969" y="8632"/>
                  <a:pt x="6916" y="8631"/>
                  <a:pt x="6846" y="8657"/>
                </a:cubicBezTo>
                <a:cubicBezTo>
                  <a:pt x="6962" y="8657"/>
                  <a:pt x="7077" y="8657"/>
                  <a:pt x="7193" y="8657"/>
                </a:cubicBezTo>
                <a:cubicBezTo>
                  <a:pt x="7110" y="8629"/>
                  <a:pt x="7035" y="8632"/>
                  <a:pt x="6945" y="8632"/>
                </a:cubicBezTo>
                <a:cubicBezTo>
                  <a:pt x="6928" y="8632"/>
                  <a:pt x="6753" y="8632"/>
                  <a:pt x="6821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1" name="Ink 10"/>
          <p:cNvSpPr/>
          <p:nvPr/>
        </p:nvSpPr>
        <p:spPr>
          <a:xfrm>
            <a:off x="5848200" y="3867120"/>
            <a:ext cx="233640" cy="731880"/>
          </a:xfrm>
          <a:custGeom>
            <a:avLst/>
            <a:gdLst/>
            <a:ahLst/>
            <a:rect l="l" t="t" r="r" b="b"/>
            <a:pathLst>
              <a:path w="646" h="2035">
                <a:moveTo>
                  <a:pt x="16396" y="10815"/>
                </a:moveTo>
                <a:cubicBezTo>
                  <a:pt x="16490" y="10815"/>
                  <a:pt x="16695" y="10858"/>
                  <a:pt x="16768" y="10790"/>
                </a:cubicBezTo>
                <a:cubicBezTo>
                  <a:pt x="16776" y="10773"/>
                  <a:pt x="16785" y="10757"/>
                  <a:pt x="16793" y="10740"/>
                </a:cubicBezTo>
              </a:path>
              <a:path w="646" h="2035">
                <a:moveTo>
                  <a:pt x="16371" y="10815"/>
                </a:moveTo>
                <a:cubicBezTo>
                  <a:pt x="16333" y="10901"/>
                  <a:pt x="16251" y="11001"/>
                  <a:pt x="16321" y="11088"/>
                </a:cubicBezTo>
                <a:cubicBezTo>
                  <a:pt x="16356" y="11132"/>
                  <a:pt x="16404" y="11071"/>
                  <a:pt x="16446" y="11063"/>
                </a:cubicBezTo>
                <a:cubicBezTo>
                  <a:pt x="16506" y="11051"/>
                  <a:pt x="16579" y="11061"/>
                  <a:pt x="16619" y="11112"/>
                </a:cubicBezTo>
                <a:cubicBezTo>
                  <a:pt x="16674" y="11182"/>
                  <a:pt x="16693" y="11257"/>
                  <a:pt x="16644" y="11336"/>
                </a:cubicBezTo>
                <a:cubicBezTo>
                  <a:pt x="16626" y="11365"/>
                  <a:pt x="16529" y="11429"/>
                  <a:pt x="16495" y="11435"/>
                </a:cubicBezTo>
                <a:cubicBezTo>
                  <a:pt x="16433" y="11446"/>
                  <a:pt x="16400" y="11421"/>
                  <a:pt x="16346" y="11410"/>
                </a:cubicBezTo>
              </a:path>
              <a:path w="646" h="2035">
                <a:moveTo>
                  <a:pt x="16247" y="11658"/>
                </a:moveTo>
                <a:cubicBezTo>
                  <a:pt x="16359" y="11686"/>
                  <a:pt x="16477" y="11704"/>
                  <a:pt x="16594" y="11708"/>
                </a:cubicBezTo>
                <a:cubicBezTo>
                  <a:pt x="16691" y="11712"/>
                  <a:pt x="16805" y="11727"/>
                  <a:pt x="16892" y="11683"/>
                </a:cubicBezTo>
                <a:cubicBezTo>
                  <a:pt x="16884" y="11683"/>
                  <a:pt x="16875" y="11683"/>
                  <a:pt x="16867" y="11683"/>
                </a:cubicBezTo>
              </a:path>
              <a:path w="646" h="2035">
                <a:moveTo>
                  <a:pt x="16520" y="11807"/>
                </a:moveTo>
                <a:cubicBezTo>
                  <a:pt x="16461" y="11866"/>
                  <a:pt x="16425" y="11922"/>
                  <a:pt x="16371" y="11981"/>
                </a:cubicBezTo>
                <a:cubicBezTo>
                  <a:pt x="16314" y="12043"/>
                  <a:pt x="16351" y="12076"/>
                  <a:pt x="16421" y="12080"/>
                </a:cubicBezTo>
                <a:cubicBezTo>
                  <a:pt x="16485" y="12084"/>
                  <a:pt x="16529" y="12118"/>
                  <a:pt x="16594" y="12129"/>
                </a:cubicBezTo>
                <a:cubicBezTo>
                  <a:pt x="16662" y="12140"/>
                  <a:pt x="16738" y="12131"/>
                  <a:pt x="16793" y="12105"/>
                </a:cubicBezTo>
              </a:path>
              <a:path w="646" h="2035">
                <a:moveTo>
                  <a:pt x="16694" y="11807"/>
                </a:moveTo>
                <a:cubicBezTo>
                  <a:pt x="16674" y="11908"/>
                  <a:pt x="16667" y="12008"/>
                  <a:pt x="16644" y="12105"/>
                </a:cubicBezTo>
                <a:cubicBezTo>
                  <a:pt x="16625" y="12188"/>
                  <a:pt x="16580" y="12292"/>
                  <a:pt x="16594" y="12378"/>
                </a:cubicBezTo>
                <a:cubicBezTo>
                  <a:pt x="16611" y="12485"/>
                  <a:pt x="16652" y="12597"/>
                  <a:pt x="16669" y="12700"/>
                </a:cubicBezTo>
                <a:cubicBezTo>
                  <a:pt x="16669" y="12741"/>
                  <a:pt x="16669" y="12749"/>
                  <a:pt x="16669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2" name="Ink 11"/>
          <p:cNvSpPr/>
          <p:nvPr/>
        </p:nvSpPr>
        <p:spPr>
          <a:xfrm>
            <a:off x="6010200" y="4902120"/>
            <a:ext cx="223920" cy="785880"/>
          </a:xfrm>
          <a:custGeom>
            <a:avLst/>
            <a:gdLst/>
            <a:ahLst/>
            <a:rect l="l" t="t" r="r" b="b"/>
            <a:pathLst>
              <a:path w="621" h="2184">
                <a:moveTo>
                  <a:pt x="16818" y="13841"/>
                </a:moveTo>
                <a:cubicBezTo>
                  <a:pt x="16756" y="13902"/>
                  <a:pt x="16711" y="13949"/>
                  <a:pt x="16694" y="14039"/>
                </a:cubicBezTo>
                <a:cubicBezTo>
                  <a:pt x="16679" y="14119"/>
                  <a:pt x="16702" y="14188"/>
                  <a:pt x="16768" y="14238"/>
                </a:cubicBezTo>
                <a:cubicBezTo>
                  <a:pt x="16820" y="14278"/>
                  <a:pt x="16896" y="14276"/>
                  <a:pt x="16942" y="14238"/>
                </a:cubicBezTo>
                <a:cubicBezTo>
                  <a:pt x="16974" y="14204"/>
                  <a:pt x="16991" y="14187"/>
                  <a:pt x="17016" y="14163"/>
                </a:cubicBezTo>
              </a:path>
              <a:path w="621" h="2184">
                <a:moveTo>
                  <a:pt x="17066" y="13667"/>
                </a:moveTo>
                <a:cubicBezTo>
                  <a:pt x="17066" y="13651"/>
                  <a:pt x="17066" y="13634"/>
                  <a:pt x="17066" y="13618"/>
                </a:cubicBezTo>
                <a:cubicBezTo>
                  <a:pt x="17026" y="13707"/>
                  <a:pt x="17003" y="13801"/>
                  <a:pt x="16966" y="13891"/>
                </a:cubicBezTo>
                <a:cubicBezTo>
                  <a:pt x="16916" y="14015"/>
                  <a:pt x="16920" y="14153"/>
                  <a:pt x="16917" y="14288"/>
                </a:cubicBezTo>
                <a:cubicBezTo>
                  <a:pt x="16915" y="14378"/>
                  <a:pt x="16924" y="14415"/>
                  <a:pt x="16942" y="14486"/>
                </a:cubicBezTo>
              </a:path>
              <a:path w="621" h="2184">
                <a:moveTo>
                  <a:pt x="16718" y="14536"/>
                </a:moveTo>
                <a:cubicBezTo>
                  <a:pt x="16794" y="14552"/>
                  <a:pt x="16858" y="14536"/>
                  <a:pt x="16942" y="14536"/>
                </a:cubicBezTo>
                <a:cubicBezTo>
                  <a:pt x="17036" y="14536"/>
                  <a:pt x="17119" y="14511"/>
                  <a:pt x="17214" y="14511"/>
                </a:cubicBezTo>
                <a:cubicBezTo>
                  <a:pt x="17266" y="14511"/>
                  <a:pt x="17284" y="14510"/>
                  <a:pt x="17314" y="14486"/>
                </a:cubicBezTo>
              </a:path>
              <a:path w="621" h="2184">
                <a:moveTo>
                  <a:pt x="16842" y="14883"/>
                </a:moveTo>
                <a:cubicBezTo>
                  <a:pt x="16917" y="14921"/>
                  <a:pt x="16941" y="14887"/>
                  <a:pt x="17016" y="14883"/>
                </a:cubicBezTo>
                <a:cubicBezTo>
                  <a:pt x="17064" y="14880"/>
                  <a:pt x="17129" y="14903"/>
                  <a:pt x="17165" y="14932"/>
                </a:cubicBezTo>
                <a:cubicBezTo>
                  <a:pt x="17237" y="14988"/>
                  <a:pt x="17166" y="15051"/>
                  <a:pt x="17115" y="15081"/>
                </a:cubicBezTo>
                <a:cubicBezTo>
                  <a:pt x="17053" y="15118"/>
                  <a:pt x="17003" y="15111"/>
                  <a:pt x="16942" y="15156"/>
                </a:cubicBezTo>
                <a:cubicBezTo>
                  <a:pt x="16934" y="15164"/>
                  <a:pt x="16925" y="15172"/>
                  <a:pt x="16917" y="15180"/>
                </a:cubicBezTo>
                <a:cubicBezTo>
                  <a:pt x="16972" y="15208"/>
                  <a:pt x="17037" y="15203"/>
                  <a:pt x="17090" y="15230"/>
                </a:cubicBezTo>
                <a:cubicBezTo>
                  <a:pt x="17116" y="15243"/>
                  <a:pt x="17229" y="15431"/>
                  <a:pt x="17239" y="15478"/>
                </a:cubicBezTo>
                <a:cubicBezTo>
                  <a:pt x="17252" y="15540"/>
                  <a:pt x="17273" y="15648"/>
                  <a:pt x="17239" y="15701"/>
                </a:cubicBezTo>
                <a:cubicBezTo>
                  <a:pt x="17203" y="15758"/>
                  <a:pt x="17152" y="15798"/>
                  <a:pt x="17090" y="15801"/>
                </a:cubicBezTo>
                <a:cubicBezTo>
                  <a:pt x="16973" y="15806"/>
                  <a:pt x="16966" y="15759"/>
                  <a:pt x="16892" y="15701"/>
                </a:cubicBezTo>
                <a:cubicBezTo>
                  <a:pt x="16848" y="15666"/>
                  <a:pt x="16809" y="15643"/>
                  <a:pt x="16768" y="15602"/>
                </a:cubicBezTo>
                <a:cubicBezTo>
                  <a:pt x="16760" y="15594"/>
                  <a:pt x="16751" y="15585"/>
                  <a:pt x="16743" y="155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3" name="Ink 12"/>
          <p:cNvSpPr/>
          <p:nvPr/>
        </p:nvSpPr>
        <p:spPr>
          <a:xfrm>
            <a:off x="8116920" y="3348000"/>
            <a:ext cx="179280" cy="169920"/>
          </a:xfrm>
          <a:custGeom>
            <a:avLst/>
            <a:gdLst/>
            <a:ahLst/>
            <a:rect l="l" t="t" r="r" b="b"/>
            <a:pathLst>
              <a:path w="498" h="472">
                <a:moveTo>
                  <a:pt x="23044" y="9302"/>
                </a:moveTo>
                <a:cubicBezTo>
                  <a:pt x="22931" y="9302"/>
                  <a:pt x="22827" y="9313"/>
                  <a:pt x="22721" y="9327"/>
                </a:cubicBezTo>
                <a:cubicBezTo>
                  <a:pt x="22656" y="9336"/>
                  <a:pt x="22620" y="9331"/>
                  <a:pt x="22572" y="9302"/>
                </a:cubicBezTo>
                <a:cubicBezTo>
                  <a:pt x="22572" y="9417"/>
                  <a:pt x="22565" y="9517"/>
                  <a:pt x="22547" y="9624"/>
                </a:cubicBezTo>
                <a:cubicBezTo>
                  <a:pt x="22539" y="9670"/>
                  <a:pt x="22547" y="9726"/>
                  <a:pt x="22547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4" name="Ink 13"/>
          <p:cNvSpPr/>
          <p:nvPr/>
        </p:nvSpPr>
        <p:spPr>
          <a:xfrm>
            <a:off x="8501040" y="2820960"/>
            <a:ext cx="162000" cy="287280"/>
          </a:xfrm>
          <a:custGeom>
            <a:avLst/>
            <a:gdLst/>
            <a:ahLst/>
            <a:rect l="l" t="t" r="r" b="b"/>
            <a:pathLst>
              <a:path w="448" h="795">
                <a:moveTo>
                  <a:pt x="23614" y="7913"/>
                </a:moveTo>
                <a:cubicBezTo>
                  <a:pt x="23624" y="7871"/>
                  <a:pt x="23690" y="7831"/>
                  <a:pt x="23738" y="7838"/>
                </a:cubicBezTo>
                <a:cubicBezTo>
                  <a:pt x="23765" y="7842"/>
                  <a:pt x="23874" y="7876"/>
                  <a:pt x="23887" y="7913"/>
                </a:cubicBezTo>
                <a:cubicBezTo>
                  <a:pt x="23905" y="7962"/>
                  <a:pt x="23878" y="8054"/>
                  <a:pt x="23837" y="8086"/>
                </a:cubicBezTo>
                <a:cubicBezTo>
                  <a:pt x="23821" y="8098"/>
                  <a:pt x="23724" y="8214"/>
                  <a:pt x="23763" y="8136"/>
                </a:cubicBezTo>
                <a:cubicBezTo>
                  <a:pt x="23832" y="8136"/>
                  <a:pt x="23881" y="8131"/>
                  <a:pt x="23937" y="8161"/>
                </a:cubicBezTo>
                <a:cubicBezTo>
                  <a:pt x="23988" y="8189"/>
                  <a:pt x="24046" y="8222"/>
                  <a:pt x="24061" y="8285"/>
                </a:cubicBezTo>
                <a:cubicBezTo>
                  <a:pt x="24079" y="8361"/>
                  <a:pt x="24062" y="8408"/>
                  <a:pt x="24011" y="8458"/>
                </a:cubicBezTo>
                <a:cubicBezTo>
                  <a:pt x="23965" y="8503"/>
                  <a:pt x="23932" y="8497"/>
                  <a:pt x="23887" y="8533"/>
                </a:cubicBezTo>
                <a:cubicBezTo>
                  <a:pt x="23847" y="8566"/>
                  <a:pt x="23790" y="8579"/>
                  <a:pt x="23738" y="8582"/>
                </a:cubicBezTo>
                <a:cubicBezTo>
                  <a:pt x="23679" y="8585"/>
                  <a:pt x="23677" y="8571"/>
                  <a:pt x="23639" y="8533"/>
                </a:cubicBezTo>
                <a:cubicBezTo>
                  <a:pt x="23615" y="8581"/>
                  <a:pt x="23606" y="8595"/>
                  <a:pt x="23614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5" name="Ink 14"/>
          <p:cNvSpPr/>
          <p:nvPr/>
        </p:nvSpPr>
        <p:spPr>
          <a:xfrm>
            <a:off x="7161120" y="2741760"/>
            <a:ext cx="519120" cy="1179360"/>
          </a:xfrm>
          <a:custGeom>
            <a:avLst/>
            <a:gdLst/>
            <a:ahLst/>
            <a:rect l="l" t="t" r="r" b="b"/>
            <a:pathLst>
              <a:path w="1440" h="3275">
                <a:moveTo>
                  <a:pt x="19993" y="9103"/>
                </a:moveTo>
                <a:cubicBezTo>
                  <a:pt x="20043" y="9154"/>
                  <a:pt x="20078" y="9203"/>
                  <a:pt x="20092" y="9277"/>
                </a:cubicBezTo>
                <a:cubicBezTo>
                  <a:pt x="20105" y="9345"/>
                  <a:pt x="20137" y="9405"/>
                  <a:pt x="20141" y="9475"/>
                </a:cubicBezTo>
                <a:cubicBezTo>
                  <a:pt x="20146" y="9559"/>
                  <a:pt x="20144" y="9642"/>
                  <a:pt x="20117" y="9723"/>
                </a:cubicBezTo>
                <a:cubicBezTo>
                  <a:pt x="20098" y="9782"/>
                  <a:pt x="20065" y="9913"/>
                  <a:pt x="20042" y="9823"/>
                </a:cubicBezTo>
              </a:path>
              <a:path w="1440" h="3275">
                <a:moveTo>
                  <a:pt x="20985" y="10120"/>
                </a:moveTo>
                <a:cubicBezTo>
                  <a:pt x="20978" y="10218"/>
                  <a:pt x="20977" y="10269"/>
                  <a:pt x="20910" y="10344"/>
                </a:cubicBezTo>
                <a:cubicBezTo>
                  <a:pt x="20881" y="10373"/>
                  <a:pt x="20870" y="10388"/>
                  <a:pt x="20861" y="10418"/>
                </a:cubicBezTo>
                <a:cubicBezTo>
                  <a:pt x="20918" y="10418"/>
                  <a:pt x="20987" y="10417"/>
                  <a:pt x="21034" y="10393"/>
                </a:cubicBezTo>
                <a:cubicBezTo>
                  <a:pt x="21102" y="10359"/>
                  <a:pt x="21177" y="10368"/>
                  <a:pt x="21258" y="10368"/>
                </a:cubicBezTo>
              </a:path>
              <a:path w="1440" h="3275">
                <a:moveTo>
                  <a:pt x="21282" y="10071"/>
                </a:moveTo>
                <a:cubicBezTo>
                  <a:pt x="21282" y="10200"/>
                  <a:pt x="21292" y="10316"/>
                  <a:pt x="21307" y="10443"/>
                </a:cubicBezTo>
                <a:cubicBezTo>
                  <a:pt x="21315" y="10511"/>
                  <a:pt x="21328" y="10575"/>
                  <a:pt x="21332" y="10641"/>
                </a:cubicBezTo>
                <a:cubicBezTo>
                  <a:pt x="21336" y="10719"/>
                  <a:pt x="21357" y="10881"/>
                  <a:pt x="21307" y="10864"/>
                </a:cubicBezTo>
              </a:path>
              <a:path w="1440" h="3275">
                <a:moveTo>
                  <a:pt x="19943" y="7640"/>
                </a:moveTo>
                <a:cubicBezTo>
                  <a:pt x="20070" y="7640"/>
                  <a:pt x="20203" y="7649"/>
                  <a:pt x="20315" y="7615"/>
                </a:cubicBezTo>
                <a:cubicBezTo>
                  <a:pt x="20323" y="7615"/>
                  <a:pt x="20332" y="7615"/>
                  <a:pt x="20340" y="7615"/>
                </a:cubicBezTo>
              </a:path>
              <a:path w="1440" h="3275">
                <a:moveTo>
                  <a:pt x="19893" y="7714"/>
                </a:moveTo>
                <a:cubicBezTo>
                  <a:pt x="19902" y="7778"/>
                  <a:pt x="19928" y="7822"/>
                  <a:pt x="19943" y="7888"/>
                </a:cubicBezTo>
                <a:cubicBezTo>
                  <a:pt x="19953" y="7933"/>
                  <a:pt x="19944" y="7947"/>
                  <a:pt x="19968" y="7987"/>
                </a:cubicBezTo>
                <a:cubicBezTo>
                  <a:pt x="20030" y="7951"/>
                  <a:pt x="20067" y="7917"/>
                  <a:pt x="20141" y="7913"/>
                </a:cubicBezTo>
                <a:cubicBezTo>
                  <a:pt x="20219" y="7909"/>
                  <a:pt x="20262" y="7984"/>
                  <a:pt x="20315" y="8037"/>
                </a:cubicBezTo>
                <a:cubicBezTo>
                  <a:pt x="20381" y="8102"/>
                  <a:pt x="20387" y="8110"/>
                  <a:pt x="20414" y="8186"/>
                </a:cubicBezTo>
                <a:cubicBezTo>
                  <a:pt x="20433" y="8239"/>
                  <a:pt x="20432" y="8324"/>
                  <a:pt x="20365" y="8359"/>
                </a:cubicBezTo>
                <a:cubicBezTo>
                  <a:pt x="20282" y="8403"/>
                  <a:pt x="20209" y="8409"/>
                  <a:pt x="20117" y="8409"/>
                </a:cubicBezTo>
                <a:cubicBezTo>
                  <a:pt x="20052" y="8409"/>
                  <a:pt x="20047" y="8373"/>
                  <a:pt x="19993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6" name="Ink 15"/>
          <p:cNvSpPr/>
          <p:nvPr/>
        </p:nvSpPr>
        <p:spPr>
          <a:xfrm>
            <a:off x="5180040" y="2652840"/>
            <a:ext cx="249120" cy="588960"/>
          </a:xfrm>
          <a:custGeom>
            <a:avLst/>
            <a:gdLst/>
            <a:ahLst/>
            <a:rect l="l" t="t" r="r" b="b"/>
            <a:pathLst>
              <a:path w="695" h="1638">
                <a:moveTo>
                  <a:pt x="14684" y="7441"/>
                </a:moveTo>
                <a:cubicBezTo>
                  <a:pt x="14777" y="7441"/>
                  <a:pt x="14879" y="7456"/>
                  <a:pt x="14957" y="7417"/>
                </a:cubicBezTo>
                <a:cubicBezTo>
                  <a:pt x="15001" y="7395"/>
                  <a:pt x="15013" y="7392"/>
                  <a:pt x="15032" y="7367"/>
                </a:cubicBezTo>
              </a:path>
              <a:path w="695" h="1638">
                <a:moveTo>
                  <a:pt x="14635" y="7466"/>
                </a:moveTo>
                <a:cubicBezTo>
                  <a:pt x="14618" y="7529"/>
                  <a:pt x="14596" y="7610"/>
                  <a:pt x="14585" y="7665"/>
                </a:cubicBezTo>
                <a:cubicBezTo>
                  <a:pt x="14585" y="7681"/>
                  <a:pt x="14585" y="7698"/>
                  <a:pt x="14585" y="7714"/>
                </a:cubicBezTo>
                <a:cubicBezTo>
                  <a:pt x="14621" y="7678"/>
                  <a:pt x="14665" y="7649"/>
                  <a:pt x="14709" y="7640"/>
                </a:cubicBezTo>
                <a:cubicBezTo>
                  <a:pt x="14765" y="7629"/>
                  <a:pt x="14833" y="7689"/>
                  <a:pt x="14883" y="7714"/>
                </a:cubicBezTo>
                <a:cubicBezTo>
                  <a:pt x="14962" y="7754"/>
                  <a:pt x="15004" y="7842"/>
                  <a:pt x="14957" y="7913"/>
                </a:cubicBezTo>
                <a:cubicBezTo>
                  <a:pt x="14926" y="7960"/>
                  <a:pt x="14834" y="7984"/>
                  <a:pt x="14784" y="7987"/>
                </a:cubicBezTo>
                <a:cubicBezTo>
                  <a:pt x="14717" y="7991"/>
                  <a:pt x="14677" y="7966"/>
                  <a:pt x="14635" y="7987"/>
                </a:cubicBezTo>
              </a:path>
              <a:path w="695" h="1638">
                <a:moveTo>
                  <a:pt x="14387" y="8111"/>
                </a:moveTo>
                <a:cubicBezTo>
                  <a:pt x="14490" y="8146"/>
                  <a:pt x="14623" y="8150"/>
                  <a:pt x="14734" y="8161"/>
                </a:cubicBezTo>
                <a:cubicBezTo>
                  <a:pt x="14847" y="8172"/>
                  <a:pt x="14967" y="8161"/>
                  <a:pt x="15081" y="8161"/>
                </a:cubicBezTo>
              </a:path>
              <a:path w="695" h="1638">
                <a:moveTo>
                  <a:pt x="14635" y="8409"/>
                </a:moveTo>
                <a:cubicBezTo>
                  <a:pt x="14708" y="8402"/>
                  <a:pt x="14808" y="8361"/>
                  <a:pt x="14883" y="8384"/>
                </a:cubicBezTo>
                <a:cubicBezTo>
                  <a:pt x="14961" y="8408"/>
                  <a:pt x="14962" y="8450"/>
                  <a:pt x="14932" y="8508"/>
                </a:cubicBezTo>
                <a:cubicBezTo>
                  <a:pt x="14900" y="8569"/>
                  <a:pt x="14866" y="8597"/>
                  <a:pt x="14808" y="8632"/>
                </a:cubicBezTo>
                <a:cubicBezTo>
                  <a:pt x="14708" y="8693"/>
                  <a:pt x="14694" y="8632"/>
                  <a:pt x="14808" y="8657"/>
                </a:cubicBezTo>
                <a:cubicBezTo>
                  <a:pt x="14903" y="8678"/>
                  <a:pt x="14951" y="8714"/>
                  <a:pt x="15007" y="8781"/>
                </a:cubicBezTo>
                <a:cubicBezTo>
                  <a:pt x="15050" y="8833"/>
                  <a:pt x="15096" y="8881"/>
                  <a:pt x="15081" y="8954"/>
                </a:cubicBezTo>
                <a:cubicBezTo>
                  <a:pt x="15073" y="8971"/>
                  <a:pt x="15064" y="8987"/>
                  <a:pt x="15056" y="9004"/>
                </a:cubicBezTo>
                <a:cubicBezTo>
                  <a:pt x="14959" y="9004"/>
                  <a:pt x="14867" y="8996"/>
                  <a:pt x="14784" y="8979"/>
                </a:cubicBezTo>
                <a:cubicBezTo>
                  <a:pt x="14721" y="8966"/>
                  <a:pt x="14664" y="8961"/>
                  <a:pt x="14610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7" name="Ink 16"/>
          <p:cNvSpPr/>
          <p:nvPr/>
        </p:nvSpPr>
        <p:spPr>
          <a:xfrm>
            <a:off x="1509840" y="2867040"/>
            <a:ext cx="241200" cy="347760"/>
          </a:xfrm>
          <a:custGeom>
            <a:avLst/>
            <a:gdLst/>
            <a:ahLst/>
            <a:rect l="l" t="t" r="r" b="b"/>
            <a:pathLst>
              <a:path w="671" h="969">
                <a:moveTo>
                  <a:pt x="4787" y="8012"/>
                </a:moveTo>
                <a:cubicBezTo>
                  <a:pt x="4811" y="8060"/>
                  <a:pt x="4819" y="8074"/>
                  <a:pt x="4812" y="8111"/>
                </a:cubicBezTo>
                <a:cubicBezTo>
                  <a:pt x="4790" y="8058"/>
                  <a:pt x="4752" y="7944"/>
                  <a:pt x="4663" y="7962"/>
                </a:cubicBezTo>
                <a:cubicBezTo>
                  <a:pt x="4415" y="8012"/>
                  <a:pt x="4465" y="8056"/>
                  <a:pt x="4316" y="8161"/>
                </a:cubicBezTo>
                <a:cubicBezTo>
                  <a:pt x="4262" y="8188"/>
                  <a:pt x="4242" y="8199"/>
                  <a:pt x="4217" y="8235"/>
                </a:cubicBezTo>
                <a:cubicBezTo>
                  <a:pt x="4263" y="8317"/>
                  <a:pt x="4305" y="8319"/>
                  <a:pt x="4390" y="8359"/>
                </a:cubicBezTo>
                <a:cubicBezTo>
                  <a:pt x="4499" y="8411"/>
                  <a:pt x="4589" y="8465"/>
                  <a:pt x="4688" y="8533"/>
                </a:cubicBezTo>
                <a:cubicBezTo>
                  <a:pt x="4759" y="8582"/>
                  <a:pt x="4866" y="8652"/>
                  <a:pt x="4862" y="8756"/>
                </a:cubicBezTo>
                <a:cubicBezTo>
                  <a:pt x="4857" y="8891"/>
                  <a:pt x="4714" y="8916"/>
                  <a:pt x="4614" y="8930"/>
                </a:cubicBezTo>
                <a:cubicBezTo>
                  <a:pt x="4515" y="8944"/>
                  <a:pt x="4407" y="8936"/>
                  <a:pt x="4316" y="8905"/>
                </a:cubicBezTo>
                <a:cubicBezTo>
                  <a:pt x="4212" y="8870"/>
                  <a:pt x="4202" y="8830"/>
                  <a:pt x="4192" y="87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8" name="Ink 17"/>
          <p:cNvSpPr/>
          <p:nvPr/>
        </p:nvSpPr>
        <p:spPr>
          <a:xfrm>
            <a:off x="1847880" y="2990880"/>
            <a:ext cx="9360" cy="223920"/>
          </a:xfrm>
          <a:custGeom>
            <a:avLst/>
            <a:gdLst/>
            <a:ahLst/>
            <a:rect l="l" t="t" r="r" b="b"/>
            <a:pathLst>
              <a:path w="25" h="621">
                <a:moveTo>
                  <a:pt x="5159" y="8310"/>
                </a:moveTo>
                <a:cubicBezTo>
                  <a:pt x="5154" y="8467"/>
                  <a:pt x="5135" y="8604"/>
                  <a:pt x="5135" y="8756"/>
                </a:cubicBezTo>
                <a:cubicBezTo>
                  <a:pt x="5135" y="8834"/>
                  <a:pt x="5159" y="8958"/>
                  <a:pt x="5159" y="8880"/>
                </a:cubicBezTo>
                <a:cubicBezTo>
                  <a:pt x="5159" y="8863"/>
                  <a:pt x="5159" y="8847"/>
                  <a:pt x="5159" y="88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9" name="Ink 18"/>
          <p:cNvSpPr/>
          <p:nvPr/>
        </p:nvSpPr>
        <p:spPr>
          <a:xfrm>
            <a:off x="1866960" y="2830680"/>
            <a:ext cx="7920" cy="27000"/>
          </a:xfrm>
          <a:custGeom>
            <a:avLst/>
            <a:gdLst/>
            <a:ahLst/>
            <a:rect l="l" t="t" r="r" b="b"/>
            <a:pathLst>
              <a:path w="26" h="76">
                <a:moveTo>
                  <a:pt x="5184" y="7938"/>
                </a:moveTo>
                <a:cubicBezTo>
                  <a:pt x="5184" y="7893"/>
                  <a:pt x="5181" y="7880"/>
                  <a:pt x="5209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0" name="Ink 19"/>
          <p:cNvSpPr/>
          <p:nvPr/>
        </p:nvSpPr>
        <p:spPr>
          <a:xfrm>
            <a:off x="1973160" y="2955960"/>
            <a:ext cx="250920" cy="276120"/>
          </a:xfrm>
          <a:custGeom>
            <a:avLst/>
            <a:gdLst/>
            <a:ahLst/>
            <a:rect l="l" t="t" r="r" b="b"/>
            <a:pathLst>
              <a:path w="695" h="770">
                <a:moveTo>
                  <a:pt x="5482" y="8830"/>
                </a:moveTo>
                <a:cubicBezTo>
                  <a:pt x="5482" y="8863"/>
                  <a:pt x="5482" y="8897"/>
                  <a:pt x="5482" y="8930"/>
                </a:cubicBezTo>
                <a:cubicBezTo>
                  <a:pt x="5507" y="8888"/>
                  <a:pt x="5524" y="8809"/>
                  <a:pt x="5531" y="8756"/>
                </a:cubicBezTo>
                <a:cubicBezTo>
                  <a:pt x="5543" y="8659"/>
                  <a:pt x="5574" y="8579"/>
                  <a:pt x="5606" y="8483"/>
                </a:cubicBezTo>
                <a:cubicBezTo>
                  <a:pt x="5633" y="8403"/>
                  <a:pt x="5690" y="8289"/>
                  <a:pt x="5755" y="8235"/>
                </a:cubicBezTo>
                <a:cubicBezTo>
                  <a:pt x="5815" y="8185"/>
                  <a:pt x="5877" y="8218"/>
                  <a:pt x="5928" y="8260"/>
                </a:cubicBezTo>
                <a:cubicBezTo>
                  <a:pt x="6034" y="8348"/>
                  <a:pt x="6053" y="8463"/>
                  <a:pt x="6102" y="8582"/>
                </a:cubicBezTo>
                <a:cubicBezTo>
                  <a:pt x="6136" y="8665"/>
                  <a:pt x="6171" y="8739"/>
                  <a:pt x="6176" y="8830"/>
                </a:cubicBezTo>
                <a:cubicBezTo>
                  <a:pt x="6176" y="8897"/>
                  <a:pt x="6172" y="8931"/>
                  <a:pt x="6152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1" name="Ink 20"/>
          <p:cNvSpPr/>
          <p:nvPr/>
        </p:nvSpPr>
        <p:spPr>
          <a:xfrm>
            <a:off x="1670040" y="3795840"/>
            <a:ext cx="196920" cy="312480"/>
          </a:xfrm>
          <a:custGeom>
            <a:avLst/>
            <a:gdLst/>
            <a:ahLst/>
            <a:rect l="l" t="t" r="r" b="b"/>
            <a:pathLst>
              <a:path w="547" h="869">
                <a:moveTo>
                  <a:pt x="5011" y="10616"/>
                </a:moveTo>
                <a:cubicBezTo>
                  <a:pt x="5011" y="10633"/>
                  <a:pt x="5011" y="10649"/>
                  <a:pt x="5011" y="10666"/>
                </a:cubicBezTo>
                <a:cubicBezTo>
                  <a:pt x="4984" y="10632"/>
                  <a:pt x="4944" y="10539"/>
                  <a:pt x="4887" y="10542"/>
                </a:cubicBezTo>
                <a:cubicBezTo>
                  <a:pt x="4809" y="10547"/>
                  <a:pt x="4717" y="10645"/>
                  <a:pt x="4688" y="10716"/>
                </a:cubicBezTo>
                <a:cubicBezTo>
                  <a:pt x="4662" y="10780"/>
                  <a:pt x="4627" y="10896"/>
                  <a:pt x="4638" y="10964"/>
                </a:cubicBezTo>
                <a:cubicBezTo>
                  <a:pt x="4651" y="11050"/>
                  <a:pt x="4703" y="11158"/>
                  <a:pt x="4738" y="11237"/>
                </a:cubicBezTo>
                <a:cubicBezTo>
                  <a:pt x="4776" y="11321"/>
                  <a:pt x="4860" y="11362"/>
                  <a:pt x="4936" y="11385"/>
                </a:cubicBezTo>
                <a:cubicBezTo>
                  <a:pt x="5048" y="11419"/>
                  <a:pt x="5077" y="11385"/>
                  <a:pt x="5184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2" name="Ink 21"/>
          <p:cNvSpPr/>
          <p:nvPr/>
        </p:nvSpPr>
        <p:spPr>
          <a:xfrm>
            <a:off x="1919160" y="3875040"/>
            <a:ext cx="179640" cy="241200"/>
          </a:xfrm>
          <a:custGeom>
            <a:avLst/>
            <a:gdLst/>
            <a:ahLst/>
            <a:rect l="l" t="t" r="r" b="b"/>
            <a:pathLst>
              <a:path w="497" h="671">
                <a:moveTo>
                  <a:pt x="5457" y="10790"/>
                </a:moveTo>
                <a:cubicBezTo>
                  <a:pt x="5422" y="10834"/>
                  <a:pt x="5368" y="10906"/>
                  <a:pt x="5358" y="10964"/>
                </a:cubicBezTo>
                <a:cubicBezTo>
                  <a:pt x="5342" y="11053"/>
                  <a:pt x="5321" y="11126"/>
                  <a:pt x="5358" y="11212"/>
                </a:cubicBezTo>
                <a:cubicBezTo>
                  <a:pt x="5395" y="11300"/>
                  <a:pt x="5425" y="11403"/>
                  <a:pt x="5531" y="11435"/>
                </a:cubicBezTo>
                <a:cubicBezTo>
                  <a:pt x="5592" y="11454"/>
                  <a:pt x="5682" y="11436"/>
                  <a:pt x="5730" y="11410"/>
                </a:cubicBezTo>
                <a:cubicBezTo>
                  <a:pt x="5801" y="11371"/>
                  <a:pt x="5826" y="11291"/>
                  <a:pt x="5829" y="11212"/>
                </a:cubicBezTo>
                <a:cubicBezTo>
                  <a:pt x="5834" y="11097"/>
                  <a:pt x="5762" y="11050"/>
                  <a:pt x="5705" y="10964"/>
                </a:cubicBezTo>
                <a:cubicBezTo>
                  <a:pt x="5644" y="10873"/>
                  <a:pt x="5552" y="10867"/>
                  <a:pt x="5482" y="10790"/>
                </a:cubicBezTo>
                <a:cubicBezTo>
                  <a:pt x="5482" y="10782"/>
                  <a:pt x="5482" y="10773"/>
                  <a:pt x="5482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3" name="Ink 22"/>
          <p:cNvSpPr/>
          <p:nvPr/>
        </p:nvSpPr>
        <p:spPr>
          <a:xfrm>
            <a:off x="2152800" y="3911760"/>
            <a:ext cx="204480" cy="241200"/>
          </a:xfrm>
          <a:custGeom>
            <a:avLst/>
            <a:gdLst/>
            <a:ahLst/>
            <a:rect l="l" t="t" r="r" b="b"/>
            <a:pathLst>
              <a:path w="571" h="671">
                <a:moveTo>
                  <a:pt x="6499" y="10864"/>
                </a:moveTo>
                <a:cubicBezTo>
                  <a:pt x="6370" y="10886"/>
                  <a:pt x="6258" y="10889"/>
                  <a:pt x="6127" y="10889"/>
                </a:cubicBezTo>
                <a:cubicBezTo>
                  <a:pt x="6064" y="10889"/>
                  <a:pt x="6028" y="10905"/>
                  <a:pt x="5978" y="10939"/>
                </a:cubicBezTo>
                <a:cubicBezTo>
                  <a:pt x="6001" y="11018"/>
                  <a:pt x="6051" y="11033"/>
                  <a:pt x="6127" y="11088"/>
                </a:cubicBezTo>
                <a:cubicBezTo>
                  <a:pt x="6243" y="11173"/>
                  <a:pt x="6354" y="11237"/>
                  <a:pt x="6449" y="11336"/>
                </a:cubicBezTo>
                <a:cubicBezTo>
                  <a:pt x="6516" y="11406"/>
                  <a:pt x="6598" y="11466"/>
                  <a:pt x="6474" y="11534"/>
                </a:cubicBezTo>
                <a:cubicBezTo>
                  <a:pt x="6398" y="11576"/>
                  <a:pt x="6166" y="11534"/>
                  <a:pt x="6077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4" name="Ink 23"/>
          <p:cNvSpPr/>
          <p:nvPr/>
        </p:nvSpPr>
        <p:spPr>
          <a:xfrm>
            <a:off x="4581360" y="4919760"/>
            <a:ext cx="150840" cy="287280"/>
          </a:xfrm>
          <a:custGeom>
            <a:avLst/>
            <a:gdLst/>
            <a:ahLst/>
            <a:rect l="l" t="t" r="r" b="b"/>
            <a:pathLst>
              <a:path w="422" h="795">
                <a:moveTo>
                  <a:pt x="13097" y="13915"/>
                </a:moveTo>
                <a:cubicBezTo>
                  <a:pt x="13122" y="13940"/>
                  <a:pt x="13130" y="13948"/>
                  <a:pt x="13146" y="13965"/>
                </a:cubicBezTo>
                <a:cubicBezTo>
                  <a:pt x="13146" y="13897"/>
                  <a:pt x="13148" y="13803"/>
                  <a:pt x="13122" y="13742"/>
                </a:cubicBezTo>
                <a:cubicBezTo>
                  <a:pt x="13088" y="13664"/>
                  <a:pt x="13050" y="13667"/>
                  <a:pt x="12973" y="13667"/>
                </a:cubicBezTo>
                <a:cubicBezTo>
                  <a:pt x="12907" y="13667"/>
                  <a:pt x="12866" y="13714"/>
                  <a:pt x="12824" y="13767"/>
                </a:cubicBezTo>
                <a:cubicBezTo>
                  <a:pt x="12766" y="13842"/>
                  <a:pt x="12710" y="13940"/>
                  <a:pt x="12725" y="14039"/>
                </a:cubicBezTo>
                <a:cubicBezTo>
                  <a:pt x="12743" y="14158"/>
                  <a:pt x="12828" y="14309"/>
                  <a:pt x="12923" y="14387"/>
                </a:cubicBezTo>
                <a:cubicBezTo>
                  <a:pt x="12990" y="14442"/>
                  <a:pt x="13046" y="14436"/>
                  <a:pt x="13122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5" name="Ink 24"/>
          <p:cNvSpPr/>
          <p:nvPr/>
        </p:nvSpPr>
        <p:spPr>
          <a:xfrm>
            <a:off x="4776840" y="4973760"/>
            <a:ext cx="196920" cy="241200"/>
          </a:xfrm>
          <a:custGeom>
            <a:avLst/>
            <a:gdLst/>
            <a:ahLst/>
            <a:rect l="l" t="t" r="r" b="b"/>
            <a:pathLst>
              <a:path w="546" h="671">
                <a:moveTo>
                  <a:pt x="13370" y="13841"/>
                </a:moveTo>
                <a:cubicBezTo>
                  <a:pt x="13311" y="13929"/>
                  <a:pt x="13247" y="14000"/>
                  <a:pt x="13271" y="14114"/>
                </a:cubicBezTo>
                <a:cubicBezTo>
                  <a:pt x="13298" y="14241"/>
                  <a:pt x="13356" y="14320"/>
                  <a:pt x="13444" y="14412"/>
                </a:cubicBezTo>
                <a:cubicBezTo>
                  <a:pt x="13520" y="14492"/>
                  <a:pt x="13615" y="14510"/>
                  <a:pt x="13717" y="14461"/>
                </a:cubicBezTo>
                <a:cubicBezTo>
                  <a:pt x="13838" y="14403"/>
                  <a:pt x="13816" y="14302"/>
                  <a:pt x="13816" y="14188"/>
                </a:cubicBezTo>
                <a:cubicBezTo>
                  <a:pt x="13816" y="14061"/>
                  <a:pt x="13779" y="14007"/>
                  <a:pt x="13692" y="13915"/>
                </a:cubicBezTo>
                <a:cubicBezTo>
                  <a:pt x="13625" y="13844"/>
                  <a:pt x="13563" y="13826"/>
                  <a:pt x="13469" y="13816"/>
                </a:cubicBezTo>
                <a:cubicBezTo>
                  <a:pt x="13446" y="13897"/>
                  <a:pt x="13470" y="13912"/>
                  <a:pt x="13543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6" name="Ink 25"/>
          <p:cNvSpPr/>
          <p:nvPr/>
        </p:nvSpPr>
        <p:spPr>
          <a:xfrm>
            <a:off x="5143680" y="4929120"/>
            <a:ext cx="26640" cy="330120"/>
          </a:xfrm>
          <a:custGeom>
            <a:avLst/>
            <a:gdLst/>
            <a:ahLst/>
            <a:rect l="l" t="t" r="r" b="b"/>
            <a:pathLst>
              <a:path w="75" h="919">
                <a:moveTo>
                  <a:pt x="14288" y="13692"/>
                </a:moveTo>
                <a:cubicBezTo>
                  <a:pt x="14288" y="13813"/>
                  <a:pt x="14302" y="13921"/>
                  <a:pt x="14312" y="14039"/>
                </a:cubicBezTo>
                <a:cubicBezTo>
                  <a:pt x="14325" y="14191"/>
                  <a:pt x="14362" y="14332"/>
                  <a:pt x="14362" y="14486"/>
                </a:cubicBezTo>
                <a:cubicBezTo>
                  <a:pt x="14362" y="14564"/>
                  <a:pt x="14377" y="14582"/>
                  <a:pt x="14337" y="146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7" name="Ink 26"/>
          <p:cNvSpPr/>
          <p:nvPr/>
        </p:nvSpPr>
        <p:spPr>
          <a:xfrm>
            <a:off x="5037120" y="4983120"/>
            <a:ext cx="177840" cy="17640"/>
          </a:xfrm>
          <a:custGeom>
            <a:avLst/>
            <a:gdLst/>
            <a:ahLst/>
            <a:rect l="l" t="t" r="r" b="b"/>
            <a:pathLst>
              <a:path w="497" h="51">
                <a:moveTo>
                  <a:pt x="13990" y="13866"/>
                </a:moveTo>
                <a:cubicBezTo>
                  <a:pt x="14123" y="13832"/>
                  <a:pt x="14182" y="13875"/>
                  <a:pt x="14312" y="13891"/>
                </a:cubicBezTo>
                <a:cubicBezTo>
                  <a:pt x="14403" y="13891"/>
                  <a:pt x="14428" y="13891"/>
                  <a:pt x="14486" y="138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8" name="Ink 27"/>
          <p:cNvSpPr/>
          <p:nvPr/>
        </p:nvSpPr>
        <p:spPr>
          <a:xfrm>
            <a:off x="4456080" y="4010040"/>
            <a:ext cx="187200" cy="276120"/>
          </a:xfrm>
          <a:custGeom>
            <a:avLst/>
            <a:gdLst/>
            <a:ahLst/>
            <a:rect l="l" t="t" r="r" b="b"/>
            <a:pathLst>
              <a:path w="521" h="770">
                <a:moveTo>
                  <a:pt x="12898" y="11187"/>
                </a:moveTo>
                <a:cubicBezTo>
                  <a:pt x="12816" y="11145"/>
                  <a:pt x="12768" y="11137"/>
                  <a:pt x="12675" y="11137"/>
                </a:cubicBezTo>
                <a:cubicBezTo>
                  <a:pt x="12583" y="11137"/>
                  <a:pt x="12511" y="11173"/>
                  <a:pt x="12427" y="11187"/>
                </a:cubicBezTo>
                <a:cubicBezTo>
                  <a:pt x="12411" y="11187"/>
                  <a:pt x="12394" y="11187"/>
                  <a:pt x="12378" y="11187"/>
                </a:cubicBezTo>
                <a:cubicBezTo>
                  <a:pt x="12392" y="11259"/>
                  <a:pt x="12454" y="11356"/>
                  <a:pt x="12526" y="11410"/>
                </a:cubicBezTo>
                <a:cubicBezTo>
                  <a:pt x="12639" y="11495"/>
                  <a:pt x="12758" y="11565"/>
                  <a:pt x="12849" y="11683"/>
                </a:cubicBezTo>
                <a:cubicBezTo>
                  <a:pt x="12894" y="11741"/>
                  <a:pt x="12919" y="11813"/>
                  <a:pt x="12849" y="11857"/>
                </a:cubicBezTo>
                <a:cubicBezTo>
                  <a:pt x="12739" y="11926"/>
                  <a:pt x="12636" y="11902"/>
                  <a:pt x="12526" y="11857"/>
                </a:cubicBezTo>
                <a:cubicBezTo>
                  <a:pt x="12473" y="11835"/>
                  <a:pt x="12442" y="11797"/>
                  <a:pt x="12402" y="117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9" name="Ink 28"/>
          <p:cNvSpPr/>
          <p:nvPr/>
        </p:nvSpPr>
        <p:spPr>
          <a:xfrm>
            <a:off x="4697280" y="4062240"/>
            <a:ext cx="15264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3072" y="11534"/>
                </a:moveTo>
                <a:cubicBezTo>
                  <a:pt x="13093" y="11532"/>
                  <a:pt x="13450" y="11544"/>
                  <a:pt x="13469" y="11435"/>
                </a:cubicBezTo>
                <a:cubicBezTo>
                  <a:pt x="13490" y="11314"/>
                  <a:pt x="13353" y="11290"/>
                  <a:pt x="13271" y="11286"/>
                </a:cubicBezTo>
                <a:cubicBezTo>
                  <a:pt x="13179" y="11282"/>
                  <a:pt x="13139" y="11335"/>
                  <a:pt x="13097" y="11410"/>
                </a:cubicBezTo>
                <a:cubicBezTo>
                  <a:pt x="13045" y="11503"/>
                  <a:pt x="13050" y="11606"/>
                  <a:pt x="13072" y="11708"/>
                </a:cubicBezTo>
                <a:cubicBezTo>
                  <a:pt x="13096" y="11820"/>
                  <a:pt x="13187" y="11829"/>
                  <a:pt x="13271" y="11881"/>
                </a:cubicBezTo>
                <a:cubicBezTo>
                  <a:pt x="13305" y="11917"/>
                  <a:pt x="13327" y="11920"/>
                  <a:pt x="13370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0" name="Ink 29"/>
          <p:cNvSpPr/>
          <p:nvPr/>
        </p:nvSpPr>
        <p:spPr>
          <a:xfrm>
            <a:off x="4840200" y="4044960"/>
            <a:ext cx="250920" cy="268200"/>
          </a:xfrm>
          <a:custGeom>
            <a:avLst/>
            <a:gdLst/>
            <a:ahLst/>
            <a:rect l="l" t="t" r="r" b="b"/>
            <a:pathLst>
              <a:path w="696" h="745">
                <a:moveTo>
                  <a:pt x="13866" y="11410"/>
                </a:moveTo>
                <a:cubicBezTo>
                  <a:pt x="13879" y="11373"/>
                  <a:pt x="13885" y="11261"/>
                  <a:pt x="13816" y="11237"/>
                </a:cubicBezTo>
                <a:cubicBezTo>
                  <a:pt x="13733" y="11208"/>
                  <a:pt x="13581" y="11258"/>
                  <a:pt x="13519" y="11311"/>
                </a:cubicBezTo>
                <a:cubicBezTo>
                  <a:pt x="13475" y="11349"/>
                  <a:pt x="13446" y="11455"/>
                  <a:pt x="13444" y="11509"/>
                </a:cubicBezTo>
                <a:cubicBezTo>
                  <a:pt x="13439" y="11617"/>
                  <a:pt x="13487" y="11710"/>
                  <a:pt x="13568" y="11782"/>
                </a:cubicBezTo>
                <a:cubicBezTo>
                  <a:pt x="13650" y="11854"/>
                  <a:pt x="13791" y="11920"/>
                  <a:pt x="13891" y="11956"/>
                </a:cubicBezTo>
                <a:cubicBezTo>
                  <a:pt x="14006" y="11985"/>
                  <a:pt x="14055" y="11991"/>
                  <a:pt x="14139" y="119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1" name="Ink 30"/>
          <p:cNvSpPr/>
          <p:nvPr/>
        </p:nvSpPr>
        <p:spPr>
          <a:xfrm>
            <a:off x="2500200" y="3009960"/>
            <a:ext cx="27000" cy="1440"/>
          </a:xfrm>
          <a:custGeom>
            <a:avLst/>
            <a:gdLst/>
            <a:ahLst/>
            <a:rect l="l" t="t" r="r" b="b"/>
            <a:pathLst>
              <a:path w="76" h="1">
                <a:moveTo>
                  <a:pt x="6945" y="8359"/>
                </a:moveTo>
                <a:cubicBezTo>
                  <a:pt x="6987" y="8359"/>
                  <a:pt x="6995" y="8359"/>
                  <a:pt x="7020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2" name="Ink 31"/>
          <p:cNvSpPr/>
          <p:nvPr/>
        </p:nvSpPr>
        <p:spPr>
          <a:xfrm>
            <a:off x="2463840" y="3116160"/>
            <a:ext cx="63360" cy="1800"/>
          </a:xfrm>
          <a:custGeom>
            <a:avLst/>
            <a:gdLst/>
            <a:ahLst/>
            <a:rect l="l" t="t" r="r" b="b"/>
            <a:pathLst>
              <a:path w="175" h="1">
                <a:moveTo>
                  <a:pt x="6846" y="8657"/>
                </a:moveTo>
                <a:cubicBezTo>
                  <a:pt x="6945" y="8657"/>
                  <a:pt x="6962" y="8657"/>
                  <a:pt x="7020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3" name="Ink 32"/>
          <p:cNvSpPr/>
          <p:nvPr/>
        </p:nvSpPr>
        <p:spPr>
          <a:xfrm>
            <a:off x="2554200" y="4017960"/>
            <a:ext cx="61920" cy="1440"/>
          </a:xfrm>
          <a:custGeom>
            <a:avLst/>
            <a:gdLst/>
            <a:ahLst/>
            <a:rect l="l" t="t" r="r" b="b"/>
            <a:pathLst>
              <a:path w="175" h="1">
                <a:moveTo>
                  <a:pt x="7094" y="11162"/>
                </a:moveTo>
                <a:cubicBezTo>
                  <a:pt x="7185" y="11162"/>
                  <a:pt x="7210" y="11162"/>
                  <a:pt x="7268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4" name="Ink 33"/>
          <p:cNvSpPr/>
          <p:nvPr/>
        </p:nvSpPr>
        <p:spPr>
          <a:xfrm>
            <a:off x="2581200" y="4098960"/>
            <a:ext cx="71640" cy="1440"/>
          </a:xfrm>
          <a:custGeom>
            <a:avLst/>
            <a:gdLst/>
            <a:ahLst/>
            <a:rect l="l" t="t" r="r" b="b"/>
            <a:pathLst>
              <a:path w="199" h="1">
                <a:moveTo>
                  <a:pt x="7169" y="11385"/>
                </a:moveTo>
                <a:cubicBezTo>
                  <a:pt x="7284" y="11385"/>
                  <a:pt x="7301" y="11385"/>
                  <a:pt x="7367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5" name="Ink 34"/>
          <p:cNvSpPr/>
          <p:nvPr/>
        </p:nvSpPr>
        <p:spPr>
          <a:xfrm>
            <a:off x="5402160" y="5197320"/>
            <a:ext cx="115920" cy="972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5007" y="14461"/>
                </a:moveTo>
                <a:cubicBezTo>
                  <a:pt x="15118" y="14461"/>
                  <a:pt x="15225" y="14471"/>
                  <a:pt x="15329" y="144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6" name="Ink 35"/>
          <p:cNvSpPr/>
          <p:nvPr/>
        </p:nvSpPr>
        <p:spPr>
          <a:xfrm>
            <a:off x="5392800" y="5249880"/>
            <a:ext cx="108000" cy="460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14982" y="14585"/>
                </a:moveTo>
                <a:cubicBezTo>
                  <a:pt x="15014" y="14666"/>
                  <a:pt x="15051" y="14719"/>
                  <a:pt x="15156" y="14709"/>
                </a:cubicBezTo>
                <a:cubicBezTo>
                  <a:pt x="15212" y="14680"/>
                  <a:pt x="15236" y="14670"/>
                  <a:pt x="15280" y="146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7" name="Ink 36"/>
          <p:cNvSpPr/>
          <p:nvPr/>
        </p:nvSpPr>
        <p:spPr>
          <a:xfrm>
            <a:off x="5259240" y="4089240"/>
            <a:ext cx="63720" cy="9720"/>
          </a:xfrm>
          <a:custGeom>
            <a:avLst/>
            <a:gdLst/>
            <a:ahLst/>
            <a:rect l="l" t="t" r="r" b="b"/>
            <a:pathLst>
              <a:path w="175" h="25">
                <a:moveTo>
                  <a:pt x="14610" y="11385"/>
                </a:moveTo>
                <a:cubicBezTo>
                  <a:pt x="14702" y="11363"/>
                  <a:pt x="14727" y="11352"/>
                  <a:pt x="14784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8" name="Ink 37"/>
          <p:cNvSpPr/>
          <p:nvPr/>
        </p:nvSpPr>
        <p:spPr>
          <a:xfrm>
            <a:off x="5214960" y="4187880"/>
            <a:ext cx="982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4486" y="11633"/>
                </a:moveTo>
                <a:cubicBezTo>
                  <a:pt x="14597" y="11664"/>
                  <a:pt x="14644" y="11658"/>
                  <a:pt x="14759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9" name="Ink 38"/>
          <p:cNvSpPr/>
          <p:nvPr/>
        </p:nvSpPr>
        <p:spPr>
          <a:xfrm>
            <a:off x="5518080" y="4062240"/>
            <a:ext cx="233280" cy="46080"/>
          </a:xfrm>
          <a:custGeom>
            <a:avLst/>
            <a:gdLst/>
            <a:ahLst/>
            <a:rect l="l" t="t" r="r" b="b"/>
            <a:pathLst>
              <a:path w="646" h="125">
                <a:moveTo>
                  <a:pt x="15577" y="11361"/>
                </a:moveTo>
                <a:cubicBezTo>
                  <a:pt x="15510" y="11361"/>
                  <a:pt x="15458" y="11347"/>
                  <a:pt x="15404" y="11336"/>
                </a:cubicBezTo>
                <a:cubicBezTo>
                  <a:pt x="15359" y="11336"/>
                  <a:pt x="15346" y="11339"/>
                  <a:pt x="15329" y="11311"/>
                </a:cubicBezTo>
                <a:cubicBezTo>
                  <a:pt x="15413" y="11283"/>
                  <a:pt x="15487" y="11286"/>
                  <a:pt x="15577" y="11286"/>
                </a:cubicBezTo>
                <a:cubicBezTo>
                  <a:pt x="15654" y="11286"/>
                  <a:pt x="15722" y="11311"/>
                  <a:pt x="15801" y="11311"/>
                </a:cubicBezTo>
                <a:cubicBezTo>
                  <a:pt x="15826" y="11311"/>
                  <a:pt x="15850" y="11311"/>
                  <a:pt x="15875" y="11311"/>
                </a:cubicBezTo>
                <a:cubicBezTo>
                  <a:pt x="16012" y="11311"/>
                  <a:pt x="15748" y="11306"/>
                  <a:pt x="15726" y="11311"/>
                </a:cubicBezTo>
                <a:cubicBezTo>
                  <a:pt x="15652" y="11328"/>
                  <a:pt x="15581" y="11357"/>
                  <a:pt x="15503" y="11361"/>
                </a:cubicBezTo>
                <a:cubicBezTo>
                  <a:pt x="15486" y="11361"/>
                  <a:pt x="15470" y="11361"/>
                  <a:pt x="15453" y="11361"/>
                </a:cubicBezTo>
                <a:cubicBezTo>
                  <a:pt x="15523" y="11395"/>
                  <a:pt x="15617" y="11406"/>
                  <a:pt x="15701" y="11410"/>
                </a:cubicBezTo>
                <a:cubicBezTo>
                  <a:pt x="15792" y="11414"/>
                  <a:pt x="15883" y="11410"/>
                  <a:pt x="15974" y="11410"/>
                </a:cubicBezTo>
                <a:cubicBezTo>
                  <a:pt x="15897" y="11403"/>
                  <a:pt x="15801" y="11404"/>
                  <a:pt x="15726" y="11385"/>
                </a:cubicBezTo>
                <a:cubicBezTo>
                  <a:pt x="15641" y="11363"/>
                  <a:pt x="15569" y="11361"/>
                  <a:pt x="15478" y="11361"/>
                </a:cubicBezTo>
                <a:cubicBezTo>
                  <a:pt x="15350" y="11361"/>
                  <a:pt x="15552" y="11361"/>
                  <a:pt x="15577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0" name="Ink 39"/>
          <p:cNvSpPr/>
          <p:nvPr/>
        </p:nvSpPr>
        <p:spPr>
          <a:xfrm>
            <a:off x="5742000" y="5170320"/>
            <a:ext cx="152280" cy="44640"/>
          </a:xfrm>
          <a:custGeom>
            <a:avLst/>
            <a:gdLst/>
            <a:ahLst/>
            <a:rect l="l" t="t" r="r" b="b"/>
            <a:pathLst>
              <a:path w="423" h="125">
                <a:moveTo>
                  <a:pt x="16371" y="14387"/>
                </a:moveTo>
                <a:cubicBezTo>
                  <a:pt x="16301" y="14396"/>
                  <a:pt x="16246" y="14412"/>
                  <a:pt x="16173" y="14412"/>
                </a:cubicBezTo>
                <a:cubicBezTo>
                  <a:pt x="16098" y="14412"/>
                  <a:pt x="16024" y="14412"/>
                  <a:pt x="15949" y="14412"/>
                </a:cubicBezTo>
                <a:cubicBezTo>
                  <a:pt x="16020" y="14438"/>
                  <a:pt x="16076" y="14420"/>
                  <a:pt x="16148" y="14436"/>
                </a:cubicBezTo>
                <a:cubicBezTo>
                  <a:pt x="16172" y="14441"/>
                  <a:pt x="16403" y="14459"/>
                  <a:pt x="16321" y="14436"/>
                </a:cubicBezTo>
                <a:cubicBezTo>
                  <a:pt x="16265" y="14420"/>
                  <a:pt x="16180" y="14393"/>
                  <a:pt x="16123" y="14387"/>
                </a:cubicBezTo>
                <a:cubicBezTo>
                  <a:pt x="16032" y="14377"/>
                  <a:pt x="16024" y="14373"/>
                  <a:pt x="15949" y="14362"/>
                </a:cubicBezTo>
                <a:cubicBezTo>
                  <a:pt x="16004" y="14390"/>
                  <a:pt x="16103" y="14423"/>
                  <a:pt x="16173" y="14436"/>
                </a:cubicBezTo>
                <a:cubicBezTo>
                  <a:pt x="16224" y="14446"/>
                  <a:pt x="16269" y="14454"/>
                  <a:pt x="16321" y="14461"/>
                </a:cubicBezTo>
                <a:cubicBezTo>
                  <a:pt x="16247" y="14461"/>
                  <a:pt x="16182" y="14445"/>
                  <a:pt x="16123" y="14436"/>
                </a:cubicBezTo>
                <a:cubicBezTo>
                  <a:pt x="16005" y="14418"/>
                  <a:pt x="15974" y="14462"/>
                  <a:pt x="16098" y="14436"/>
                </a:cubicBezTo>
                <a:cubicBezTo>
                  <a:pt x="16170" y="14421"/>
                  <a:pt x="16222" y="14412"/>
                  <a:pt x="16297" y="14412"/>
                </a:cubicBezTo>
                <a:cubicBezTo>
                  <a:pt x="16235" y="14460"/>
                  <a:pt x="16200" y="14461"/>
                  <a:pt x="16123" y="14461"/>
                </a:cubicBezTo>
                <a:cubicBezTo>
                  <a:pt x="16049" y="14461"/>
                  <a:pt x="16043" y="14502"/>
                  <a:pt x="15974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1" name="Ink 40"/>
          <p:cNvSpPr/>
          <p:nvPr/>
        </p:nvSpPr>
        <p:spPr>
          <a:xfrm>
            <a:off x="6796080" y="2357280"/>
            <a:ext cx="1535040" cy="1206720"/>
          </a:xfrm>
          <a:custGeom>
            <a:avLst/>
            <a:gdLst/>
            <a:ahLst/>
            <a:rect l="l" t="t" r="r" b="b"/>
            <a:pathLst>
              <a:path w="4268" h="3350">
                <a:moveTo>
                  <a:pt x="19124" y="9674"/>
                </a:moveTo>
                <a:cubicBezTo>
                  <a:pt x="19181" y="9648"/>
                  <a:pt x="19261" y="9635"/>
                  <a:pt x="19323" y="9599"/>
                </a:cubicBezTo>
                <a:cubicBezTo>
                  <a:pt x="19376" y="9568"/>
                  <a:pt x="19424" y="9513"/>
                  <a:pt x="19472" y="9475"/>
                </a:cubicBezTo>
                <a:cubicBezTo>
                  <a:pt x="19558" y="9407"/>
                  <a:pt x="19633" y="9318"/>
                  <a:pt x="19720" y="9252"/>
                </a:cubicBezTo>
                <a:cubicBezTo>
                  <a:pt x="19830" y="9169"/>
                  <a:pt x="19924" y="9094"/>
                  <a:pt x="20017" y="9004"/>
                </a:cubicBezTo>
                <a:cubicBezTo>
                  <a:pt x="20109" y="8915"/>
                  <a:pt x="20201" y="8839"/>
                  <a:pt x="20290" y="8756"/>
                </a:cubicBezTo>
                <a:cubicBezTo>
                  <a:pt x="20411" y="8644"/>
                  <a:pt x="20540" y="8546"/>
                  <a:pt x="20662" y="8434"/>
                </a:cubicBezTo>
                <a:cubicBezTo>
                  <a:pt x="20826" y="8283"/>
                  <a:pt x="20986" y="8127"/>
                  <a:pt x="21158" y="7987"/>
                </a:cubicBezTo>
                <a:cubicBezTo>
                  <a:pt x="21291" y="7880"/>
                  <a:pt x="21430" y="7781"/>
                  <a:pt x="21555" y="7665"/>
                </a:cubicBezTo>
                <a:cubicBezTo>
                  <a:pt x="21685" y="7545"/>
                  <a:pt x="21817" y="7431"/>
                  <a:pt x="21952" y="7317"/>
                </a:cubicBezTo>
                <a:cubicBezTo>
                  <a:pt x="22139" y="7160"/>
                  <a:pt x="22325" y="6989"/>
                  <a:pt x="22523" y="6846"/>
                </a:cubicBezTo>
                <a:cubicBezTo>
                  <a:pt x="22601" y="6790"/>
                  <a:pt x="22667" y="6729"/>
                  <a:pt x="22746" y="6672"/>
                </a:cubicBezTo>
                <a:cubicBezTo>
                  <a:pt x="22793" y="6639"/>
                  <a:pt x="22847" y="6604"/>
                  <a:pt x="22895" y="6573"/>
                </a:cubicBezTo>
                <a:cubicBezTo>
                  <a:pt x="22911" y="6565"/>
                  <a:pt x="22928" y="6556"/>
                  <a:pt x="22944" y="6548"/>
                </a:cubicBezTo>
                <a:cubicBezTo>
                  <a:pt x="22941" y="6615"/>
                  <a:pt x="22923" y="6686"/>
                  <a:pt x="22920" y="6747"/>
                </a:cubicBezTo>
                <a:cubicBezTo>
                  <a:pt x="22915" y="6850"/>
                  <a:pt x="22891" y="6996"/>
                  <a:pt x="22895" y="7094"/>
                </a:cubicBezTo>
                <a:cubicBezTo>
                  <a:pt x="22899" y="7190"/>
                  <a:pt x="22918" y="7290"/>
                  <a:pt x="22920" y="7392"/>
                </a:cubicBezTo>
                <a:cubicBezTo>
                  <a:pt x="22922" y="7519"/>
                  <a:pt x="22937" y="7638"/>
                  <a:pt x="22944" y="7764"/>
                </a:cubicBezTo>
                <a:cubicBezTo>
                  <a:pt x="22953" y="7938"/>
                  <a:pt x="22966" y="8111"/>
                  <a:pt x="22969" y="8285"/>
                </a:cubicBezTo>
                <a:cubicBezTo>
                  <a:pt x="22972" y="8428"/>
                  <a:pt x="22992" y="8561"/>
                  <a:pt x="22994" y="8706"/>
                </a:cubicBezTo>
                <a:cubicBezTo>
                  <a:pt x="22996" y="8865"/>
                  <a:pt x="23004" y="9020"/>
                  <a:pt x="23019" y="9178"/>
                </a:cubicBezTo>
                <a:cubicBezTo>
                  <a:pt x="23030" y="9291"/>
                  <a:pt x="23039" y="9439"/>
                  <a:pt x="23068" y="9550"/>
                </a:cubicBezTo>
                <a:cubicBezTo>
                  <a:pt x="23082" y="9601"/>
                  <a:pt x="23104" y="9665"/>
                  <a:pt x="23118" y="9723"/>
                </a:cubicBezTo>
                <a:cubicBezTo>
                  <a:pt x="23118" y="9768"/>
                  <a:pt x="23115" y="9781"/>
                  <a:pt x="23143" y="9798"/>
                </a:cubicBezTo>
                <a:cubicBezTo>
                  <a:pt x="23082" y="9803"/>
                  <a:pt x="23018" y="9816"/>
                  <a:pt x="22969" y="9823"/>
                </a:cubicBezTo>
                <a:cubicBezTo>
                  <a:pt x="22866" y="9839"/>
                  <a:pt x="22749" y="9863"/>
                  <a:pt x="22647" y="9872"/>
                </a:cubicBezTo>
                <a:cubicBezTo>
                  <a:pt x="22384" y="9894"/>
                  <a:pt x="22112" y="9866"/>
                  <a:pt x="21853" y="9847"/>
                </a:cubicBezTo>
                <a:cubicBezTo>
                  <a:pt x="21707" y="9836"/>
                  <a:pt x="21555" y="9806"/>
                  <a:pt x="21406" y="9798"/>
                </a:cubicBezTo>
                <a:cubicBezTo>
                  <a:pt x="20752" y="9761"/>
                  <a:pt x="20069" y="9787"/>
                  <a:pt x="19422" y="9823"/>
                </a:cubicBezTo>
                <a:cubicBezTo>
                  <a:pt x="19327" y="9828"/>
                  <a:pt x="19241" y="9831"/>
                  <a:pt x="19149" y="9847"/>
                </a:cubicBezTo>
                <a:cubicBezTo>
                  <a:pt x="19090" y="9857"/>
                  <a:pt x="19038" y="9859"/>
                  <a:pt x="18976" y="9872"/>
                </a:cubicBezTo>
                <a:cubicBezTo>
                  <a:pt x="18948" y="9878"/>
                  <a:pt x="18912" y="9891"/>
                  <a:pt x="18876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sc </a:t>
            </a:r>
            <a:r>
              <a:rPr b="0" lang="el-GR" sz="3200" spc="-1" strike="noStrike">
                <a:solidFill>
                  <a:srgbClr val="e6e6da"/>
                </a:solidFill>
                <a:latin typeface="Verdana"/>
              </a:rPr>
              <a:t>θ</a:t>
            </a: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=4, cot </a:t>
            </a:r>
            <a:r>
              <a:rPr b="0" lang="el-GR" sz="3200" spc="-1" strike="noStrike">
                <a:solidFill>
                  <a:srgbClr val="e6e6da"/>
                </a:solidFill>
                <a:latin typeface="Verdana"/>
              </a:rPr>
              <a:t>θ</a:t>
            </a: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&lt;0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3" name="Ink 3"/>
          <p:cNvSpPr/>
          <p:nvPr/>
        </p:nvSpPr>
        <p:spPr>
          <a:xfrm>
            <a:off x="1285920" y="3919680"/>
            <a:ext cx="768240" cy="438120"/>
          </a:xfrm>
          <a:custGeom>
            <a:avLst/>
            <a:gdLst/>
            <a:ahLst/>
            <a:rect l="l" t="t" r="r" b="b"/>
            <a:pathLst>
              <a:path w="2134" h="1217">
                <a:moveTo>
                  <a:pt x="4043" y="10889"/>
                </a:moveTo>
                <a:cubicBezTo>
                  <a:pt x="4034" y="11048"/>
                  <a:pt x="4006" y="11203"/>
                  <a:pt x="3994" y="11361"/>
                </a:cubicBezTo>
                <a:cubicBezTo>
                  <a:pt x="3983" y="11513"/>
                  <a:pt x="3994" y="11992"/>
                  <a:pt x="3994" y="11981"/>
                </a:cubicBezTo>
              </a:path>
              <a:path w="2134" h="1217">
                <a:moveTo>
                  <a:pt x="3572" y="11385"/>
                </a:moveTo>
                <a:cubicBezTo>
                  <a:pt x="3639" y="11419"/>
                  <a:pt x="3739" y="11437"/>
                  <a:pt x="3820" y="11460"/>
                </a:cubicBezTo>
                <a:cubicBezTo>
                  <a:pt x="3985" y="11507"/>
                  <a:pt x="4152" y="11527"/>
                  <a:pt x="4316" y="11559"/>
                </a:cubicBezTo>
                <a:cubicBezTo>
                  <a:pt x="4393" y="11574"/>
                  <a:pt x="4466" y="11587"/>
                  <a:pt x="4539" y="11609"/>
                </a:cubicBezTo>
                <a:cubicBezTo>
                  <a:pt x="4559" y="11744"/>
                  <a:pt x="4470" y="11723"/>
                  <a:pt x="4390" y="11807"/>
                </a:cubicBezTo>
                <a:cubicBezTo>
                  <a:pt x="4368" y="11831"/>
                  <a:pt x="4264" y="11990"/>
                  <a:pt x="4266" y="12030"/>
                </a:cubicBezTo>
                <a:cubicBezTo>
                  <a:pt x="4272" y="12139"/>
                  <a:pt x="4381" y="12100"/>
                  <a:pt x="4440" y="12080"/>
                </a:cubicBezTo>
                <a:cubicBezTo>
                  <a:pt x="4514" y="12055"/>
                  <a:pt x="4621" y="11971"/>
                  <a:pt x="4663" y="11906"/>
                </a:cubicBezTo>
                <a:cubicBezTo>
                  <a:pt x="4700" y="11849"/>
                  <a:pt x="4724" y="11770"/>
                  <a:pt x="4738" y="11708"/>
                </a:cubicBezTo>
                <a:cubicBezTo>
                  <a:pt x="4708" y="11698"/>
                  <a:pt x="4672" y="11762"/>
                  <a:pt x="4688" y="11832"/>
                </a:cubicBezTo>
                <a:cubicBezTo>
                  <a:pt x="4704" y="11904"/>
                  <a:pt x="4710" y="11988"/>
                  <a:pt x="4787" y="12030"/>
                </a:cubicBezTo>
                <a:cubicBezTo>
                  <a:pt x="4873" y="12077"/>
                  <a:pt x="4899" y="12071"/>
                  <a:pt x="4986" y="12055"/>
                </a:cubicBezTo>
              </a:path>
              <a:path w="2134" h="1217">
                <a:moveTo>
                  <a:pt x="5135" y="12055"/>
                </a:moveTo>
                <a:cubicBezTo>
                  <a:pt x="5143" y="12072"/>
                  <a:pt x="5151" y="12088"/>
                  <a:pt x="5159" y="12105"/>
                </a:cubicBezTo>
                <a:cubicBezTo>
                  <a:pt x="5159" y="11976"/>
                  <a:pt x="5161" y="11911"/>
                  <a:pt x="5209" y="11782"/>
                </a:cubicBezTo>
                <a:cubicBezTo>
                  <a:pt x="5231" y="11722"/>
                  <a:pt x="5260" y="11623"/>
                  <a:pt x="5333" y="11609"/>
                </a:cubicBezTo>
                <a:cubicBezTo>
                  <a:pt x="5465" y="11583"/>
                  <a:pt x="5479" y="11687"/>
                  <a:pt x="5556" y="11757"/>
                </a:cubicBezTo>
                <a:cubicBezTo>
                  <a:pt x="5652" y="11845"/>
                  <a:pt x="5649" y="11882"/>
                  <a:pt x="5680" y="12005"/>
                </a:cubicBezTo>
                <a:cubicBezTo>
                  <a:pt x="5699" y="12063"/>
                  <a:pt x="5708" y="12070"/>
                  <a:pt x="5705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4" name="Ink 4"/>
          <p:cNvSpPr/>
          <p:nvPr/>
        </p:nvSpPr>
        <p:spPr>
          <a:xfrm>
            <a:off x="4367160" y="4187880"/>
            <a:ext cx="696960" cy="312840"/>
          </a:xfrm>
          <a:custGeom>
            <a:avLst/>
            <a:gdLst/>
            <a:ahLst/>
            <a:rect l="l" t="t" r="r" b="b"/>
            <a:pathLst>
              <a:path w="1936" h="870">
                <a:moveTo>
                  <a:pt x="12477" y="11757"/>
                </a:moveTo>
                <a:cubicBezTo>
                  <a:pt x="12502" y="11807"/>
                  <a:pt x="12526" y="11856"/>
                  <a:pt x="12551" y="11906"/>
                </a:cubicBezTo>
                <a:cubicBezTo>
                  <a:pt x="12613" y="11845"/>
                  <a:pt x="12610" y="11821"/>
                  <a:pt x="12576" y="11733"/>
                </a:cubicBezTo>
                <a:cubicBezTo>
                  <a:pt x="12550" y="11666"/>
                  <a:pt x="12519" y="11637"/>
                  <a:pt x="12452" y="11633"/>
                </a:cubicBezTo>
                <a:cubicBezTo>
                  <a:pt x="12332" y="11626"/>
                  <a:pt x="12282" y="11679"/>
                  <a:pt x="12204" y="11757"/>
                </a:cubicBezTo>
                <a:cubicBezTo>
                  <a:pt x="12130" y="11831"/>
                  <a:pt x="12146" y="11891"/>
                  <a:pt x="12154" y="11981"/>
                </a:cubicBezTo>
                <a:cubicBezTo>
                  <a:pt x="12163" y="12085"/>
                  <a:pt x="12227" y="12200"/>
                  <a:pt x="12328" y="12254"/>
                </a:cubicBezTo>
                <a:cubicBezTo>
                  <a:pt x="12542" y="12369"/>
                  <a:pt x="12539" y="12360"/>
                  <a:pt x="12725" y="12303"/>
                </a:cubicBezTo>
              </a:path>
              <a:path w="1936" h="870">
                <a:moveTo>
                  <a:pt x="12948" y="11807"/>
                </a:moveTo>
                <a:cubicBezTo>
                  <a:pt x="12896" y="11874"/>
                  <a:pt x="12836" y="11965"/>
                  <a:pt x="12824" y="12055"/>
                </a:cubicBezTo>
                <a:cubicBezTo>
                  <a:pt x="12813" y="12137"/>
                  <a:pt x="12848" y="12260"/>
                  <a:pt x="12898" y="12328"/>
                </a:cubicBezTo>
                <a:cubicBezTo>
                  <a:pt x="12951" y="12401"/>
                  <a:pt x="13084" y="12440"/>
                  <a:pt x="13171" y="12427"/>
                </a:cubicBezTo>
                <a:cubicBezTo>
                  <a:pt x="13293" y="12409"/>
                  <a:pt x="13353" y="12290"/>
                  <a:pt x="13370" y="12179"/>
                </a:cubicBezTo>
                <a:cubicBezTo>
                  <a:pt x="13386" y="12073"/>
                  <a:pt x="13359" y="12009"/>
                  <a:pt x="13295" y="11931"/>
                </a:cubicBezTo>
                <a:cubicBezTo>
                  <a:pt x="13238" y="11862"/>
                  <a:pt x="13088" y="11827"/>
                  <a:pt x="12998" y="11857"/>
                </a:cubicBezTo>
                <a:cubicBezTo>
                  <a:pt x="12918" y="11884"/>
                  <a:pt x="12854" y="11985"/>
                  <a:pt x="12898" y="12055"/>
                </a:cubicBezTo>
                <a:cubicBezTo>
                  <a:pt x="12906" y="12063"/>
                  <a:pt x="12915" y="12072"/>
                  <a:pt x="12923" y="12080"/>
                </a:cubicBezTo>
              </a:path>
              <a:path w="1936" h="870">
                <a:moveTo>
                  <a:pt x="13841" y="11633"/>
                </a:moveTo>
                <a:cubicBezTo>
                  <a:pt x="13802" y="11770"/>
                  <a:pt x="13734" y="11959"/>
                  <a:pt x="13742" y="12105"/>
                </a:cubicBezTo>
                <a:cubicBezTo>
                  <a:pt x="13748" y="12209"/>
                  <a:pt x="13777" y="12327"/>
                  <a:pt x="13791" y="12427"/>
                </a:cubicBezTo>
                <a:cubicBezTo>
                  <a:pt x="13791" y="12472"/>
                  <a:pt x="13788" y="12485"/>
                  <a:pt x="13816" y="12502"/>
                </a:cubicBezTo>
              </a:path>
              <a:path w="1936" h="870">
                <a:moveTo>
                  <a:pt x="13469" y="11881"/>
                </a:moveTo>
                <a:cubicBezTo>
                  <a:pt x="13603" y="11889"/>
                  <a:pt x="13730" y="11906"/>
                  <a:pt x="13866" y="11906"/>
                </a:cubicBezTo>
                <a:cubicBezTo>
                  <a:pt x="13978" y="11906"/>
                  <a:pt x="14010" y="11912"/>
                  <a:pt x="14064" y="118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5" name="Ink 5"/>
          <p:cNvSpPr/>
          <p:nvPr/>
        </p:nvSpPr>
        <p:spPr>
          <a:xfrm>
            <a:off x="2187720" y="2554200"/>
            <a:ext cx="1849320" cy="2044800"/>
          </a:xfrm>
          <a:custGeom>
            <a:avLst/>
            <a:gdLst/>
            <a:ahLst/>
            <a:rect l="l" t="t" r="r" b="b"/>
            <a:pathLst>
              <a:path w="5136" h="5681">
                <a:moveTo>
                  <a:pt x="6077" y="11385"/>
                </a:moveTo>
                <a:cubicBezTo>
                  <a:pt x="6132" y="11353"/>
                  <a:pt x="6184" y="11361"/>
                  <a:pt x="6251" y="11361"/>
                </a:cubicBezTo>
                <a:cubicBezTo>
                  <a:pt x="6372" y="11361"/>
                  <a:pt x="6484" y="11354"/>
                  <a:pt x="6598" y="11336"/>
                </a:cubicBezTo>
                <a:cubicBezTo>
                  <a:pt x="6683" y="11323"/>
                  <a:pt x="6758" y="11311"/>
                  <a:pt x="6846" y="11311"/>
                </a:cubicBezTo>
                <a:cubicBezTo>
                  <a:pt x="6914" y="11311"/>
                  <a:pt x="7113" y="11336"/>
                  <a:pt x="7045" y="11336"/>
                </a:cubicBezTo>
                <a:cubicBezTo>
                  <a:pt x="7003" y="11336"/>
                  <a:pt x="6987" y="11344"/>
                  <a:pt x="6995" y="11311"/>
                </a:cubicBezTo>
              </a:path>
              <a:path w="5136" h="5681">
                <a:moveTo>
                  <a:pt x="7739" y="7565"/>
                </a:moveTo>
                <a:cubicBezTo>
                  <a:pt x="7766" y="7662"/>
                  <a:pt x="7764" y="7736"/>
                  <a:pt x="7764" y="7838"/>
                </a:cubicBezTo>
                <a:cubicBezTo>
                  <a:pt x="7764" y="7864"/>
                  <a:pt x="7789" y="8063"/>
                  <a:pt x="7789" y="7938"/>
                </a:cubicBezTo>
                <a:cubicBezTo>
                  <a:pt x="7789" y="7708"/>
                  <a:pt x="7772" y="7457"/>
                  <a:pt x="7813" y="7243"/>
                </a:cubicBezTo>
                <a:cubicBezTo>
                  <a:pt x="7835" y="7131"/>
                  <a:pt x="7843" y="7182"/>
                  <a:pt x="7938" y="7144"/>
                </a:cubicBezTo>
                <a:cubicBezTo>
                  <a:pt x="8003" y="7118"/>
                  <a:pt x="8056" y="7119"/>
                  <a:pt x="8136" y="7119"/>
                </a:cubicBezTo>
                <a:cubicBezTo>
                  <a:pt x="8279" y="7119"/>
                  <a:pt x="8478" y="7129"/>
                  <a:pt x="8582" y="7094"/>
                </a:cubicBezTo>
              </a:path>
              <a:path w="5136" h="5681">
                <a:moveTo>
                  <a:pt x="8037" y="7268"/>
                </a:moveTo>
                <a:cubicBezTo>
                  <a:pt x="8037" y="7350"/>
                  <a:pt x="8058" y="7414"/>
                  <a:pt x="8062" y="7491"/>
                </a:cubicBezTo>
                <a:cubicBezTo>
                  <a:pt x="8066" y="7559"/>
                  <a:pt x="8037" y="7617"/>
                  <a:pt x="8037" y="7689"/>
                </a:cubicBezTo>
                <a:cubicBezTo>
                  <a:pt x="8037" y="7697"/>
                  <a:pt x="8037" y="7908"/>
                  <a:pt x="8037" y="7838"/>
                </a:cubicBezTo>
              </a:path>
              <a:path w="5136" h="5681">
                <a:moveTo>
                  <a:pt x="8235" y="7317"/>
                </a:moveTo>
                <a:cubicBezTo>
                  <a:pt x="8331" y="7298"/>
                  <a:pt x="8411" y="7293"/>
                  <a:pt x="8508" y="7293"/>
                </a:cubicBezTo>
                <a:cubicBezTo>
                  <a:pt x="8564" y="7293"/>
                  <a:pt x="8577" y="7276"/>
                  <a:pt x="8632" y="7268"/>
                </a:cubicBezTo>
              </a:path>
              <a:path w="5136" h="5681">
                <a:moveTo>
                  <a:pt x="8359" y="7317"/>
                </a:moveTo>
                <a:cubicBezTo>
                  <a:pt x="8343" y="7370"/>
                  <a:pt x="8256" y="7508"/>
                  <a:pt x="8260" y="7565"/>
                </a:cubicBezTo>
                <a:cubicBezTo>
                  <a:pt x="8285" y="7590"/>
                  <a:pt x="8293" y="7598"/>
                  <a:pt x="8310" y="7615"/>
                </a:cubicBezTo>
                <a:cubicBezTo>
                  <a:pt x="8357" y="7566"/>
                  <a:pt x="8409" y="7542"/>
                  <a:pt x="8483" y="7565"/>
                </a:cubicBezTo>
                <a:cubicBezTo>
                  <a:pt x="8563" y="7590"/>
                  <a:pt x="8629" y="7724"/>
                  <a:pt x="8632" y="7789"/>
                </a:cubicBezTo>
                <a:cubicBezTo>
                  <a:pt x="8634" y="7831"/>
                  <a:pt x="8604" y="7896"/>
                  <a:pt x="8558" y="7913"/>
                </a:cubicBezTo>
                <a:cubicBezTo>
                  <a:pt x="8461" y="7949"/>
                  <a:pt x="8386" y="7962"/>
                  <a:pt x="8285" y="7962"/>
                </a:cubicBezTo>
              </a:path>
              <a:path w="5136" h="5681">
                <a:moveTo>
                  <a:pt x="7739" y="8161"/>
                </a:moveTo>
                <a:cubicBezTo>
                  <a:pt x="7807" y="8187"/>
                  <a:pt x="7887" y="8202"/>
                  <a:pt x="7962" y="8186"/>
                </a:cubicBezTo>
                <a:cubicBezTo>
                  <a:pt x="8062" y="8165"/>
                  <a:pt x="8161" y="8180"/>
                  <a:pt x="8260" y="8161"/>
                </a:cubicBezTo>
                <a:cubicBezTo>
                  <a:pt x="8373" y="8140"/>
                  <a:pt x="8491" y="8122"/>
                  <a:pt x="8607" y="8111"/>
                </a:cubicBezTo>
                <a:cubicBezTo>
                  <a:pt x="8674" y="8105"/>
                  <a:pt x="8706" y="8106"/>
                  <a:pt x="8756" y="8136"/>
                </a:cubicBezTo>
              </a:path>
              <a:path w="5136" h="5681">
                <a:moveTo>
                  <a:pt x="8012" y="8384"/>
                </a:moveTo>
                <a:cubicBezTo>
                  <a:pt x="8004" y="8449"/>
                  <a:pt x="7991" y="8504"/>
                  <a:pt x="7962" y="8558"/>
                </a:cubicBezTo>
                <a:cubicBezTo>
                  <a:pt x="7902" y="8671"/>
                  <a:pt x="7990" y="8661"/>
                  <a:pt x="8062" y="8682"/>
                </a:cubicBezTo>
                <a:cubicBezTo>
                  <a:pt x="8142" y="8705"/>
                  <a:pt x="8203" y="8727"/>
                  <a:pt x="8285" y="8731"/>
                </a:cubicBezTo>
                <a:cubicBezTo>
                  <a:pt x="8333" y="8733"/>
                  <a:pt x="8449" y="8737"/>
                  <a:pt x="8483" y="8706"/>
                </a:cubicBezTo>
                <a:cubicBezTo>
                  <a:pt x="8491" y="8690"/>
                  <a:pt x="8500" y="8673"/>
                  <a:pt x="8508" y="8657"/>
                </a:cubicBezTo>
              </a:path>
              <a:path w="5136" h="5681">
                <a:moveTo>
                  <a:pt x="8434" y="8310"/>
                </a:moveTo>
                <a:cubicBezTo>
                  <a:pt x="8434" y="8496"/>
                  <a:pt x="8427" y="8673"/>
                  <a:pt x="8409" y="8855"/>
                </a:cubicBezTo>
                <a:cubicBezTo>
                  <a:pt x="8397" y="8982"/>
                  <a:pt x="8414" y="9109"/>
                  <a:pt x="8434" y="9227"/>
                </a:cubicBezTo>
                <a:cubicBezTo>
                  <a:pt x="8438" y="9251"/>
                  <a:pt x="8447" y="9405"/>
                  <a:pt x="8434" y="9327"/>
                </a:cubicBezTo>
                <a:cubicBezTo>
                  <a:pt x="8434" y="9310"/>
                  <a:pt x="8434" y="9294"/>
                  <a:pt x="8434" y="9277"/>
                </a:cubicBezTo>
              </a:path>
              <a:path w="5136" h="5681">
                <a:moveTo>
                  <a:pt x="7640" y="10468"/>
                </a:moveTo>
                <a:cubicBezTo>
                  <a:pt x="7640" y="10765"/>
                  <a:pt x="7625" y="11070"/>
                  <a:pt x="7665" y="11361"/>
                </a:cubicBezTo>
                <a:cubicBezTo>
                  <a:pt x="7665" y="11405"/>
                  <a:pt x="7662" y="11418"/>
                  <a:pt x="7689" y="11435"/>
                </a:cubicBezTo>
              </a:path>
              <a:path w="5136" h="5681">
                <a:moveTo>
                  <a:pt x="7268" y="11658"/>
                </a:moveTo>
                <a:cubicBezTo>
                  <a:pt x="7330" y="11689"/>
                  <a:pt x="7392" y="11683"/>
                  <a:pt x="7466" y="11683"/>
                </a:cubicBezTo>
                <a:cubicBezTo>
                  <a:pt x="7606" y="11683"/>
                  <a:pt x="7783" y="11721"/>
                  <a:pt x="7913" y="11708"/>
                </a:cubicBezTo>
                <a:cubicBezTo>
                  <a:pt x="7987" y="11701"/>
                  <a:pt x="7995" y="11684"/>
                  <a:pt x="8012" y="11633"/>
                </a:cubicBezTo>
              </a:path>
              <a:path w="5136" h="5681">
                <a:moveTo>
                  <a:pt x="7466" y="12129"/>
                </a:moveTo>
                <a:cubicBezTo>
                  <a:pt x="7459" y="12299"/>
                  <a:pt x="7447" y="12372"/>
                  <a:pt x="7466" y="12526"/>
                </a:cubicBezTo>
                <a:cubicBezTo>
                  <a:pt x="7474" y="12590"/>
                  <a:pt x="7466" y="12661"/>
                  <a:pt x="7466" y="12725"/>
                </a:cubicBezTo>
                <a:cubicBezTo>
                  <a:pt x="7466" y="12556"/>
                  <a:pt x="7467" y="12393"/>
                  <a:pt x="7491" y="12229"/>
                </a:cubicBezTo>
                <a:cubicBezTo>
                  <a:pt x="7506" y="12124"/>
                  <a:pt x="7501" y="12053"/>
                  <a:pt x="7565" y="11956"/>
                </a:cubicBezTo>
                <a:cubicBezTo>
                  <a:pt x="7596" y="11909"/>
                  <a:pt x="7662" y="11890"/>
                  <a:pt x="7714" y="11881"/>
                </a:cubicBezTo>
                <a:cubicBezTo>
                  <a:pt x="7802" y="11866"/>
                  <a:pt x="7899" y="11869"/>
                  <a:pt x="7987" y="11857"/>
                </a:cubicBezTo>
                <a:cubicBezTo>
                  <a:pt x="8032" y="11857"/>
                  <a:pt x="8045" y="11860"/>
                  <a:pt x="8062" y="11832"/>
                </a:cubicBezTo>
              </a:path>
              <a:path w="5136" h="5681">
                <a:moveTo>
                  <a:pt x="7764" y="12080"/>
                </a:moveTo>
                <a:cubicBezTo>
                  <a:pt x="7758" y="12175"/>
                  <a:pt x="7739" y="12258"/>
                  <a:pt x="7739" y="12353"/>
                </a:cubicBezTo>
                <a:cubicBezTo>
                  <a:pt x="7739" y="12464"/>
                  <a:pt x="7716" y="12605"/>
                  <a:pt x="7764" y="12700"/>
                </a:cubicBezTo>
              </a:path>
              <a:path w="5136" h="5681">
                <a:moveTo>
                  <a:pt x="7987" y="12105"/>
                </a:moveTo>
                <a:cubicBezTo>
                  <a:pt x="8072" y="12085"/>
                  <a:pt x="8153" y="12046"/>
                  <a:pt x="8235" y="12030"/>
                </a:cubicBezTo>
              </a:path>
              <a:path w="5136" h="5681">
                <a:moveTo>
                  <a:pt x="7987" y="12129"/>
                </a:moveTo>
                <a:cubicBezTo>
                  <a:pt x="7971" y="12158"/>
                  <a:pt x="7881" y="12297"/>
                  <a:pt x="7962" y="12328"/>
                </a:cubicBezTo>
                <a:cubicBezTo>
                  <a:pt x="8044" y="12360"/>
                  <a:pt x="8146" y="12319"/>
                  <a:pt x="8235" y="12353"/>
                </a:cubicBezTo>
                <a:cubicBezTo>
                  <a:pt x="8337" y="12392"/>
                  <a:pt x="8289" y="12447"/>
                  <a:pt x="8310" y="12526"/>
                </a:cubicBezTo>
                <a:cubicBezTo>
                  <a:pt x="8324" y="12577"/>
                  <a:pt x="8333" y="12677"/>
                  <a:pt x="8285" y="12725"/>
                </a:cubicBezTo>
                <a:cubicBezTo>
                  <a:pt x="8234" y="12776"/>
                  <a:pt x="8104" y="12791"/>
                  <a:pt x="8037" y="12774"/>
                </a:cubicBezTo>
                <a:cubicBezTo>
                  <a:pt x="8007" y="12766"/>
                  <a:pt x="7923" y="12710"/>
                  <a:pt x="7913" y="12675"/>
                </a:cubicBezTo>
                <a:cubicBezTo>
                  <a:pt x="7913" y="12634"/>
                  <a:pt x="7913" y="12626"/>
                  <a:pt x="7913" y="12601"/>
                </a:cubicBezTo>
              </a:path>
              <a:path w="5136" h="5681">
                <a:moveTo>
                  <a:pt x="8508" y="12378"/>
                </a:moveTo>
                <a:cubicBezTo>
                  <a:pt x="8505" y="12432"/>
                  <a:pt x="8460" y="12590"/>
                  <a:pt x="8483" y="12650"/>
                </a:cubicBezTo>
                <a:cubicBezTo>
                  <a:pt x="8491" y="12658"/>
                  <a:pt x="8500" y="12667"/>
                  <a:pt x="8508" y="12675"/>
                </a:cubicBezTo>
                <a:cubicBezTo>
                  <a:pt x="8508" y="12449"/>
                  <a:pt x="8501" y="12225"/>
                  <a:pt x="8533" y="12005"/>
                </a:cubicBezTo>
                <a:cubicBezTo>
                  <a:pt x="8543" y="11938"/>
                  <a:pt x="8570" y="11872"/>
                  <a:pt x="8632" y="11832"/>
                </a:cubicBezTo>
                <a:cubicBezTo>
                  <a:pt x="8701" y="11788"/>
                  <a:pt x="8751" y="11782"/>
                  <a:pt x="8830" y="11782"/>
                </a:cubicBezTo>
                <a:cubicBezTo>
                  <a:pt x="8838" y="11782"/>
                  <a:pt x="8847" y="11782"/>
                  <a:pt x="8855" y="11782"/>
                </a:cubicBezTo>
              </a:path>
              <a:path w="5136" h="5681">
                <a:moveTo>
                  <a:pt x="8657" y="12179"/>
                </a:moveTo>
                <a:cubicBezTo>
                  <a:pt x="8657" y="12320"/>
                  <a:pt x="8644" y="12489"/>
                  <a:pt x="8682" y="12626"/>
                </a:cubicBezTo>
                <a:cubicBezTo>
                  <a:pt x="8684" y="12633"/>
                  <a:pt x="8706" y="12773"/>
                  <a:pt x="8706" y="12700"/>
                </a:cubicBezTo>
              </a:path>
              <a:path w="5136" h="5681">
                <a:moveTo>
                  <a:pt x="8905" y="12105"/>
                </a:moveTo>
                <a:cubicBezTo>
                  <a:pt x="9005" y="12076"/>
                  <a:pt x="9123" y="12069"/>
                  <a:pt x="9203" y="12005"/>
                </a:cubicBezTo>
              </a:path>
              <a:path w="5136" h="5681">
                <a:moveTo>
                  <a:pt x="8905" y="12129"/>
                </a:moveTo>
                <a:cubicBezTo>
                  <a:pt x="8852" y="12225"/>
                  <a:pt x="8839" y="12240"/>
                  <a:pt x="8905" y="12328"/>
                </a:cubicBezTo>
                <a:cubicBezTo>
                  <a:pt x="8949" y="12387"/>
                  <a:pt x="9041" y="12337"/>
                  <a:pt x="9103" y="12353"/>
                </a:cubicBezTo>
                <a:cubicBezTo>
                  <a:pt x="9171" y="12371"/>
                  <a:pt x="9199" y="12415"/>
                  <a:pt x="9203" y="12477"/>
                </a:cubicBezTo>
                <a:cubicBezTo>
                  <a:pt x="9209" y="12585"/>
                  <a:pt x="9204" y="12612"/>
                  <a:pt x="9128" y="12675"/>
                </a:cubicBezTo>
                <a:cubicBezTo>
                  <a:pt x="9063" y="12729"/>
                  <a:pt x="8998" y="12768"/>
                  <a:pt x="8905" y="12750"/>
                </a:cubicBezTo>
                <a:cubicBezTo>
                  <a:pt x="8810" y="12732"/>
                  <a:pt x="8747" y="12666"/>
                  <a:pt x="8682" y="12601"/>
                </a:cubicBezTo>
                <a:cubicBezTo>
                  <a:pt x="8665" y="12584"/>
                  <a:pt x="8649" y="12568"/>
                  <a:pt x="8632" y="12551"/>
                </a:cubicBezTo>
              </a:path>
              <a:path w="5136" h="5681">
                <a:moveTo>
                  <a:pt x="8161" y="11088"/>
                </a:moveTo>
                <a:cubicBezTo>
                  <a:pt x="8161" y="11212"/>
                  <a:pt x="8161" y="11336"/>
                  <a:pt x="8161" y="11460"/>
                </a:cubicBezTo>
                <a:cubicBezTo>
                  <a:pt x="8170" y="11383"/>
                  <a:pt x="8186" y="11316"/>
                  <a:pt x="8186" y="11237"/>
                </a:cubicBezTo>
                <a:cubicBezTo>
                  <a:pt x="8186" y="11093"/>
                  <a:pt x="8189" y="10952"/>
                  <a:pt x="8210" y="10815"/>
                </a:cubicBezTo>
                <a:cubicBezTo>
                  <a:pt x="8221" y="10740"/>
                  <a:pt x="8209" y="10681"/>
                  <a:pt x="8235" y="10616"/>
                </a:cubicBezTo>
                <a:cubicBezTo>
                  <a:pt x="8270" y="10530"/>
                  <a:pt x="8284" y="10488"/>
                  <a:pt x="8384" y="10468"/>
                </a:cubicBezTo>
                <a:cubicBezTo>
                  <a:pt x="8458" y="10453"/>
                  <a:pt x="8530" y="10443"/>
                  <a:pt x="8607" y="10443"/>
                </a:cubicBezTo>
                <a:cubicBezTo>
                  <a:pt x="8681" y="10443"/>
                  <a:pt x="8756" y="10443"/>
                  <a:pt x="8830" y="10443"/>
                </a:cubicBezTo>
              </a:path>
              <a:path w="5136" h="5681">
                <a:moveTo>
                  <a:pt x="8409" y="10815"/>
                </a:moveTo>
                <a:cubicBezTo>
                  <a:pt x="8409" y="10976"/>
                  <a:pt x="8412" y="11141"/>
                  <a:pt x="8434" y="11286"/>
                </a:cubicBezTo>
                <a:cubicBezTo>
                  <a:pt x="8434" y="11344"/>
                  <a:pt x="8434" y="11352"/>
                  <a:pt x="8434" y="11385"/>
                </a:cubicBezTo>
              </a:path>
              <a:path w="5136" h="5681">
                <a:moveTo>
                  <a:pt x="8657" y="10864"/>
                </a:moveTo>
                <a:cubicBezTo>
                  <a:pt x="8725" y="10844"/>
                  <a:pt x="8874" y="10828"/>
                  <a:pt x="8905" y="10765"/>
                </a:cubicBezTo>
              </a:path>
              <a:path w="5136" h="5681">
                <a:moveTo>
                  <a:pt x="8632" y="10864"/>
                </a:moveTo>
                <a:cubicBezTo>
                  <a:pt x="8571" y="11007"/>
                  <a:pt x="8555" y="10987"/>
                  <a:pt x="8657" y="11038"/>
                </a:cubicBezTo>
                <a:cubicBezTo>
                  <a:pt x="8705" y="11062"/>
                  <a:pt x="8818" y="11075"/>
                  <a:pt x="8855" y="11112"/>
                </a:cubicBezTo>
                <a:cubicBezTo>
                  <a:pt x="8877" y="11134"/>
                  <a:pt x="8947" y="11234"/>
                  <a:pt x="8954" y="11261"/>
                </a:cubicBezTo>
                <a:cubicBezTo>
                  <a:pt x="8970" y="11323"/>
                  <a:pt x="8995" y="11383"/>
                  <a:pt x="8954" y="11435"/>
                </a:cubicBezTo>
                <a:cubicBezTo>
                  <a:pt x="8925" y="11472"/>
                  <a:pt x="8877" y="11523"/>
                  <a:pt x="8830" y="11534"/>
                </a:cubicBezTo>
                <a:cubicBezTo>
                  <a:pt x="8745" y="11554"/>
                  <a:pt x="8729" y="11513"/>
                  <a:pt x="8706" y="11460"/>
                </a:cubicBezTo>
              </a:path>
              <a:path w="5136" h="5681">
                <a:moveTo>
                  <a:pt x="9227" y="11435"/>
                </a:moveTo>
                <a:cubicBezTo>
                  <a:pt x="9285" y="11435"/>
                  <a:pt x="9343" y="11435"/>
                  <a:pt x="9401" y="11435"/>
                </a:cubicBezTo>
              </a:path>
              <a:path w="5136" h="5681">
                <a:moveTo>
                  <a:pt x="9252" y="11534"/>
                </a:moveTo>
                <a:cubicBezTo>
                  <a:pt x="9332" y="11534"/>
                  <a:pt x="9411" y="11548"/>
                  <a:pt x="9475" y="11509"/>
                </a:cubicBezTo>
              </a:path>
              <a:path w="5136" h="5681">
                <a:moveTo>
                  <a:pt x="9748" y="11063"/>
                </a:moveTo>
                <a:cubicBezTo>
                  <a:pt x="9864" y="11088"/>
                  <a:pt x="9891" y="11081"/>
                  <a:pt x="9996" y="11063"/>
                </a:cubicBezTo>
                <a:cubicBezTo>
                  <a:pt x="10048" y="11063"/>
                  <a:pt x="10066" y="11062"/>
                  <a:pt x="10096" y="11038"/>
                </a:cubicBezTo>
              </a:path>
              <a:path w="5136" h="5681">
                <a:moveTo>
                  <a:pt x="10220" y="10889"/>
                </a:moveTo>
                <a:cubicBezTo>
                  <a:pt x="10220" y="11065"/>
                  <a:pt x="10217" y="11242"/>
                  <a:pt x="10244" y="11410"/>
                </a:cubicBezTo>
                <a:cubicBezTo>
                  <a:pt x="10249" y="11439"/>
                  <a:pt x="10244" y="11665"/>
                  <a:pt x="10244" y="11534"/>
                </a:cubicBezTo>
                <a:cubicBezTo>
                  <a:pt x="10244" y="11373"/>
                  <a:pt x="10256" y="11222"/>
                  <a:pt x="10269" y="11063"/>
                </a:cubicBezTo>
                <a:cubicBezTo>
                  <a:pt x="10276" y="10973"/>
                  <a:pt x="10241" y="10838"/>
                  <a:pt x="10294" y="10765"/>
                </a:cubicBezTo>
                <a:cubicBezTo>
                  <a:pt x="10335" y="10709"/>
                  <a:pt x="10368" y="10673"/>
                  <a:pt x="10443" y="10666"/>
                </a:cubicBezTo>
                <a:cubicBezTo>
                  <a:pt x="10578" y="10654"/>
                  <a:pt x="10718" y="10664"/>
                  <a:pt x="10840" y="10641"/>
                </a:cubicBezTo>
                <a:cubicBezTo>
                  <a:pt x="10897" y="10630"/>
                  <a:pt x="10915" y="10645"/>
                  <a:pt x="10964" y="10616"/>
                </a:cubicBezTo>
              </a:path>
              <a:path w="5136" h="5681">
                <a:moveTo>
                  <a:pt x="10567" y="11013"/>
                </a:moveTo>
                <a:cubicBezTo>
                  <a:pt x="10567" y="11145"/>
                  <a:pt x="10576" y="11262"/>
                  <a:pt x="10592" y="11385"/>
                </a:cubicBezTo>
                <a:cubicBezTo>
                  <a:pt x="10592" y="11451"/>
                  <a:pt x="10592" y="11468"/>
                  <a:pt x="10592" y="11509"/>
                </a:cubicBezTo>
              </a:path>
              <a:path w="5136" h="5681">
                <a:moveTo>
                  <a:pt x="10790" y="10889"/>
                </a:moveTo>
                <a:cubicBezTo>
                  <a:pt x="10865" y="10876"/>
                  <a:pt x="10976" y="10876"/>
                  <a:pt x="11038" y="10840"/>
                </a:cubicBezTo>
              </a:path>
              <a:path w="5136" h="5681">
                <a:moveTo>
                  <a:pt x="10790" y="10914"/>
                </a:moveTo>
                <a:cubicBezTo>
                  <a:pt x="10757" y="10961"/>
                  <a:pt x="10601" y="11119"/>
                  <a:pt x="10740" y="11162"/>
                </a:cubicBezTo>
                <a:cubicBezTo>
                  <a:pt x="10800" y="11181"/>
                  <a:pt x="10899" y="11115"/>
                  <a:pt x="10964" y="11112"/>
                </a:cubicBezTo>
                <a:cubicBezTo>
                  <a:pt x="11057" y="11108"/>
                  <a:pt x="11038" y="11176"/>
                  <a:pt x="11088" y="11237"/>
                </a:cubicBezTo>
                <a:cubicBezTo>
                  <a:pt x="11120" y="11277"/>
                  <a:pt x="11127" y="11380"/>
                  <a:pt x="11112" y="11435"/>
                </a:cubicBezTo>
                <a:cubicBezTo>
                  <a:pt x="11089" y="11522"/>
                  <a:pt x="11081" y="11554"/>
                  <a:pt x="11013" y="11609"/>
                </a:cubicBezTo>
                <a:cubicBezTo>
                  <a:pt x="10973" y="11641"/>
                  <a:pt x="10844" y="11649"/>
                  <a:pt x="10790" y="11633"/>
                </a:cubicBezTo>
                <a:cubicBezTo>
                  <a:pt x="10782" y="11625"/>
                  <a:pt x="10773" y="11617"/>
                  <a:pt x="10765" y="11609"/>
                </a:cubicBezTo>
              </a:path>
              <a:path w="5136" h="5681">
                <a:moveTo>
                  <a:pt x="10145" y="11683"/>
                </a:moveTo>
                <a:cubicBezTo>
                  <a:pt x="10265" y="11683"/>
                  <a:pt x="10381" y="11670"/>
                  <a:pt x="10492" y="11658"/>
                </a:cubicBezTo>
                <a:cubicBezTo>
                  <a:pt x="10710" y="11635"/>
                  <a:pt x="10955" y="11702"/>
                  <a:pt x="11162" y="11633"/>
                </a:cubicBezTo>
              </a:path>
              <a:path w="5136" h="5681">
                <a:moveTo>
                  <a:pt x="10492" y="11981"/>
                </a:moveTo>
                <a:cubicBezTo>
                  <a:pt x="10492" y="12123"/>
                  <a:pt x="10471" y="12290"/>
                  <a:pt x="10517" y="12427"/>
                </a:cubicBezTo>
                <a:cubicBezTo>
                  <a:pt x="10533" y="12475"/>
                  <a:pt x="10543" y="12511"/>
                  <a:pt x="10567" y="12551"/>
                </a:cubicBezTo>
              </a:path>
              <a:path w="5136" h="5681">
                <a:moveTo>
                  <a:pt x="10765" y="11956"/>
                </a:moveTo>
                <a:cubicBezTo>
                  <a:pt x="10840" y="11918"/>
                  <a:pt x="10880" y="11906"/>
                  <a:pt x="10964" y="11906"/>
                </a:cubicBezTo>
                <a:cubicBezTo>
                  <a:pt x="11056" y="11906"/>
                  <a:pt x="11119" y="11882"/>
                  <a:pt x="11187" y="11832"/>
                </a:cubicBezTo>
              </a:path>
              <a:path w="5136" h="5681">
                <a:moveTo>
                  <a:pt x="10864" y="11857"/>
                </a:moveTo>
                <a:cubicBezTo>
                  <a:pt x="10850" y="11889"/>
                  <a:pt x="10719" y="12070"/>
                  <a:pt x="10840" y="12105"/>
                </a:cubicBezTo>
                <a:cubicBezTo>
                  <a:pt x="10898" y="12122"/>
                  <a:pt x="10949" y="12045"/>
                  <a:pt x="11013" y="12080"/>
                </a:cubicBezTo>
                <a:cubicBezTo>
                  <a:pt x="11063" y="12108"/>
                  <a:pt x="11176" y="12219"/>
                  <a:pt x="11187" y="12278"/>
                </a:cubicBezTo>
                <a:cubicBezTo>
                  <a:pt x="11201" y="12356"/>
                  <a:pt x="11208" y="12448"/>
                  <a:pt x="11212" y="12526"/>
                </a:cubicBezTo>
                <a:cubicBezTo>
                  <a:pt x="11215" y="12594"/>
                  <a:pt x="11205" y="12704"/>
                  <a:pt x="11137" y="12725"/>
                </a:cubicBezTo>
                <a:cubicBezTo>
                  <a:pt x="11072" y="12746"/>
                  <a:pt x="11010" y="12717"/>
                  <a:pt x="10964" y="12675"/>
                </a:cubicBezTo>
                <a:cubicBezTo>
                  <a:pt x="10913" y="12628"/>
                  <a:pt x="10873" y="12586"/>
                  <a:pt x="10840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6" name="Ink 6"/>
          <p:cNvSpPr/>
          <p:nvPr/>
        </p:nvSpPr>
        <p:spPr>
          <a:xfrm>
            <a:off x="4259160" y="1054080"/>
            <a:ext cx="4564080" cy="3537000"/>
          </a:xfrm>
          <a:custGeom>
            <a:avLst/>
            <a:gdLst/>
            <a:ahLst/>
            <a:rect l="l" t="t" r="r" b="b"/>
            <a:pathLst>
              <a:path w="12676" h="9824">
                <a:moveTo>
                  <a:pt x="12328" y="8384"/>
                </a:moveTo>
                <a:cubicBezTo>
                  <a:pt x="12212" y="8384"/>
                  <a:pt x="12163" y="8397"/>
                  <a:pt x="12055" y="8434"/>
                </a:cubicBezTo>
                <a:cubicBezTo>
                  <a:pt x="11940" y="8474"/>
                  <a:pt x="11945" y="8489"/>
                  <a:pt x="11881" y="8582"/>
                </a:cubicBezTo>
                <a:cubicBezTo>
                  <a:pt x="11833" y="8652"/>
                  <a:pt x="11840" y="8710"/>
                  <a:pt x="11906" y="8781"/>
                </a:cubicBezTo>
                <a:cubicBezTo>
                  <a:pt x="11975" y="8855"/>
                  <a:pt x="12088" y="8895"/>
                  <a:pt x="12154" y="8979"/>
                </a:cubicBezTo>
                <a:cubicBezTo>
                  <a:pt x="12205" y="9044"/>
                  <a:pt x="12270" y="9146"/>
                  <a:pt x="12204" y="9227"/>
                </a:cubicBezTo>
                <a:cubicBezTo>
                  <a:pt x="12155" y="9287"/>
                  <a:pt x="12015" y="9296"/>
                  <a:pt x="11956" y="9252"/>
                </a:cubicBezTo>
                <a:cubicBezTo>
                  <a:pt x="11900" y="9197"/>
                  <a:pt x="11875" y="9199"/>
                  <a:pt x="11881" y="9153"/>
                </a:cubicBezTo>
              </a:path>
              <a:path w="12676" h="9824">
                <a:moveTo>
                  <a:pt x="12303" y="8979"/>
                </a:moveTo>
                <a:cubicBezTo>
                  <a:pt x="12448" y="8929"/>
                  <a:pt x="12576" y="8894"/>
                  <a:pt x="12700" y="8806"/>
                </a:cubicBezTo>
                <a:cubicBezTo>
                  <a:pt x="12762" y="8762"/>
                  <a:pt x="12761" y="8691"/>
                  <a:pt x="12725" y="8632"/>
                </a:cubicBezTo>
                <a:cubicBezTo>
                  <a:pt x="12691" y="8577"/>
                  <a:pt x="12561" y="8627"/>
                  <a:pt x="12526" y="8657"/>
                </a:cubicBezTo>
                <a:cubicBezTo>
                  <a:pt x="12423" y="8747"/>
                  <a:pt x="12359" y="8842"/>
                  <a:pt x="12353" y="8979"/>
                </a:cubicBezTo>
                <a:cubicBezTo>
                  <a:pt x="12348" y="9084"/>
                  <a:pt x="12361" y="9138"/>
                  <a:pt x="12452" y="9203"/>
                </a:cubicBezTo>
                <a:cubicBezTo>
                  <a:pt x="12516" y="9248"/>
                  <a:pt x="12562" y="9223"/>
                  <a:pt x="12626" y="9203"/>
                </a:cubicBezTo>
              </a:path>
              <a:path w="12676" h="9824">
                <a:moveTo>
                  <a:pt x="13122" y="8806"/>
                </a:moveTo>
                <a:cubicBezTo>
                  <a:pt x="13204" y="8826"/>
                  <a:pt x="13237" y="8851"/>
                  <a:pt x="13221" y="8781"/>
                </a:cubicBezTo>
                <a:cubicBezTo>
                  <a:pt x="13174" y="8715"/>
                  <a:pt x="13120" y="8661"/>
                  <a:pt x="13047" y="8682"/>
                </a:cubicBezTo>
                <a:cubicBezTo>
                  <a:pt x="12971" y="8703"/>
                  <a:pt x="12882" y="8757"/>
                  <a:pt x="12849" y="8830"/>
                </a:cubicBezTo>
                <a:cubicBezTo>
                  <a:pt x="12802" y="8932"/>
                  <a:pt x="12792" y="8998"/>
                  <a:pt x="12824" y="9103"/>
                </a:cubicBezTo>
                <a:cubicBezTo>
                  <a:pt x="12859" y="9217"/>
                  <a:pt x="12987" y="9283"/>
                  <a:pt x="13097" y="9327"/>
                </a:cubicBezTo>
                <a:cubicBezTo>
                  <a:pt x="13191" y="9364"/>
                  <a:pt x="13297" y="9351"/>
                  <a:pt x="13395" y="9351"/>
                </a:cubicBezTo>
                <a:cubicBezTo>
                  <a:pt x="13446" y="9351"/>
                  <a:pt x="13463" y="9349"/>
                  <a:pt x="13469" y="9302"/>
                </a:cubicBezTo>
              </a:path>
              <a:path w="12676" h="9824">
                <a:moveTo>
                  <a:pt x="14163" y="8037"/>
                </a:moveTo>
                <a:cubicBezTo>
                  <a:pt x="14293" y="8037"/>
                  <a:pt x="14410" y="8044"/>
                  <a:pt x="14536" y="8062"/>
                </a:cubicBezTo>
                <a:cubicBezTo>
                  <a:pt x="14739" y="8091"/>
                  <a:pt x="14963" y="8051"/>
                  <a:pt x="15156" y="8086"/>
                </a:cubicBezTo>
                <a:cubicBezTo>
                  <a:pt x="15225" y="8099"/>
                  <a:pt x="15270" y="8075"/>
                  <a:pt x="15329" y="8111"/>
                </a:cubicBezTo>
              </a:path>
              <a:path w="12676" h="9824">
                <a:moveTo>
                  <a:pt x="14635" y="11658"/>
                </a:moveTo>
                <a:cubicBezTo>
                  <a:pt x="14695" y="11694"/>
                  <a:pt x="14759" y="11683"/>
                  <a:pt x="14833" y="11683"/>
                </a:cubicBezTo>
                <a:cubicBezTo>
                  <a:pt x="15063" y="11683"/>
                  <a:pt x="15315" y="11667"/>
                  <a:pt x="15528" y="11708"/>
                </a:cubicBezTo>
                <a:cubicBezTo>
                  <a:pt x="15597" y="11721"/>
                  <a:pt x="15665" y="11742"/>
                  <a:pt x="15726" y="11757"/>
                </a:cubicBezTo>
              </a:path>
              <a:path w="12676" h="9824">
                <a:moveTo>
                  <a:pt x="18926" y="5804"/>
                </a:moveTo>
                <a:cubicBezTo>
                  <a:pt x="18946" y="5755"/>
                  <a:pt x="18922" y="5714"/>
                  <a:pt x="19000" y="5655"/>
                </a:cubicBezTo>
                <a:cubicBezTo>
                  <a:pt x="19085" y="5591"/>
                  <a:pt x="19182" y="5538"/>
                  <a:pt x="19273" y="5482"/>
                </a:cubicBezTo>
                <a:cubicBezTo>
                  <a:pt x="19406" y="5401"/>
                  <a:pt x="19546" y="5328"/>
                  <a:pt x="19670" y="5234"/>
                </a:cubicBezTo>
                <a:cubicBezTo>
                  <a:pt x="19859" y="5091"/>
                  <a:pt x="20066" y="4938"/>
                  <a:pt x="20265" y="4812"/>
                </a:cubicBezTo>
                <a:cubicBezTo>
                  <a:pt x="20459" y="4689"/>
                  <a:pt x="20661" y="4554"/>
                  <a:pt x="20861" y="4440"/>
                </a:cubicBezTo>
                <a:cubicBezTo>
                  <a:pt x="21119" y="4293"/>
                  <a:pt x="21359" y="4132"/>
                  <a:pt x="21605" y="3969"/>
                </a:cubicBezTo>
                <a:cubicBezTo>
                  <a:pt x="21783" y="3851"/>
                  <a:pt x="21956" y="3748"/>
                  <a:pt x="22126" y="3621"/>
                </a:cubicBezTo>
                <a:cubicBezTo>
                  <a:pt x="22283" y="3503"/>
                  <a:pt x="22485" y="3380"/>
                  <a:pt x="22622" y="3249"/>
                </a:cubicBezTo>
                <a:cubicBezTo>
                  <a:pt x="22687" y="3187"/>
                  <a:pt x="22755" y="3112"/>
                  <a:pt x="22820" y="3051"/>
                </a:cubicBezTo>
                <a:cubicBezTo>
                  <a:pt x="22887" y="2988"/>
                  <a:pt x="22928" y="2966"/>
                  <a:pt x="22994" y="2927"/>
                </a:cubicBezTo>
                <a:cubicBezTo>
                  <a:pt x="23003" y="2983"/>
                  <a:pt x="23039" y="3052"/>
                  <a:pt x="23044" y="3101"/>
                </a:cubicBezTo>
                <a:cubicBezTo>
                  <a:pt x="23056" y="3219"/>
                  <a:pt x="23063" y="3361"/>
                  <a:pt x="23068" y="3473"/>
                </a:cubicBezTo>
                <a:cubicBezTo>
                  <a:pt x="23076" y="3629"/>
                  <a:pt x="23088" y="3792"/>
                  <a:pt x="23093" y="3944"/>
                </a:cubicBezTo>
                <a:cubicBezTo>
                  <a:pt x="23099" y="4111"/>
                  <a:pt x="23095" y="4275"/>
                  <a:pt x="23118" y="4440"/>
                </a:cubicBezTo>
                <a:cubicBezTo>
                  <a:pt x="23138" y="4581"/>
                  <a:pt x="23151" y="4721"/>
                  <a:pt x="23168" y="4862"/>
                </a:cubicBezTo>
                <a:cubicBezTo>
                  <a:pt x="23183" y="4986"/>
                  <a:pt x="23198" y="5112"/>
                  <a:pt x="23217" y="5234"/>
                </a:cubicBezTo>
                <a:cubicBezTo>
                  <a:pt x="23232" y="5332"/>
                  <a:pt x="23252" y="5432"/>
                  <a:pt x="23267" y="5531"/>
                </a:cubicBezTo>
                <a:cubicBezTo>
                  <a:pt x="23279" y="5608"/>
                  <a:pt x="23289" y="5674"/>
                  <a:pt x="23292" y="5755"/>
                </a:cubicBezTo>
                <a:cubicBezTo>
                  <a:pt x="23292" y="5771"/>
                  <a:pt x="23292" y="5788"/>
                  <a:pt x="23292" y="5804"/>
                </a:cubicBezTo>
                <a:cubicBezTo>
                  <a:pt x="23172" y="5810"/>
                  <a:pt x="23062" y="5823"/>
                  <a:pt x="22944" y="5829"/>
                </a:cubicBezTo>
                <a:cubicBezTo>
                  <a:pt x="22555" y="5850"/>
                  <a:pt x="22167" y="5804"/>
                  <a:pt x="21779" y="5804"/>
                </a:cubicBezTo>
                <a:cubicBezTo>
                  <a:pt x="21594" y="5804"/>
                  <a:pt x="21415" y="5790"/>
                  <a:pt x="21233" y="5779"/>
                </a:cubicBezTo>
                <a:cubicBezTo>
                  <a:pt x="20888" y="5759"/>
                  <a:pt x="20536" y="5768"/>
                  <a:pt x="20191" y="5755"/>
                </a:cubicBezTo>
                <a:cubicBezTo>
                  <a:pt x="19935" y="5745"/>
                  <a:pt x="19673" y="5751"/>
                  <a:pt x="19422" y="5779"/>
                </a:cubicBezTo>
                <a:cubicBezTo>
                  <a:pt x="19308" y="5792"/>
                  <a:pt x="19189" y="5789"/>
                  <a:pt x="19075" y="5804"/>
                </a:cubicBezTo>
                <a:cubicBezTo>
                  <a:pt x="19004" y="5814"/>
                  <a:pt x="18998" y="5804"/>
                  <a:pt x="18926" y="5804"/>
                </a:cubicBezTo>
              </a:path>
              <a:path w="12676" h="9824">
                <a:moveTo>
                  <a:pt x="19993" y="5085"/>
                </a:moveTo>
                <a:cubicBezTo>
                  <a:pt x="20033" y="5126"/>
                  <a:pt x="20079" y="5175"/>
                  <a:pt x="20092" y="5234"/>
                </a:cubicBezTo>
                <a:cubicBezTo>
                  <a:pt x="20109" y="5308"/>
                  <a:pt x="20137" y="5356"/>
                  <a:pt x="20141" y="5432"/>
                </a:cubicBezTo>
                <a:cubicBezTo>
                  <a:pt x="20145" y="5505"/>
                  <a:pt x="20116" y="5573"/>
                  <a:pt x="20092" y="5631"/>
                </a:cubicBezTo>
                <a:cubicBezTo>
                  <a:pt x="20072" y="5691"/>
                  <a:pt x="20073" y="5706"/>
                  <a:pt x="20042" y="5730"/>
                </a:cubicBezTo>
              </a:path>
              <a:path w="12676" h="9824">
                <a:moveTo>
                  <a:pt x="23639" y="4068"/>
                </a:moveTo>
                <a:cubicBezTo>
                  <a:pt x="23639" y="4199"/>
                  <a:pt x="23634" y="4318"/>
                  <a:pt x="23614" y="4440"/>
                </a:cubicBezTo>
                <a:cubicBezTo>
                  <a:pt x="23603" y="4506"/>
                  <a:pt x="23600" y="4575"/>
                  <a:pt x="23589" y="4638"/>
                </a:cubicBezTo>
                <a:cubicBezTo>
                  <a:pt x="23589" y="4680"/>
                  <a:pt x="23597" y="4696"/>
                  <a:pt x="23564" y="4688"/>
                </a:cubicBezTo>
              </a:path>
              <a:path w="12676" h="9824">
                <a:moveTo>
                  <a:pt x="20389" y="6424"/>
                </a:moveTo>
                <a:cubicBezTo>
                  <a:pt x="20430" y="6465"/>
                  <a:pt x="20476" y="6514"/>
                  <a:pt x="20489" y="6573"/>
                </a:cubicBezTo>
                <a:cubicBezTo>
                  <a:pt x="20505" y="6646"/>
                  <a:pt x="20535" y="6720"/>
                  <a:pt x="20538" y="6796"/>
                </a:cubicBezTo>
                <a:cubicBezTo>
                  <a:pt x="20543" y="6948"/>
                  <a:pt x="20534" y="7096"/>
                  <a:pt x="20513" y="7243"/>
                </a:cubicBezTo>
                <a:cubicBezTo>
                  <a:pt x="20506" y="7290"/>
                  <a:pt x="20477" y="7400"/>
                  <a:pt x="20489" y="7441"/>
                </a:cubicBezTo>
                <a:cubicBezTo>
                  <a:pt x="20511" y="7464"/>
                  <a:pt x="20519" y="7475"/>
                  <a:pt x="20513" y="7441"/>
                </a:cubicBezTo>
              </a:path>
              <a:path w="12676" h="9824">
                <a:moveTo>
                  <a:pt x="20687" y="6375"/>
                </a:moveTo>
                <a:cubicBezTo>
                  <a:pt x="20713" y="6282"/>
                  <a:pt x="20804" y="6247"/>
                  <a:pt x="20910" y="6226"/>
                </a:cubicBezTo>
                <a:cubicBezTo>
                  <a:pt x="20959" y="6216"/>
                  <a:pt x="21110" y="6225"/>
                  <a:pt x="21134" y="6276"/>
                </a:cubicBezTo>
                <a:cubicBezTo>
                  <a:pt x="21176" y="6363"/>
                  <a:pt x="21059" y="6399"/>
                  <a:pt x="21010" y="6449"/>
                </a:cubicBezTo>
                <a:cubicBezTo>
                  <a:pt x="20982" y="6477"/>
                  <a:pt x="20973" y="6491"/>
                  <a:pt x="20985" y="6524"/>
                </a:cubicBezTo>
                <a:cubicBezTo>
                  <a:pt x="21043" y="6552"/>
                  <a:pt x="21142" y="6549"/>
                  <a:pt x="21208" y="6524"/>
                </a:cubicBezTo>
                <a:cubicBezTo>
                  <a:pt x="21245" y="6510"/>
                  <a:pt x="21260" y="6499"/>
                  <a:pt x="21307" y="6499"/>
                </a:cubicBezTo>
              </a:path>
              <a:path w="12676" h="9824">
                <a:moveTo>
                  <a:pt x="21382" y="6672"/>
                </a:moveTo>
                <a:cubicBezTo>
                  <a:pt x="21382" y="6862"/>
                  <a:pt x="21382" y="7053"/>
                  <a:pt x="21382" y="7243"/>
                </a:cubicBezTo>
              </a:path>
              <a:path w="12676" h="9824">
                <a:moveTo>
                  <a:pt x="21258" y="7020"/>
                </a:moveTo>
                <a:cubicBezTo>
                  <a:pt x="21373" y="7020"/>
                  <a:pt x="21473" y="7000"/>
                  <a:pt x="21580" y="6995"/>
                </a:cubicBezTo>
                <a:cubicBezTo>
                  <a:pt x="21668" y="6991"/>
                  <a:pt x="21747" y="6976"/>
                  <a:pt x="21828" y="6945"/>
                </a:cubicBezTo>
              </a:path>
              <a:path w="12676" h="9824">
                <a:moveTo>
                  <a:pt x="22101" y="6648"/>
                </a:moveTo>
                <a:cubicBezTo>
                  <a:pt x="22128" y="6744"/>
                  <a:pt x="22131" y="6802"/>
                  <a:pt x="22151" y="6896"/>
                </a:cubicBezTo>
                <a:cubicBezTo>
                  <a:pt x="22173" y="7003"/>
                  <a:pt x="22241" y="7059"/>
                  <a:pt x="22299" y="7144"/>
                </a:cubicBezTo>
                <a:cubicBezTo>
                  <a:pt x="22339" y="7202"/>
                  <a:pt x="22435" y="7382"/>
                  <a:pt x="22523" y="7392"/>
                </a:cubicBezTo>
                <a:cubicBezTo>
                  <a:pt x="22539" y="7384"/>
                  <a:pt x="22556" y="7375"/>
                  <a:pt x="22572" y="7367"/>
                </a:cubicBezTo>
              </a:path>
              <a:path w="12676" h="9824">
                <a:moveTo>
                  <a:pt x="22374" y="6672"/>
                </a:moveTo>
                <a:cubicBezTo>
                  <a:pt x="22355" y="6779"/>
                  <a:pt x="22345" y="6890"/>
                  <a:pt x="22324" y="6995"/>
                </a:cubicBezTo>
                <a:cubicBezTo>
                  <a:pt x="22296" y="7136"/>
                  <a:pt x="22215" y="7236"/>
                  <a:pt x="22175" y="7367"/>
                </a:cubicBezTo>
                <a:cubicBezTo>
                  <a:pt x="22173" y="7373"/>
                  <a:pt x="22126" y="7565"/>
                  <a:pt x="22126" y="7565"/>
                </a:cubicBezTo>
                <a:cubicBezTo>
                  <a:pt x="22134" y="7557"/>
                  <a:pt x="22143" y="7549"/>
                  <a:pt x="22151" y="7541"/>
                </a:cubicBezTo>
              </a:path>
              <a:path w="12676" h="9824">
                <a:moveTo>
                  <a:pt x="22572" y="6325"/>
                </a:moveTo>
                <a:cubicBezTo>
                  <a:pt x="22646" y="6278"/>
                  <a:pt x="22770" y="6180"/>
                  <a:pt x="22820" y="6325"/>
                </a:cubicBezTo>
                <a:cubicBezTo>
                  <a:pt x="22847" y="6402"/>
                  <a:pt x="22788" y="6469"/>
                  <a:pt x="22746" y="6524"/>
                </a:cubicBezTo>
                <a:cubicBezTo>
                  <a:pt x="22721" y="6548"/>
                  <a:pt x="22712" y="6556"/>
                  <a:pt x="22696" y="6573"/>
                </a:cubicBezTo>
                <a:cubicBezTo>
                  <a:pt x="22774" y="6573"/>
                  <a:pt x="22826" y="6552"/>
                  <a:pt x="22895" y="6548"/>
                </a:cubicBezTo>
                <a:cubicBezTo>
                  <a:pt x="22936" y="6546"/>
                  <a:pt x="22978" y="6548"/>
                  <a:pt x="23019" y="6548"/>
                </a:cubicBezTo>
              </a:path>
              <a:path w="12676" h="9824">
                <a:moveTo>
                  <a:pt x="22895" y="6970"/>
                </a:moveTo>
                <a:cubicBezTo>
                  <a:pt x="23000" y="6985"/>
                  <a:pt x="23061" y="6970"/>
                  <a:pt x="23168" y="6970"/>
                </a:cubicBezTo>
              </a:path>
              <a:path w="12676" h="9824">
                <a:moveTo>
                  <a:pt x="22994" y="7193"/>
                </a:moveTo>
                <a:cubicBezTo>
                  <a:pt x="23067" y="7187"/>
                  <a:pt x="23175" y="7169"/>
                  <a:pt x="23242" y="7144"/>
                </a:cubicBezTo>
                <a:cubicBezTo>
                  <a:pt x="23275" y="7111"/>
                  <a:pt x="23292" y="7094"/>
                  <a:pt x="23316" y="7069"/>
                </a:cubicBezTo>
              </a:path>
              <a:path w="12676" h="9824">
                <a:moveTo>
                  <a:pt x="23639" y="6623"/>
                </a:moveTo>
                <a:cubicBezTo>
                  <a:pt x="23639" y="6745"/>
                  <a:pt x="23623" y="6879"/>
                  <a:pt x="23664" y="6995"/>
                </a:cubicBezTo>
                <a:cubicBezTo>
                  <a:pt x="23691" y="7070"/>
                  <a:pt x="23739" y="7108"/>
                  <a:pt x="23812" y="7069"/>
                </a:cubicBezTo>
                <a:cubicBezTo>
                  <a:pt x="23864" y="7041"/>
                  <a:pt x="23909" y="6969"/>
                  <a:pt x="23937" y="6921"/>
                </a:cubicBezTo>
              </a:path>
              <a:path w="12676" h="9824">
                <a:moveTo>
                  <a:pt x="23862" y="6573"/>
                </a:moveTo>
                <a:cubicBezTo>
                  <a:pt x="23862" y="6734"/>
                  <a:pt x="23873" y="6889"/>
                  <a:pt x="23887" y="7045"/>
                </a:cubicBezTo>
                <a:cubicBezTo>
                  <a:pt x="23898" y="7169"/>
                  <a:pt x="23901" y="7294"/>
                  <a:pt x="23912" y="7417"/>
                </a:cubicBezTo>
                <a:cubicBezTo>
                  <a:pt x="23913" y="7429"/>
                  <a:pt x="23912" y="7680"/>
                  <a:pt x="23912" y="7541"/>
                </a:cubicBezTo>
              </a:path>
              <a:path w="12676" h="9824">
                <a:moveTo>
                  <a:pt x="24011" y="6251"/>
                </a:moveTo>
                <a:cubicBezTo>
                  <a:pt x="24120" y="6157"/>
                  <a:pt x="24161" y="6114"/>
                  <a:pt x="24309" y="6176"/>
                </a:cubicBezTo>
                <a:cubicBezTo>
                  <a:pt x="24388" y="6209"/>
                  <a:pt x="24375" y="6289"/>
                  <a:pt x="24358" y="6350"/>
                </a:cubicBezTo>
                <a:cubicBezTo>
                  <a:pt x="24337" y="6429"/>
                  <a:pt x="24253" y="6460"/>
                  <a:pt x="24234" y="6524"/>
                </a:cubicBezTo>
                <a:cubicBezTo>
                  <a:pt x="24234" y="6540"/>
                  <a:pt x="24234" y="6557"/>
                  <a:pt x="24234" y="6573"/>
                </a:cubicBezTo>
                <a:cubicBezTo>
                  <a:pt x="24315" y="6583"/>
                  <a:pt x="24333" y="6577"/>
                  <a:pt x="24408" y="6573"/>
                </a:cubicBezTo>
                <a:cubicBezTo>
                  <a:pt x="24482" y="6569"/>
                  <a:pt x="24546" y="6573"/>
                  <a:pt x="24433" y="6573"/>
                </a:cubicBezTo>
              </a:path>
              <a:path w="12676" h="9824">
                <a:moveTo>
                  <a:pt x="21183" y="5333"/>
                </a:moveTo>
                <a:cubicBezTo>
                  <a:pt x="21250" y="5426"/>
                  <a:pt x="21289" y="5519"/>
                  <a:pt x="21307" y="5631"/>
                </a:cubicBezTo>
                <a:cubicBezTo>
                  <a:pt x="21317" y="5693"/>
                  <a:pt x="21307" y="5766"/>
                  <a:pt x="21307" y="5829"/>
                </a:cubicBezTo>
                <a:cubicBezTo>
                  <a:pt x="21280" y="5730"/>
                  <a:pt x="21266" y="5630"/>
                  <a:pt x="21233" y="5531"/>
                </a:cubicBezTo>
                <a:cubicBezTo>
                  <a:pt x="21199" y="5431"/>
                  <a:pt x="21200" y="5358"/>
                  <a:pt x="21208" y="5259"/>
                </a:cubicBezTo>
                <a:cubicBezTo>
                  <a:pt x="21216" y="5158"/>
                  <a:pt x="21235" y="5148"/>
                  <a:pt x="21332" y="5110"/>
                </a:cubicBezTo>
                <a:cubicBezTo>
                  <a:pt x="21443" y="5066"/>
                  <a:pt x="21572" y="5072"/>
                  <a:pt x="21679" y="5035"/>
                </a:cubicBezTo>
                <a:cubicBezTo>
                  <a:pt x="21753" y="5009"/>
                  <a:pt x="21788" y="4986"/>
                  <a:pt x="21878" y="4986"/>
                </a:cubicBezTo>
              </a:path>
              <a:path w="12676" h="9824">
                <a:moveTo>
                  <a:pt x="21481" y="5333"/>
                </a:moveTo>
                <a:cubicBezTo>
                  <a:pt x="21504" y="5432"/>
                  <a:pt x="21530" y="5507"/>
                  <a:pt x="21530" y="5606"/>
                </a:cubicBezTo>
                <a:cubicBezTo>
                  <a:pt x="21530" y="5647"/>
                  <a:pt x="21530" y="5655"/>
                  <a:pt x="21530" y="5680"/>
                </a:cubicBezTo>
              </a:path>
              <a:path w="12676" h="9824">
                <a:moveTo>
                  <a:pt x="21605" y="5234"/>
                </a:moveTo>
                <a:cubicBezTo>
                  <a:pt x="21674" y="5185"/>
                  <a:pt x="21715" y="5169"/>
                  <a:pt x="21779" y="5135"/>
                </a:cubicBezTo>
                <a:cubicBezTo>
                  <a:pt x="21827" y="5110"/>
                  <a:pt x="21924" y="5085"/>
                  <a:pt x="21952" y="5035"/>
                </a:cubicBezTo>
                <a:cubicBezTo>
                  <a:pt x="21952" y="5027"/>
                  <a:pt x="21952" y="5019"/>
                  <a:pt x="21952" y="5011"/>
                </a:cubicBezTo>
              </a:path>
              <a:path w="12676" h="9824">
                <a:moveTo>
                  <a:pt x="21704" y="5234"/>
                </a:moveTo>
                <a:cubicBezTo>
                  <a:pt x="21784" y="5376"/>
                  <a:pt x="21739" y="5256"/>
                  <a:pt x="21853" y="5283"/>
                </a:cubicBezTo>
                <a:cubicBezTo>
                  <a:pt x="21937" y="5303"/>
                  <a:pt x="21992" y="5348"/>
                  <a:pt x="22051" y="5407"/>
                </a:cubicBezTo>
                <a:cubicBezTo>
                  <a:pt x="22113" y="5469"/>
                  <a:pt x="22061" y="5521"/>
                  <a:pt x="22002" y="5556"/>
                </a:cubicBezTo>
                <a:cubicBezTo>
                  <a:pt x="21925" y="5602"/>
                  <a:pt x="21874" y="5640"/>
                  <a:pt x="21779" y="5655"/>
                </a:cubicBezTo>
                <a:cubicBezTo>
                  <a:pt x="21732" y="5663"/>
                  <a:pt x="21720" y="5670"/>
                  <a:pt x="21679" y="5680"/>
                </a:cubicBezTo>
              </a:path>
              <a:path w="12676" h="9824">
                <a:moveTo>
                  <a:pt x="15627" y="7317"/>
                </a:moveTo>
                <a:cubicBezTo>
                  <a:pt x="15600" y="7410"/>
                  <a:pt x="15576" y="7462"/>
                  <a:pt x="15528" y="7541"/>
                </a:cubicBezTo>
                <a:cubicBezTo>
                  <a:pt x="15499" y="7588"/>
                  <a:pt x="15504" y="7622"/>
                  <a:pt x="15478" y="7665"/>
                </a:cubicBezTo>
                <a:cubicBezTo>
                  <a:pt x="15547" y="7705"/>
                  <a:pt x="15616" y="7711"/>
                  <a:pt x="15701" y="7714"/>
                </a:cubicBezTo>
                <a:cubicBezTo>
                  <a:pt x="15770" y="7716"/>
                  <a:pt x="15820" y="7697"/>
                  <a:pt x="15875" y="7665"/>
                </a:cubicBezTo>
              </a:path>
              <a:path w="12676" h="9824">
                <a:moveTo>
                  <a:pt x="15825" y="7169"/>
                </a:moveTo>
                <a:cubicBezTo>
                  <a:pt x="15793" y="7235"/>
                  <a:pt x="15817" y="7294"/>
                  <a:pt x="15801" y="7367"/>
                </a:cubicBezTo>
                <a:cubicBezTo>
                  <a:pt x="15782" y="7452"/>
                  <a:pt x="15791" y="7532"/>
                  <a:pt x="15776" y="7615"/>
                </a:cubicBezTo>
                <a:cubicBezTo>
                  <a:pt x="15760" y="7705"/>
                  <a:pt x="15751" y="7772"/>
                  <a:pt x="15751" y="7863"/>
                </a:cubicBezTo>
                <a:cubicBezTo>
                  <a:pt x="15751" y="7934"/>
                  <a:pt x="15768" y="7993"/>
                  <a:pt x="15776" y="8062"/>
                </a:cubicBezTo>
              </a:path>
              <a:path w="12676" h="9824">
                <a:moveTo>
                  <a:pt x="15503" y="8260"/>
                </a:moveTo>
                <a:cubicBezTo>
                  <a:pt x="15589" y="8245"/>
                  <a:pt x="15692" y="8253"/>
                  <a:pt x="15776" y="8235"/>
                </a:cubicBezTo>
                <a:cubicBezTo>
                  <a:pt x="15866" y="8215"/>
                  <a:pt x="15931" y="8210"/>
                  <a:pt x="16024" y="8210"/>
                </a:cubicBezTo>
                <a:cubicBezTo>
                  <a:pt x="16040" y="8210"/>
                  <a:pt x="16057" y="8210"/>
                  <a:pt x="16073" y="8210"/>
                </a:cubicBezTo>
              </a:path>
              <a:path w="12676" h="9824">
                <a:moveTo>
                  <a:pt x="15503" y="8533"/>
                </a:moveTo>
                <a:cubicBezTo>
                  <a:pt x="15503" y="8678"/>
                  <a:pt x="15497" y="8813"/>
                  <a:pt x="15478" y="8954"/>
                </a:cubicBezTo>
                <a:cubicBezTo>
                  <a:pt x="15466" y="9038"/>
                  <a:pt x="15467" y="9122"/>
                  <a:pt x="15453" y="9203"/>
                </a:cubicBezTo>
                <a:cubicBezTo>
                  <a:pt x="15442" y="9268"/>
                  <a:pt x="15432" y="9292"/>
                  <a:pt x="15478" y="9277"/>
                </a:cubicBezTo>
              </a:path>
              <a:path w="12676" h="9824">
                <a:moveTo>
                  <a:pt x="15677" y="8607"/>
                </a:moveTo>
                <a:cubicBezTo>
                  <a:pt x="15759" y="8598"/>
                  <a:pt x="15857" y="8590"/>
                  <a:pt x="15925" y="8558"/>
                </a:cubicBezTo>
                <a:cubicBezTo>
                  <a:pt x="15973" y="8534"/>
                  <a:pt x="15987" y="8525"/>
                  <a:pt x="16024" y="8533"/>
                </a:cubicBezTo>
              </a:path>
              <a:path w="12676" h="9824">
                <a:moveTo>
                  <a:pt x="15751" y="8607"/>
                </a:moveTo>
                <a:cubicBezTo>
                  <a:pt x="15708" y="8692"/>
                  <a:pt x="15653" y="8748"/>
                  <a:pt x="15701" y="8830"/>
                </a:cubicBezTo>
                <a:cubicBezTo>
                  <a:pt x="15751" y="8781"/>
                  <a:pt x="15795" y="8736"/>
                  <a:pt x="15875" y="8756"/>
                </a:cubicBezTo>
                <a:cubicBezTo>
                  <a:pt x="15959" y="8777"/>
                  <a:pt x="15991" y="8879"/>
                  <a:pt x="15999" y="8954"/>
                </a:cubicBezTo>
                <a:cubicBezTo>
                  <a:pt x="16006" y="9019"/>
                  <a:pt x="15998" y="9121"/>
                  <a:pt x="15974" y="9178"/>
                </a:cubicBezTo>
                <a:cubicBezTo>
                  <a:pt x="15954" y="9224"/>
                  <a:pt x="15854" y="9306"/>
                  <a:pt x="15801" y="9302"/>
                </a:cubicBezTo>
                <a:cubicBezTo>
                  <a:pt x="15770" y="9300"/>
                  <a:pt x="15707" y="9247"/>
                  <a:pt x="15677" y="9227"/>
                </a:cubicBezTo>
              </a:path>
              <a:path w="12676" h="9824">
                <a:moveTo>
                  <a:pt x="15205" y="8830"/>
                </a:moveTo>
                <a:cubicBezTo>
                  <a:pt x="15205" y="8937"/>
                  <a:pt x="15226" y="9017"/>
                  <a:pt x="15230" y="9128"/>
                </a:cubicBezTo>
                <a:cubicBezTo>
                  <a:pt x="15233" y="9204"/>
                  <a:pt x="15261" y="9402"/>
                  <a:pt x="15205" y="9351"/>
                </a:cubicBezTo>
                <a:cubicBezTo>
                  <a:pt x="15133" y="9285"/>
                  <a:pt x="15215" y="8857"/>
                  <a:pt x="15230" y="8756"/>
                </a:cubicBezTo>
                <a:cubicBezTo>
                  <a:pt x="15241" y="8678"/>
                  <a:pt x="15230" y="8649"/>
                  <a:pt x="15280" y="8582"/>
                </a:cubicBezTo>
                <a:cubicBezTo>
                  <a:pt x="15314" y="8536"/>
                  <a:pt x="15375" y="8476"/>
                  <a:pt x="15429" y="8458"/>
                </a:cubicBezTo>
                <a:cubicBezTo>
                  <a:pt x="15512" y="8431"/>
                  <a:pt x="15619" y="8422"/>
                  <a:pt x="15701" y="8409"/>
                </a:cubicBezTo>
                <a:cubicBezTo>
                  <a:pt x="15787" y="8395"/>
                  <a:pt x="15887" y="8409"/>
                  <a:pt x="15974" y="8409"/>
                </a:cubicBezTo>
              </a:path>
              <a:path w="12676" h="9824">
                <a:moveTo>
                  <a:pt x="16321" y="8706"/>
                </a:moveTo>
                <a:cubicBezTo>
                  <a:pt x="16303" y="8802"/>
                  <a:pt x="16297" y="8882"/>
                  <a:pt x="16297" y="8979"/>
                </a:cubicBezTo>
                <a:cubicBezTo>
                  <a:pt x="16297" y="9050"/>
                  <a:pt x="16290" y="9126"/>
                  <a:pt x="16297" y="9178"/>
                </a:cubicBezTo>
                <a:cubicBezTo>
                  <a:pt x="16301" y="9208"/>
                  <a:pt x="16297" y="9429"/>
                  <a:pt x="16297" y="9302"/>
                </a:cubicBezTo>
                <a:cubicBezTo>
                  <a:pt x="16297" y="9079"/>
                  <a:pt x="16213" y="8624"/>
                  <a:pt x="16321" y="8434"/>
                </a:cubicBezTo>
                <a:cubicBezTo>
                  <a:pt x="16366" y="8355"/>
                  <a:pt x="16560" y="8384"/>
                  <a:pt x="16619" y="8384"/>
                </a:cubicBezTo>
                <a:cubicBezTo>
                  <a:pt x="16710" y="8384"/>
                  <a:pt x="16801" y="8384"/>
                  <a:pt x="16892" y="8384"/>
                </a:cubicBezTo>
              </a:path>
              <a:path w="12676" h="9824">
                <a:moveTo>
                  <a:pt x="16594" y="8657"/>
                </a:moveTo>
                <a:cubicBezTo>
                  <a:pt x="16594" y="8751"/>
                  <a:pt x="16584" y="9264"/>
                  <a:pt x="16619" y="9252"/>
                </a:cubicBezTo>
              </a:path>
              <a:path w="12676" h="9824">
                <a:moveTo>
                  <a:pt x="16768" y="8756"/>
                </a:moveTo>
                <a:cubicBezTo>
                  <a:pt x="16853" y="8722"/>
                  <a:pt x="16930" y="8708"/>
                  <a:pt x="17016" y="8682"/>
                </a:cubicBezTo>
                <a:cubicBezTo>
                  <a:pt x="17056" y="8662"/>
                  <a:pt x="17063" y="8653"/>
                  <a:pt x="17090" y="8657"/>
                </a:cubicBezTo>
              </a:path>
              <a:path w="12676" h="9824">
                <a:moveTo>
                  <a:pt x="16867" y="8706"/>
                </a:moveTo>
                <a:cubicBezTo>
                  <a:pt x="16790" y="8818"/>
                  <a:pt x="16724" y="8838"/>
                  <a:pt x="16768" y="8954"/>
                </a:cubicBezTo>
                <a:cubicBezTo>
                  <a:pt x="16829" y="8946"/>
                  <a:pt x="16864" y="8891"/>
                  <a:pt x="16917" y="8880"/>
                </a:cubicBezTo>
                <a:cubicBezTo>
                  <a:pt x="16983" y="8867"/>
                  <a:pt x="17052" y="8871"/>
                  <a:pt x="17090" y="8930"/>
                </a:cubicBezTo>
                <a:cubicBezTo>
                  <a:pt x="17137" y="9004"/>
                  <a:pt x="17145" y="9098"/>
                  <a:pt x="17115" y="9178"/>
                </a:cubicBezTo>
                <a:cubicBezTo>
                  <a:pt x="17090" y="9245"/>
                  <a:pt x="17027" y="9271"/>
                  <a:pt x="16966" y="9302"/>
                </a:cubicBezTo>
                <a:cubicBezTo>
                  <a:pt x="16900" y="9335"/>
                  <a:pt x="16781" y="9357"/>
                  <a:pt x="16718" y="9302"/>
                </a:cubicBezTo>
                <a:cubicBezTo>
                  <a:pt x="16670" y="9260"/>
                  <a:pt x="16623" y="9201"/>
                  <a:pt x="16570" y="9153"/>
                </a:cubicBezTo>
              </a:path>
              <a:path w="12676" h="9824">
                <a:moveTo>
                  <a:pt x="16148" y="7739"/>
                </a:moveTo>
                <a:cubicBezTo>
                  <a:pt x="16148" y="7843"/>
                  <a:pt x="16120" y="8000"/>
                  <a:pt x="16173" y="8086"/>
                </a:cubicBezTo>
                <a:cubicBezTo>
                  <a:pt x="16173" y="7994"/>
                  <a:pt x="16192" y="7919"/>
                  <a:pt x="16197" y="7838"/>
                </a:cubicBezTo>
                <a:cubicBezTo>
                  <a:pt x="16202" y="7742"/>
                  <a:pt x="16207" y="7655"/>
                  <a:pt x="16222" y="7565"/>
                </a:cubicBezTo>
                <a:cubicBezTo>
                  <a:pt x="16235" y="7486"/>
                  <a:pt x="16199" y="7408"/>
                  <a:pt x="16247" y="7342"/>
                </a:cubicBezTo>
                <a:cubicBezTo>
                  <a:pt x="16288" y="7286"/>
                  <a:pt x="16316" y="7288"/>
                  <a:pt x="16371" y="7268"/>
                </a:cubicBezTo>
                <a:cubicBezTo>
                  <a:pt x="16437" y="7245"/>
                  <a:pt x="16499" y="7221"/>
                  <a:pt x="16570" y="7218"/>
                </a:cubicBezTo>
                <a:cubicBezTo>
                  <a:pt x="16659" y="7214"/>
                  <a:pt x="16710" y="7197"/>
                  <a:pt x="16793" y="7193"/>
                </a:cubicBezTo>
                <a:cubicBezTo>
                  <a:pt x="16837" y="7193"/>
                  <a:pt x="16850" y="7196"/>
                  <a:pt x="16867" y="7169"/>
                </a:cubicBezTo>
              </a:path>
              <a:path w="12676" h="9824">
                <a:moveTo>
                  <a:pt x="16446" y="7541"/>
                </a:moveTo>
                <a:cubicBezTo>
                  <a:pt x="16425" y="7638"/>
                  <a:pt x="16421" y="7714"/>
                  <a:pt x="16421" y="7813"/>
                </a:cubicBezTo>
                <a:cubicBezTo>
                  <a:pt x="16421" y="7892"/>
                  <a:pt x="16408" y="7973"/>
                  <a:pt x="16446" y="8037"/>
                </a:cubicBezTo>
              </a:path>
              <a:path w="12676" h="9824">
                <a:moveTo>
                  <a:pt x="16594" y="7615"/>
                </a:moveTo>
                <a:cubicBezTo>
                  <a:pt x="16669" y="7541"/>
                  <a:pt x="16698" y="7546"/>
                  <a:pt x="16793" y="7516"/>
                </a:cubicBezTo>
                <a:cubicBezTo>
                  <a:pt x="16833" y="7496"/>
                  <a:pt x="16839" y="7487"/>
                  <a:pt x="16867" y="7491"/>
                </a:cubicBezTo>
              </a:path>
              <a:path w="12676" h="9824">
                <a:moveTo>
                  <a:pt x="16619" y="7541"/>
                </a:moveTo>
                <a:cubicBezTo>
                  <a:pt x="16572" y="7650"/>
                  <a:pt x="16545" y="7681"/>
                  <a:pt x="16545" y="7789"/>
                </a:cubicBezTo>
                <a:cubicBezTo>
                  <a:pt x="16596" y="7748"/>
                  <a:pt x="16630" y="7718"/>
                  <a:pt x="16694" y="7714"/>
                </a:cubicBezTo>
                <a:cubicBezTo>
                  <a:pt x="16768" y="7710"/>
                  <a:pt x="16801" y="7744"/>
                  <a:pt x="16842" y="7789"/>
                </a:cubicBezTo>
                <a:cubicBezTo>
                  <a:pt x="16868" y="7818"/>
                  <a:pt x="16889" y="7875"/>
                  <a:pt x="16892" y="7913"/>
                </a:cubicBezTo>
                <a:cubicBezTo>
                  <a:pt x="16897" y="7987"/>
                  <a:pt x="16874" y="8067"/>
                  <a:pt x="16793" y="8086"/>
                </a:cubicBezTo>
                <a:cubicBezTo>
                  <a:pt x="16734" y="8099"/>
                  <a:pt x="16665" y="8088"/>
                  <a:pt x="16619" y="8062"/>
                </a:cubicBezTo>
              </a:path>
              <a:path w="12676" h="9824">
                <a:moveTo>
                  <a:pt x="17214" y="7987"/>
                </a:moveTo>
                <a:cubicBezTo>
                  <a:pt x="17305" y="7987"/>
                  <a:pt x="17330" y="7987"/>
                  <a:pt x="17388" y="7987"/>
                </a:cubicBezTo>
              </a:path>
              <a:path w="12676" h="9824">
                <a:moveTo>
                  <a:pt x="17190" y="8186"/>
                </a:moveTo>
                <a:cubicBezTo>
                  <a:pt x="17319" y="8186"/>
                  <a:pt x="17391" y="8177"/>
                  <a:pt x="17512" y="8136"/>
                </a:cubicBezTo>
              </a:path>
              <a:path w="12676" h="9824">
                <a:moveTo>
                  <a:pt x="17636" y="8012"/>
                </a:moveTo>
                <a:cubicBezTo>
                  <a:pt x="17713" y="8012"/>
                  <a:pt x="17772" y="8000"/>
                  <a:pt x="17835" y="7987"/>
                </a:cubicBezTo>
                <a:cubicBezTo>
                  <a:pt x="17851" y="7987"/>
                  <a:pt x="17868" y="7987"/>
                  <a:pt x="17884" y="7987"/>
                </a:cubicBezTo>
              </a:path>
              <a:path w="12676" h="9824">
                <a:moveTo>
                  <a:pt x="18182" y="7516"/>
                </a:moveTo>
                <a:cubicBezTo>
                  <a:pt x="18120" y="7578"/>
                  <a:pt x="18106" y="7638"/>
                  <a:pt x="18058" y="7714"/>
                </a:cubicBezTo>
                <a:cubicBezTo>
                  <a:pt x="18039" y="7744"/>
                  <a:pt x="17998" y="7840"/>
                  <a:pt x="18058" y="7863"/>
                </a:cubicBezTo>
                <a:cubicBezTo>
                  <a:pt x="18130" y="7891"/>
                  <a:pt x="18227" y="7888"/>
                  <a:pt x="18306" y="7888"/>
                </a:cubicBezTo>
                <a:cubicBezTo>
                  <a:pt x="18331" y="7888"/>
                  <a:pt x="18355" y="7888"/>
                  <a:pt x="18380" y="7888"/>
                </a:cubicBezTo>
              </a:path>
              <a:path w="12676" h="9824">
                <a:moveTo>
                  <a:pt x="18380" y="7466"/>
                </a:moveTo>
                <a:cubicBezTo>
                  <a:pt x="18331" y="7565"/>
                  <a:pt x="18310" y="7650"/>
                  <a:pt x="18306" y="7764"/>
                </a:cubicBezTo>
                <a:cubicBezTo>
                  <a:pt x="18301" y="7908"/>
                  <a:pt x="18309" y="8049"/>
                  <a:pt x="18331" y="8186"/>
                </a:cubicBezTo>
                <a:cubicBezTo>
                  <a:pt x="18341" y="8249"/>
                  <a:pt x="18324" y="8263"/>
                  <a:pt x="18380" y="8235"/>
                </a:cubicBezTo>
              </a:path>
              <a:path w="12676" h="9824">
                <a:moveTo>
                  <a:pt x="18504" y="7888"/>
                </a:moveTo>
                <a:cubicBezTo>
                  <a:pt x="18480" y="7985"/>
                  <a:pt x="18488" y="8024"/>
                  <a:pt x="18504" y="8111"/>
                </a:cubicBezTo>
                <a:cubicBezTo>
                  <a:pt x="18527" y="8233"/>
                  <a:pt x="18514" y="8220"/>
                  <a:pt x="18579" y="8285"/>
                </a:cubicBezTo>
                <a:cubicBezTo>
                  <a:pt x="18579" y="8089"/>
                  <a:pt x="18504" y="7638"/>
                  <a:pt x="18628" y="7491"/>
                </a:cubicBezTo>
                <a:cubicBezTo>
                  <a:pt x="18694" y="7413"/>
                  <a:pt x="18791" y="7455"/>
                  <a:pt x="18876" y="7441"/>
                </a:cubicBezTo>
                <a:cubicBezTo>
                  <a:pt x="18970" y="7425"/>
                  <a:pt x="19051" y="7417"/>
                  <a:pt x="19149" y="7417"/>
                </a:cubicBezTo>
                <a:cubicBezTo>
                  <a:pt x="19217" y="7417"/>
                  <a:pt x="19291" y="7445"/>
                  <a:pt x="19273" y="7392"/>
                </a:cubicBezTo>
              </a:path>
              <a:path w="12676" h="9824">
                <a:moveTo>
                  <a:pt x="18827" y="7714"/>
                </a:moveTo>
                <a:cubicBezTo>
                  <a:pt x="18827" y="7854"/>
                  <a:pt x="18827" y="7988"/>
                  <a:pt x="18852" y="8111"/>
                </a:cubicBezTo>
                <a:cubicBezTo>
                  <a:pt x="18860" y="8153"/>
                  <a:pt x="18868" y="8193"/>
                  <a:pt x="18876" y="8235"/>
                </a:cubicBezTo>
              </a:path>
              <a:path w="12676" h="9824">
                <a:moveTo>
                  <a:pt x="19025" y="7739"/>
                </a:moveTo>
                <a:cubicBezTo>
                  <a:pt x="19137" y="7734"/>
                  <a:pt x="19238" y="7723"/>
                  <a:pt x="19348" y="7714"/>
                </a:cubicBezTo>
              </a:path>
              <a:path w="12676" h="9824">
                <a:moveTo>
                  <a:pt x="19075" y="7739"/>
                </a:moveTo>
                <a:cubicBezTo>
                  <a:pt x="19021" y="7846"/>
                  <a:pt x="18996" y="7848"/>
                  <a:pt x="19000" y="7913"/>
                </a:cubicBezTo>
                <a:cubicBezTo>
                  <a:pt x="19062" y="7938"/>
                  <a:pt x="19077" y="7892"/>
                  <a:pt x="19149" y="7888"/>
                </a:cubicBezTo>
                <a:cubicBezTo>
                  <a:pt x="19251" y="7882"/>
                  <a:pt x="19271" y="7919"/>
                  <a:pt x="19323" y="7987"/>
                </a:cubicBezTo>
                <a:cubicBezTo>
                  <a:pt x="19375" y="8056"/>
                  <a:pt x="19375" y="8085"/>
                  <a:pt x="19323" y="8161"/>
                </a:cubicBezTo>
                <a:cubicBezTo>
                  <a:pt x="19270" y="8238"/>
                  <a:pt x="19181" y="8235"/>
                  <a:pt x="19100" y="8235"/>
                </a:cubicBezTo>
                <a:cubicBezTo>
                  <a:pt x="19059" y="8235"/>
                  <a:pt x="19017" y="8235"/>
                  <a:pt x="18976" y="8235"/>
                </a:cubicBezTo>
              </a:path>
              <a:path w="12676" h="9824">
                <a:moveTo>
                  <a:pt x="18207" y="8434"/>
                </a:moveTo>
                <a:cubicBezTo>
                  <a:pt x="18277" y="8425"/>
                  <a:pt x="18332" y="8409"/>
                  <a:pt x="18405" y="8409"/>
                </a:cubicBezTo>
                <a:cubicBezTo>
                  <a:pt x="18501" y="8409"/>
                  <a:pt x="18584" y="8387"/>
                  <a:pt x="18678" y="8384"/>
                </a:cubicBezTo>
                <a:cubicBezTo>
                  <a:pt x="18789" y="8380"/>
                  <a:pt x="18896" y="8372"/>
                  <a:pt x="19000" y="8359"/>
                </a:cubicBezTo>
                <a:cubicBezTo>
                  <a:pt x="19091" y="8348"/>
                  <a:pt x="19185" y="8339"/>
                  <a:pt x="19273" y="8334"/>
                </a:cubicBezTo>
                <a:cubicBezTo>
                  <a:pt x="19413" y="8326"/>
                  <a:pt x="19194" y="8310"/>
                  <a:pt x="19174" y="8310"/>
                </a:cubicBezTo>
              </a:path>
              <a:path w="12676" h="9824">
                <a:moveTo>
                  <a:pt x="18504" y="8756"/>
                </a:moveTo>
                <a:cubicBezTo>
                  <a:pt x="18504" y="8958"/>
                  <a:pt x="18504" y="9153"/>
                  <a:pt x="18479" y="9351"/>
                </a:cubicBezTo>
                <a:cubicBezTo>
                  <a:pt x="18472" y="9406"/>
                  <a:pt x="18473" y="9430"/>
                  <a:pt x="18504" y="9451"/>
                </a:cubicBezTo>
              </a:path>
              <a:path w="12676" h="9824">
                <a:moveTo>
                  <a:pt x="18752" y="8731"/>
                </a:moveTo>
                <a:cubicBezTo>
                  <a:pt x="18855" y="8700"/>
                  <a:pt x="18971" y="8709"/>
                  <a:pt x="19075" y="8682"/>
                </a:cubicBezTo>
                <a:cubicBezTo>
                  <a:pt x="19091" y="8674"/>
                  <a:pt x="19108" y="8665"/>
                  <a:pt x="19124" y="8657"/>
                </a:cubicBezTo>
              </a:path>
              <a:path w="12676" h="9824">
                <a:moveTo>
                  <a:pt x="18827" y="8682"/>
                </a:moveTo>
                <a:cubicBezTo>
                  <a:pt x="18789" y="8774"/>
                  <a:pt x="18727" y="8874"/>
                  <a:pt x="18752" y="8979"/>
                </a:cubicBezTo>
                <a:cubicBezTo>
                  <a:pt x="18760" y="8996"/>
                  <a:pt x="18769" y="9012"/>
                  <a:pt x="18777" y="9029"/>
                </a:cubicBezTo>
                <a:cubicBezTo>
                  <a:pt x="18857" y="8993"/>
                  <a:pt x="18913" y="8979"/>
                  <a:pt x="19000" y="8979"/>
                </a:cubicBezTo>
                <a:cubicBezTo>
                  <a:pt x="19072" y="8979"/>
                  <a:pt x="19147" y="9006"/>
                  <a:pt x="19174" y="9079"/>
                </a:cubicBezTo>
                <a:cubicBezTo>
                  <a:pt x="19212" y="9182"/>
                  <a:pt x="19191" y="9242"/>
                  <a:pt x="19174" y="9327"/>
                </a:cubicBezTo>
                <a:cubicBezTo>
                  <a:pt x="19155" y="9421"/>
                  <a:pt x="19126" y="9421"/>
                  <a:pt x="19025" y="9426"/>
                </a:cubicBezTo>
                <a:cubicBezTo>
                  <a:pt x="18976" y="9428"/>
                  <a:pt x="18912" y="9405"/>
                  <a:pt x="18876" y="9376"/>
                </a:cubicBezTo>
                <a:cubicBezTo>
                  <a:pt x="18854" y="9354"/>
                  <a:pt x="18843" y="9345"/>
                  <a:pt x="18876" y="9351"/>
                </a:cubicBezTo>
              </a:path>
              <a:path w="12676" h="9824">
                <a:moveTo>
                  <a:pt x="15949" y="11956"/>
                </a:moveTo>
                <a:cubicBezTo>
                  <a:pt x="15949" y="12057"/>
                  <a:pt x="15970" y="12153"/>
                  <a:pt x="15974" y="12254"/>
                </a:cubicBezTo>
                <a:cubicBezTo>
                  <a:pt x="15977" y="12336"/>
                  <a:pt x="15977" y="12372"/>
                  <a:pt x="15999" y="12452"/>
                </a:cubicBezTo>
                <a:cubicBezTo>
                  <a:pt x="15999" y="12218"/>
                  <a:pt x="16000" y="11985"/>
                  <a:pt x="15974" y="11757"/>
                </a:cubicBezTo>
                <a:cubicBezTo>
                  <a:pt x="15966" y="11684"/>
                  <a:pt x="15936" y="11322"/>
                  <a:pt x="15999" y="11286"/>
                </a:cubicBezTo>
                <a:cubicBezTo>
                  <a:pt x="16084" y="11238"/>
                  <a:pt x="16204" y="11261"/>
                  <a:pt x="16297" y="11261"/>
                </a:cubicBezTo>
                <a:cubicBezTo>
                  <a:pt x="16402" y="11261"/>
                  <a:pt x="16494" y="11275"/>
                  <a:pt x="16594" y="11286"/>
                </a:cubicBezTo>
                <a:cubicBezTo>
                  <a:pt x="16680" y="11296"/>
                  <a:pt x="16804" y="11340"/>
                  <a:pt x="16892" y="11311"/>
                </a:cubicBezTo>
                <a:cubicBezTo>
                  <a:pt x="16892" y="11303"/>
                  <a:pt x="16892" y="11294"/>
                  <a:pt x="16892" y="11286"/>
                </a:cubicBezTo>
              </a:path>
              <a:path w="12676" h="9824">
                <a:moveTo>
                  <a:pt x="16321" y="11683"/>
                </a:moveTo>
                <a:cubicBezTo>
                  <a:pt x="16321" y="11820"/>
                  <a:pt x="16341" y="11927"/>
                  <a:pt x="16346" y="12055"/>
                </a:cubicBezTo>
                <a:cubicBezTo>
                  <a:pt x="16350" y="12152"/>
                  <a:pt x="16312" y="12322"/>
                  <a:pt x="16371" y="12402"/>
                </a:cubicBezTo>
                <a:cubicBezTo>
                  <a:pt x="16371" y="12394"/>
                  <a:pt x="16371" y="12386"/>
                  <a:pt x="16371" y="12378"/>
                </a:cubicBezTo>
              </a:path>
              <a:path w="12676" h="9824">
                <a:moveTo>
                  <a:pt x="16545" y="11757"/>
                </a:moveTo>
                <a:cubicBezTo>
                  <a:pt x="16591" y="11693"/>
                  <a:pt x="16638" y="11671"/>
                  <a:pt x="16718" y="11658"/>
                </a:cubicBezTo>
                <a:cubicBezTo>
                  <a:pt x="16782" y="11647"/>
                  <a:pt x="16836" y="11650"/>
                  <a:pt x="16892" y="11633"/>
                </a:cubicBezTo>
                <a:cubicBezTo>
                  <a:pt x="16900" y="11633"/>
                  <a:pt x="16909" y="11633"/>
                  <a:pt x="16917" y="11633"/>
                </a:cubicBezTo>
              </a:path>
              <a:path w="12676" h="9824">
                <a:moveTo>
                  <a:pt x="16669" y="11658"/>
                </a:moveTo>
                <a:cubicBezTo>
                  <a:pt x="16596" y="11776"/>
                  <a:pt x="16507" y="11853"/>
                  <a:pt x="16570" y="11981"/>
                </a:cubicBezTo>
                <a:cubicBezTo>
                  <a:pt x="16613" y="12069"/>
                  <a:pt x="16644" y="12009"/>
                  <a:pt x="16718" y="12005"/>
                </a:cubicBezTo>
                <a:cubicBezTo>
                  <a:pt x="16822" y="11999"/>
                  <a:pt x="16829" y="12026"/>
                  <a:pt x="16917" y="12080"/>
                </a:cubicBezTo>
                <a:cubicBezTo>
                  <a:pt x="16986" y="12122"/>
                  <a:pt x="17057" y="12201"/>
                  <a:pt x="17090" y="12278"/>
                </a:cubicBezTo>
                <a:cubicBezTo>
                  <a:pt x="17115" y="12335"/>
                  <a:pt x="17146" y="12495"/>
                  <a:pt x="17140" y="12551"/>
                </a:cubicBezTo>
                <a:cubicBezTo>
                  <a:pt x="17136" y="12592"/>
                  <a:pt x="17111" y="12679"/>
                  <a:pt x="17066" y="12700"/>
                </a:cubicBezTo>
                <a:cubicBezTo>
                  <a:pt x="16966" y="12748"/>
                  <a:pt x="16870" y="12764"/>
                  <a:pt x="16768" y="12725"/>
                </a:cubicBezTo>
                <a:cubicBezTo>
                  <a:pt x="16707" y="12701"/>
                  <a:pt x="16645" y="12666"/>
                  <a:pt x="16594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7" name="Ink 7"/>
          <p:cNvSpPr/>
          <p:nvPr/>
        </p:nvSpPr>
        <p:spPr>
          <a:xfrm>
            <a:off x="7466040" y="2840040"/>
            <a:ext cx="27000" cy="401760"/>
          </a:xfrm>
          <a:custGeom>
            <a:avLst/>
            <a:gdLst/>
            <a:ahLst/>
            <a:rect l="l" t="t" r="r" b="b"/>
            <a:pathLst>
              <a:path w="75" h="1117">
                <a:moveTo>
                  <a:pt x="20762" y="7888"/>
                </a:moveTo>
                <a:cubicBezTo>
                  <a:pt x="20762" y="8065"/>
                  <a:pt x="20770" y="8234"/>
                  <a:pt x="20786" y="8409"/>
                </a:cubicBezTo>
                <a:cubicBezTo>
                  <a:pt x="20794" y="8501"/>
                  <a:pt x="20806" y="8592"/>
                  <a:pt x="20811" y="8682"/>
                </a:cubicBezTo>
                <a:cubicBezTo>
                  <a:pt x="20816" y="8772"/>
                  <a:pt x="20834" y="8900"/>
                  <a:pt x="20786" y="8979"/>
                </a:cubicBezTo>
                <a:cubicBezTo>
                  <a:pt x="20762" y="9004"/>
                  <a:pt x="20754" y="9012"/>
                  <a:pt x="20737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8" name="Ink 8"/>
          <p:cNvSpPr/>
          <p:nvPr/>
        </p:nvSpPr>
        <p:spPr>
          <a:xfrm>
            <a:off x="7643880" y="2820960"/>
            <a:ext cx="741240" cy="403200"/>
          </a:xfrm>
          <a:custGeom>
            <a:avLst/>
            <a:gdLst/>
            <a:ahLst/>
            <a:rect l="l" t="t" r="r" b="b"/>
            <a:pathLst>
              <a:path w="2060" h="1117">
                <a:moveTo>
                  <a:pt x="21357" y="8136"/>
                </a:moveTo>
                <a:cubicBezTo>
                  <a:pt x="21376" y="8251"/>
                  <a:pt x="21362" y="8370"/>
                  <a:pt x="21382" y="8483"/>
                </a:cubicBezTo>
                <a:cubicBezTo>
                  <a:pt x="21396" y="8562"/>
                  <a:pt x="21383" y="8681"/>
                  <a:pt x="21406" y="8756"/>
                </a:cubicBezTo>
                <a:cubicBezTo>
                  <a:pt x="21414" y="8764"/>
                  <a:pt x="21423" y="8773"/>
                  <a:pt x="21431" y="8781"/>
                </a:cubicBezTo>
              </a:path>
              <a:path w="2060" h="1117">
                <a:moveTo>
                  <a:pt x="21233" y="8434"/>
                </a:moveTo>
                <a:cubicBezTo>
                  <a:pt x="21355" y="8434"/>
                  <a:pt x="21435" y="8441"/>
                  <a:pt x="21555" y="8434"/>
                </a:cubicBezTo>
                <a:cubicBezTo>
                  <a:pt x="21631" y="8434"/>
                  <a:pt x="21657" y="8434"/>
                  <a:pt x="21704" y="8409"/>
                </a:cubicBezTo>
              </a:path>
              <a:path w="2060" h="1117">
                <a:moveTo>
                  <a:pt x="21977" y="8235"/>
                </a:moveTo>
                <a:cubicBezTo>
                  <a:pt x="22021" y="8354"/>
                  <a:pt x="22078" y="8466"/>
                  <a:pt x="22126" y="8582"/>
                </a:cubicBezTo>
                <a:cubicBezTo>
                  <a:pt x="22147" y="8633"/>
                  <a:pt x="22185" y="8744"/>
                  <a:pt x="22225" y="8781"/>
                </a:cubicBezTo>
                <a:cubicBezTo>
                  <a:pt x="22266" y="8819"/>
                  <a:pt x="22322" y="8851"/>
                  <a:pt x="22374" y="8855"/>
                </a:cubicBezTo>
                <a:cubicBezTo>
                  <a:pt x="22382" y="8855"/>
                  <a:pt x="22391" y="8855"/>
                  <a:pt x="22399" y="8855"/>
                </a:cubicBezTo>
              </a:path>
              <a:path w="2060" h="1117">
                <a:moveTo>
                  <a:pt x="22299" y="8186"/>
                </a:moveTo>
                <a:cubicBezTo>
                  <a:pt x="22286" y="8333"/>
                  <a:pt x="22250" y="8432"/>
                  <a:pt x="22200" y="8582"/>
                </a:cubicBezTo>
                <a:cubicBezTo>
                  <a:pt x="22172" y="8666"/>
                  <a:pt x="22161" y="8779"/>
                  <a:pt x="22126" y="8855"/>
                </a:cubicBezTo>
                <a:cubicBezTo>
                  <a:pt x="22092" y="8929"/>
                  <a:pt x="22066" y="8987"/>
                  <a:pt x="22051" y="8880"/>
                </a:cubicBezTo>
              </a:path>
              <a:path w="2060" h="1117">
                <a:moveTo>
                  <a:pt x="22498" y="7863"/>
                </a:moveTo>
                <a:cubicBezTo>
                  <a:pt x="22546" y="7851"/>
                  <a:pt x="22697" y="7796"/>
                  <a:pt x="22721" y="7888"/>
                </a:cubicBezTo>
                <a:cubicBezTo>
                  <a:pt x="22735" y="7939"/>
                  <a:pt x="22701" y="8025"/>
                  <a:pt x="22671" y="8062"/>
                </a:cubicBezTo>
                <a:cubicBezTo>
                  <a:pt x="22647" y="8086"/>
                  <a:pt x="22638" y="8095"/>
                  <a:pt x="22622" y="8111"/>
                </a:cubicBezTo>
                <a:cubicBezTo>
                  <a:pt x="22684" y="8142"/>
                  <a:pt x="22746" y="8136"/>
                  <a:pt x="22820" y="8136"/>
                </a:cubicBezTo>
                <a:cubicBezTo>
                  <a:pt x="22837" y="8136"/>
                  <a:pt x="22853" y="8136"/>
                  <a:pt x="22870" y="8136"/>
                </a:cubicBezTo>
              </a:path>
              <a:path w="2060" h="1117">
                <a:moveTo>
                  <a:pt x="22944" y="8434"/>
                </a:moveTo>
                <a:cubicBezTo>
                  <a:pt x="23066" y="8428"/>
                  <a:pt x="23076" y="8427"/>
                  <a:pt x="23168" y="8409"/>
                </a:cubicBezTo>
              </a:path>
              <a:path w="2060" h="1117">
                <a:moveTo>
                  <a:pt x="23068" y="8632"/>
                </a:moveTo>
                <a:cubicBezTo>
                  <a:pt x="23162" y="8632"/>
                  <a:pt x="23218" y="8641"/>
                  <a:pt x="23292" y="85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9" name="Ink 9"/>
          <p:cNvSpPr/>
          <p:nvPr/>
        </p:nvSpPr>
        <p:spPr>
          <a:xfrm>
            <a:off x="8555040" y="2919240"/>
            <a:ext cx="249120" cy="322560"/>
          </a:xfrm>
          <a:custGeom>
            <a:avLst/>
            <a:gdLst/>
            <a:ahLst/>
            <a:rect l="l" t="t" r="r" b="b"/>
            <a:pathLst>
              <a:path w="695" h="894">
                <a:moveTo>
                  <a:pt x="23812" y="8111"/>
                </a:moveTo>
                <a:cubicBezTo>
                  <a:pt x="23807" y="8311"/>
                  <a:pt x="23786" y="8445"/>
                  <a:pt x="23763" y="8632"/>
                </a:cubicBezTo>
                <a:cubicBezTo>
                  <a:pt x="23752" y="8720"/>
                  <a:pt x="23801" y="8819"/>
                  <a:pt x="23812" y="8905"/>
                </a:cubicBezTo>
                <a:cubicBezTo>
                  <a:pt x="23812" y="8956"/>
                  <a:pt x="23813" y="8975"/>
                  <a:pt x="23837" y="9004"/>
                </a:cubicBezTo>
              </a:path>
              <a:path w="695" h="894">
                <a:moveTo>
                  <a:pt x="24061" y="8136"/>
                </a:moveTo>
                <a:cubicBezTo>
                  <a:pt x="24096" y="8233"/>
                  <a:pt x="24072" y="8284"/>
                  <a:pt x="24061" y="8384"/>
                </a:cubicBezTo>
                <a:cubicBezTo>
                  <a:pt x="24051" y="8475"/>
                  <a:pt x="24022" y="8619"/>
                  <a:pt x="24036" y="8706"/>
                </a:cubicBezTo>
                <a:cubicBezTo>
                  <a:pt x="24046" y="8765"/>
                  <a:pt x="24055" y="8858"/>
                  <a:pt x="24085" y="8905"/>
                </a:cubicBezTo>
                <a:cubicBezTo>
                  <a:pt x="24136" y="8984"/>
                  <a:pt x="24176" y="9033"/>
                  <a:pt x="24259" y="8979"/>
                </a:cubicBezTo>
                <a:cubicBezTo>
                  <a:pt x="24333" y="8931"/>
                  <a:pt x="24388" y="8905"/>
                  <a:pt x="24433" y="8830"/>
                </a:cubicBezTo>
                <a:cubicBezTo>
                  <a:pt x="24481" y="8750"/>
                  <a:pt x="24461" y="8615"/>
                  <a:pt x="24433" y="8533"/>
                </a:cubicBezTo>
                <a:cubicBezTo>
                  <a:pt x="24425" y="8525"/>
                  <a:pt x="24416" y="8516"/>
                  <a:pt x="24408" y="8508"/>
                </a:cubicBezTo>
                <a:cubicBezTo>
                  <a:pt x="24285" y="8530"/>
                  <a:pt x="24281" y="8581"/>
                  <a:pt x="24209" y="8682"/>
                </a:cubicBezTo>
                <a:cubicBezTo>
                  <a:pt x="24152" y="8763"/>
                  <a:pt x="24097" y="8808"/>
                  <a:pt x="24085" y="89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0" name="Ink 10"/>
          <p:cNvSpPr/>
          <p:nvPr/>
        </p:nvSpPr>
        <p:spPr>
          <a:xfrm>
            <a:off x="3990960" y="1768320"/>
            <a:ext cx="706320" cy="276480"/>
          </a:xfrm>
          <a:custGeom>
            <a:avLst/>
            <a:gdLst/>
            <a:ahLst/>
            <a:rect l="l" t="t" r="r" b="b"/>
            <a:pathLst>
              <a:path w="1960" h="770">
                <a:moveTo>
                  <a:pt x="11633" y="5110"/>
                </a:moveTo>
                <a:cubicBezTo>
                  <a:pt x="11584" y="5047"/>
                  <a:pt x="11585" y="4997"/>
                  <a:pt x="11534" y="4936"/>
                </a:cubicBezTo>
                <a:cubicBezTo>
                  <a:pt x="11494" y="4888"/>
                  <a:pt x="11404" y="4901"/>
                  <a:pt x="11361" y="4936"/>
                </a:cubicBezTo>
                <a:cubicBezTo>
                  <a:pt x="11284" y="4999"/>
                  <a:pt x="11221" y="5095"/>
                  <a:pt x="11187" y="5184"/>
                </a:cubicBezTo>
                <a:cubicBezTo>
                  <a:pt x="11151" y="5278"/>
                  <a:pt x="11093" y="5326"/>
                  <a:pt x="11088" y="5432"/>
                </a:cubicBezTo>
                <a:cubicBezTo>
                  <a:pt x="11084" y="5508"/>
                  <a:pt x="11085" y="5586"/>
                  <a:pt x="11162" y="5631"/>
                </a:cubicBezTo>
                <a:cubicBezTo>
                  <a:pt x="11245" y="5679"/>
                  <a:pt x="11343" y="5680"/>
                  <a:pt x="11435" y="5680"/>
                </a:cubicBezTo>
                <a:cubicBezTo>
                  <a:pt x="11503" y="5680"/>
                  <a:pt x="11522" y="5683"/>
                  <a:pt x="11559" y="5655"/>
                </a:cubicBezTo>
              </a:path>
              <a:path w="1960" h="770">
                <a:moveTo>
                  <a:pt x="12204" y="5085"/>
                </a:moveTo>
                <a:cubicBezTo>
                  <a:pt x="12137" y="5018"/>
                  <a:pt x="12071" y="5020"/>
                  <a:pt x="11981" y="5060"/>
                </a:cubicBezTo>
                <a:cubicBezTo>
                  <a:pt x="11959" y="5070"/>
                  <a:pt x="11863" y="5141"/>
                  <a:pt x="11857" y="5159"/>
                </a:cubicBezTo>
                <a:cubicBezTo>
                  <a:pt x="11823" y="5257"/>
                  <a:pt x="11894" y="5285"/>
                  <a:pt x="11956" y="5333"/>
                </a:cubicBezTo>
                <a:cubicBezTo>
                  <a:pt x="12003" y="5369"/>
                  <a:pt x="12125" y="5402"/>
                  <a:pt x="12154" y="5457"/>
                </a:cubicBezTo>
                <a:cubicBezTo>
                  <a:pt x="12175" y="5496"/>
                  <a:pt x="12176" y="5597"/>
                  <a:pt x="12129" y="5631"/>
                </a:cubicBezTo>
                <a:cubicBezTo>
                  <a:pt x="12106" y="5647"/>
                  <a:pt x="11962" y="5672"/>
                  <a:pt x="11931" y="5655"/>
                </a:cubicBezTo>
                <a:cubicBezTo>
                  <a:pt x="11862" y="5618"/>
                  <a:pt x="11881" y="5570"/>
                  <a:pt x="11881" y="5507"/>
                </a:cubicBezTo>
              </a:path>
              <a:path w="1960" h="770">
                <a:moveTo>
                  <a:pt x="12576" y="4936"/>
                </a:moveTo>
                <a:cubicBezTo>
                  <a:pt x="12670" y="4974"/>
                  <a:pt x="12734" y="5014"/>
                  <a:pt x="12675" y="4961"/>
                </a:cubicBezTo>
                <a:cubicBezTo>
                  <a:pt x="12601" y="4936"/>
                  <a:pt x="12517" y="4919"/>
                  <a:pt x="12452" y="4986"/>
                </a:cubicBezTo>
                <a:cubicBezTo>
                  <a:pt x="12374" y="5067"/>
                  <a:pt x="12302" y="5195"/>
                  <a:pt x="12278" y="5308"/>
                </a:cubicBezTo>
                <a:cubicBezTo>
                  <a:pt x="12260" y="5394"/>
                  <a:pt x="12291" y="5458"/>
                  <a:pt x="12328" y="5531"/>
                </a:cubicBezTo>
                <a:cubicBezTo>
                  <a:pt x="12368" y="5611"/>
                  <a:pt x="12464" y="5628"/>
                  <a:pt x="12551" y="5631"/>
                </a:cubicBezTo>
                <a:cubicBezTo>
                  <a:pt x="12658" y="5635"/>
                  <a:pt x="12771" y="5629"/>
                  <a:pt x="12874" y="5606"/>
                </a:cubicBezTo>
                <a:cubicBezTo>
                  <a:pt x="12943" y="5591"/>
                  <a:pt x="12977" y="5581"/>
                  <a:pt x="13047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1" name="Ink 11"/>
          <p:cNvSpPr/>
          <p:nvPr/>
        </p:nvSpPr>
        <p:spPr>
          <a:xfrm>
            <a:off x="4643280" y="98280"/>
            <a:ext cx="1071720" cy="723960"/>
          </a:xfrm>
          <a:custGeom>
            <a:avLst/>
            <a:gdLst/>
            <a:ahLst/>
            <a:rect l="l" t="t" r="r" b="b"/>
            <a:pathLst>
              <a:path w="2978" h="2010">
                <a:moveTo>
                  <a:pt x="13965" y="719"/>
                </a:moveTo>
                <a:cubicBezTo>
                  <a:pt x="13973" y="711"/>
                  <a:pt x="13982" y="703"/>
                  <a:pt x="13990" y="695"/>
                </a:cubicBezTo>
                <a:cubicBezTo>
                  <a:pt x="14026" y="754"/>
                  <a:pt x="14015" y="819"/>
                  <a:pt x="14015" y="893"/>
                </a:cubicBezTo>
                <a:cubicBezTo>
                  <a:pt x="14015" y="1215"/>
                  <a:pt x="13997" y="1544"/>
                  <a:pt x="14039" y="1860"/>
                </a:cubicBezTo>
                <a:cubicBezTo>
                  <a:pt x="14057" y="1998"/>
                  <a:pt x="14039" y="1764"/>
                  <a:pt x="14039" y="1736"/>
                </a:cubicBezTo>
              </a:path>
              <a:path w="2978" h="2010">
                <a:moveTo>
                  <a:pt x="14362" y="670"/>
                </a:moveTo>
                <a:cubicBezTo>
                  <a:pt x="14399" y="743"/>
                  <a:pt x="14387" y="830"/>
                  <a:pt x="14387" y="918"/>
                </a:cubicBezTo>
                <a:cubicBezTo>
                  <a:pt x="14387" y="1052"/>
                  <a:pt x="14362" y="1180"/>
                  <a:pt x="14362" y="1315"/>
                </a:cubicBezTo>
                <a:cubicBezTo>
                  <a:pt x="14362" y="1473"/>
                  <a:pt x="14387" y="1625"/>
                  <a:pt x="14387" y="1786"/>
                </a:cubicBezTo>
                <a:cubicBezTo>
                  <a:pt x="14387" y="1873"/>
                  <a:pt x="14448" y="1993"/>
                  <a:pt x="14387" y="2034"/>
                </a:cubicBezTo>
              </a:path>
              <a:path w="2978" h="2010">
                <a:moveTo>
                  <a:pt x="13568" y="2009"/>
                </a:moveTo>
                <a:cubicBezTo>
                  <a:pt x="13607" y="2025"/>
                  <a:pt x="13733" y="2019"/>
                  <a:pt x="13791" y="2009"/>
                </a:cubicBezTo>
                <a:cubicBezTo>
                  <a:pt x="13966" y="1979"/>
                  <a:pt x="14157" y="1970"/>
                  <a:pt x="14337" y="1960"/>
                </a:cubicBezTo>
                <a:cubicBezTo>
                  <a:pt x="14488" y="1952"/>
                  <a:pt x="14632" y="1935"/>
                  <a:pt x="14784" y="1935"/>
                </a:cubicBezTo>
                <a:cubicBezTo>
                  <a:pt x="14895" y="1935"/>
                  <a:pt x="15209" y="1951"/>
                  <a:pt x="15106" y="1910"/>
                </a:cubicBezTo>
                <a:cubicBezTo>
                  <a:pt x="15065" y="1902"/>
                  <a:pt x="15023" y="1893"/>
                  <a:pt x="14982" y="1885"/>
                </a:cubicBezTo>
              </a:path>
              <a:path w="2978" h="2010">
                <a:moveTo>
                  <a:pt x="13568" y="744"/>
                </a:moveTo>
                <a:cubicBezTo>
                  <a:pt x="13705" y="770"/>
                  <a:pt x="13782" y="758"/>
                  <a:pt x="13915" y="744"/>
                </a:cubicBezTo>
                <a:cubicBezTo>
                  <a:pt x="14057" y="729"/>
                  <a:pt x="14193" y="719"/>
                  <a:pt x="14337" y="719"/>
                </a:cubicBezTo>
                <a:cubicBezTo>
                  <a:pt x="14470" y="719"/>
                  <a:pt x="14599" y="695"/>
                  <a:pt x="14734" y="695"/>
                </a:cubicBezTo>
                <a:cubicBezTo>
                  <a:pt x="14885" y="695"/>
                  <a:pt x="14855" y="705"/>
                  <a:pt x="14957" y="719"/>
                </a:cubicBezTo>
              </a:path>
              <a:path w="2978" h="2010">
                <a:moveTo>
                  <a:pt x="15230" y="521"/>
                </a:moveTo>
                <a:cubicBezTo>
                  <a:pt x="15151" y="426"/>
                  <a:pt x="15145" y="391"/>
                  <a:pt x="15032" y="347"/>
                </a:cubicBezTo>
                <a:cubicBezTo>
                  <a:pt x="14931" y="308"/>
                  <a:pt x="14814" y="281"/>
                  <a:pt x="14709" y="273"/>
                </a:cubicBezTo>
                <a:cubicBezTo>
                  <a:pt x="14558" y="261"/>
                  <a:pt x="14386" y="276"/>
                  <a:pt x="14238" y="298"/>
                </a:cubicBezTo>
                <a:cubicBezTo>
                  <a:pt x="14043" y="327"/>
                  <a:pt x="13845" y="387"/>
                  <a:pt x="13667" y="471"/>
                </a:cubicBezTo>
                <a:cubicBezTo>
                  <a:pt x="13524" y="538"/>
                  <a:pt x="13361" y="633"/>
                  <a:pt x="13246" y="744"/>
                </a:cubicBezTo>
                <a:cubicBezTo>
                  <a:pt x="13139" y="848"/>
                  <a:pt x="13083" y="933"/>
                  <a:pt x="13022" y="1067"/>
                </a:cubicBezTo>
                <a:cubicBezTo>
                  <a:pt x="12967" y="1189"/>
                  <a:pt x="12902" y="1279"/>
                  <a:pt x="12898" y="1414"/>
                </a:cubicBezTo>
                <a:cubicBezTo>
                  <a:pt x="12893" y="1569"/>
                  <a:pt x="12917" y="1675"/>
                  <a:pt x="12998" y="1811"/>
                </a:cubicBezTo>
                <a:cubicBezTo>
                  <a:pt x="13070" y="1932"/>
                  <a:pt x="13101" y="1979"/>
                  <a:pt x="13221" y="2059"/>
                </a:cubicBezTo>
                <a:cubicBezTo>
                  <a:pt x="13352" y="2146"/>
                  <a:pt x="13486" y="2217"/>
                  <a:pt x="13643" y="2257"/>
                </a:cubicBezTo>
                <a:cubicBezTo>
                  <a:pt x="13821" y="2303"/>
                  <a:pt x="14032" y="2300"/>
                  <a:pt x="14213" y="2282"/>
                </a:cubicBezTo>
                <a:cubicBezTo>
                  <a:pt x="14399" y="2264"/>
                  <a:pt x="14582" y="2211"/>
                  <a:pt x="14759" y="2158"/>
                </a:cubicBezTo>
                <a:cubicBezTo>
                  <a:pt x="14961" y="2097"/>
                  <a:pt x="15199" y="2022"/>
                  <a:pt x="15379" y="1910"/>
                </a:cubicBezTo>
                <a:cubicBezTo>
                  <a:pt x="15514" y="1826"/>
                  <a:pt x="15597" y="1750"/>
                  <a:pt x="15701" y="1637"/>
                </a:cubicBezTo>
                <a:cubicBezTo>
                  <a:pt x="15825" y="1502"/>
                  <a:pt x="15858" y="1464"/>
                  <a:pt x="15875" y="1290"/>
                </a:cubicBezTo>
                <a:cubicBezTo>
                  <a:pt x="15884" y="1197"/>
                  <a:pt x="15850" y="1127"/>
                  <a:pt x="15825" y="1042"/>
                </a:cubicBezTo>
                <a:cubicBezTo>
                  <a:pt x="15797" y="945"/>
                  <a:pt x="15701" y="839"/>
                  <a:pt x="15627" y="769"/>
                </a:cubicBezTo>
                <a:cubicBezTo>
                  <a:pt x="15506" y="654"/>
                  <a:pt x="15440" y="633"/>
                  <a:pt x="15304" y="571"/>
                </a:cubicBezTo>
                <a:cubicBezTo>
                  <a:pt x="15237" y="541"/>
                  <a:pt x="15152" y="504"/>
                  <a:pt x="15081" y="496"/>
                </a:cubicBezTo>
                <a:cubicBezTo>
                  <a:pt x="15006" y="487"/>
                  <a:pt x="14951" y="506"/>
                  <a:pt x="14883" y="521"/>
                </a:cubicBezTo>
                <a:cubicBezTo>
                  <a:pt x="14831" y="521"/>
                  <a:pt x="14813" y="522"/>
                  <a:pt x="14784" y="5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2" name="Ink 12"/>
          <p:cNvSpPr/>
          <p:nvPr/>
        </p:nvSpPr>
        <p:spPr>
          <a:xfrm>
            <a:off x="4749840" y="1795320"/>
            <a:ext cx="171360" cy="98640"/>
          </a:xfrm>
          <a:custGeom>
            <a:avLst/>
            <a:gdLst/>
            <a:ahLst/>
            <a:rect l="l" t="t" r="r" b="b"/>
            <a:pathLst>
              <a:path w="472" h="274">
                <a:moveTo>
                  <a:pt x="13196" y="5060"/>
                </a:moveTo>
                <a:cubicBezTo>
                  <a:pt x="13263" y="5035"/>
                  <a:pt x="13327" y="5029"/>
                  <a:pt x="13395" y="5011"/>
                </a:cubicBezTo>
                <a:cubicBezTo>
                  <a:pt x="13451" y="4996"/>
                  <a:pt x="13609" y="4949"/>
                  <a:pt x="13667" y="4986"/>
                </a:cubicBezTo>
                <a:cubicBezTo>
                  <a:pt x="13667" y="4994"/>
                  <a:pt x="13667" y="5003"/>
                  <a:pt x="13667" y="5011"/>
                </a:cubicBezTo>
              </a:path>
              <a:path w="472" h="274">
                <a:moveTo>
                  <a:pt x="13320" y="5259"/>
                </a:moveTo>
                <a:cubicBezTo>
                  <a:pt x="13436" y="5259"/>
                  <a:pt x="13551" y="5259"/>
                  <a:pt x="13667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3" name="Ink 13"/>
          <p:cNvSpPr/>
          <p:nvPr/>
        </p:nvSpPr>
        <p:spPr>
          <a:xfrm>
            <a:off x="5126040" y="1500120"/>
            <a:ext cx="187200" cy="519120"/>
          </a:xfrm>
          <a:custGeom>
            <a:avLst/>
            <a:gdLst/>
            <a:ahLst/>
            <a:rect l="l" t="t" r="r" b="b"/>
            <a:pathLst>
              <a:path w="522" h="1440">
                <a:moveTo>
                  <a:pt x="14362" y="4366"/>
                </a:moveTo>
                <a:cubicBezTo>
                  <a:pt x="14332" y="4426"/>
                  <a:pt x="14314" y="4493"/>
                  <a:pt x="14288" y="4564"/>
                </a:cubicBezTo>
                <a:cubicBezTo>
                  <a:pt x="14262" y="4636"/>
                  <a:pt x="14242" y="4717"/>
                  <a:pt x="14238" y="4787"/>
                </a:cubicBezTo>
                <a:cubicBezTo>
                  <a:pt x="14230" y="4915"/>
                  <a:pt x="14284" y="4858"/>
                  <a:pt x="14362" y="4887"/>
                </a:cubicBezTo>
                <a:cubicBezTo>
                  <a:pt x="14431" y="4913"/>
                  <a:pt x="14458" y="4891"/>
                  <a:pt x="14536" y="4887"/>
                </a:cubicBezTo>
                <a:cubicBezTo>
                  <a:pt x="14608" y="4883"/>
                  <a:pt x="14635" y="4862"/>
                  <a:pt x="14684" y="4812"/>
                </a:cubicBezTo>
                <a:cubicBezTo>
                  <a:pt x="14692" y="4804"/>
                  <a:pt x="14701" y="4795"/>
                  <a:pt x="14709" y="4787"/>
                </a:cubicBezTo>
              </a:path>
              <a:path w="522" h="1440">
                <a:moveTo>
                  <a:pt x="14610" y="4167"/>
                </a:moveTo>
                <a:cubicBezTo>
                  <a:pt x="14610" y="4270"/>
                  <a:pt x="14631" y="4363"/>
                  <a:pt x="14635" y="4465"/>
                </a:cubicBezTo>
                <a:cubicBezTo>
                  <a:pt x="14639" y="4575"/>
                  <a:pt x="14675" y="4679"/>
                  <a:pt x="14684" y="4787"/>
                </a:cubicBezTo>
                <a:cubicBezTo>
                  <a:pt x="14694" y="4897"/>
                  <a:pt x="14721" y="5005"/>
                  <a:pt x="14734" y="5110"/>
                </a:cubicBezTo>
                <a:cubicBezTo>
                  <a:pt x="14745" y="5200"/>
                  <a:pt x="14755" y="5296"/>
                  <a:pt x="14759" y="5383"/>
                </a:cubicBezTo>
                <a:cubicBezTo>
                  <a:pt x="14762" y="5457"/>
                  <a:pt x="14759" y="5532"/>
                  <a:pt x="14759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4" name="Ink 14"/>
          <p:cNvSpPr/>
          <p:nvPr/>
        </p:nvSpPr>
        <p:spPr>
          <a:xfrm>
            <a:off x="7439040" y="1116000"/>
            <a:ext cx="187200" cy="339840"/>
          </a:xfrm>
          <a:custGeom>
            <a:avLst/>
            <a:gdLst/>
            <a:ahLst/>
            <a:rect l="l" t="t" r="r" b="b"/>
            <a:pathLst>
              <a:path w="522" h="943">
                <a:moveTo>
                  <a:pt x="20737" y="3497"/>
                </a:moveTo>
                <a:cubicBezTo>
                  <a:pt x="20707" y="3542"/>
                  <a:pt x="20643" y="3635"/>
                  <a:pt x="20662" y="3696"/>
                </a:cubicBezTo>
                <a:cubicBezTo>
                  <a:pt x="20683" y="3765"/>
                  <a:pt x="20802" y="3702"/>
                  <a:pt x="20836" y="3696"/>
                </a:cubicBezTo>
                <a:cubicBezTo>
                  <a:pt x="20905" y="3684"/>
                  <a:pt x="20993" y="3690"/>
                  <a:pt x="21059" y="3671"/>
                </a:cubicBezTo>
                <a:cubicBezTo>
                  <a:pt x="21104" y="3658"/>
                  <a:pt x="21138" y="3630"/>
                  <a:pt x="21183" y="3621"/>
                </a:cubicBezTo>
              </a:path>
              <a:path w="522" h="943">
                <a:moveTo>
                  <a:pt x="21084" y="3101"/>
                </a:moveTo>
                <a:cubicBezTo>
                  <a:pt x="21084" y="3264"/>
                  <a:pt x="21075" y="3413"/>
                  <a:pt x="21059" y="3572"/>
                </a:cubicBezTo>
                <a:cubicBezTo>
                  <a:pt x="21047" y="3687"/>
                  <a:pt x="21066" y="3789"/>
                  <a:pt x="21084" y="3894"/>
                </a:cubicBezTo>
                <a:cubicBezTo>
                  <a:pt x="21094" y="3952"/>
                  <a:pt x="21059" y="3994"/>
                  <a:pt x="21034" y="40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5" name="Ink 15"/>
          <p:cNvSpPr/>
          <p:nvPr/>
        </p:nvSpPr>
        <p:spPr>
          <a:xfrm>
            <a:off x="1251000" y="1643040"/>
            <a:ext cx="241200" cy="330120"/>
          </a:xfrm>
          <a:custGeom>
            <a:avLst/>
            <a:gdLst/>
            <a:ahLst/>
            <a:rect l="l" t="t" r="r" b="b"/>
            <a:pathLst>
              <a:path w="670" h="919">
                <a:moveTo>
                  <a:pt x="4018" y="4762"/>
                </a:moveTo>
                <a:cubicBezTo>
                  <a:pt x="4010" y="4693"/>
                  <a:pt x="3987" y="4645"/>
                  <a:pt x="3944" y="4589"/>
                </a:cubicBezTo>
                <a:cubicBezTo>
                  <a:pt x="3905" y="4537"/>
                  <a:pt x="3794" y="4556"/>
                  <a:pt x="3746" y="4589"/>
                </a:cubicBezTo>
                <a:cubicBezTo>
                  <a:pt x="3680" y="4634"/>
                  <a:pt x="3574" y="4704"/>
                  <a:pt x="3522" y="4762"/>
                </a:cubicBezTo>
                <a:cubicBezTo>
                  <a:pt x="3461" y="4830"/>
                  <a:pt x="3503" y="4905"/>
                  <a:pt x="3572" y="4936"/>
                </a:cubicBezTo>
                <a:cubicBezTo>
                  <a:pt x="3668" y="4980"/>
                  <a:pt x="3779" y="5030"/>
                  <a:pt x="3870" y="5085"/>
                </a:cubicBezTo>
                <a:cubicBezTo>
                  <a:pt x="3929" y="5121"/>
                  <a:pt x="4110" y="5239"/>
                  <a:pt x="4142" y="5308"/>
                </a:cubicBezTo>
                <a:cubicBezTo>
                  <a:pt x="4167" y="5361"/>
                  <a:pt x="4087" y="5444"/>
                  <a:pt x="4043" y="5457"/>
                </a:cubicBezTo>
                <a:cubicBezTo>
                  <a:pt x="3886" y="5503"/>
                  <a:pt x="3730" y="5469"/>
                  <a:pt x="3572" y="5457"/>
                </a:cubicBezTo>
                <a:cubicBezTo>
                  <a:pt x="3447" y="5448"/>
                  <a:pt x="3467" y="5423"/>
                  <a:pt x="3497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6" name="Ink 16"/>
          <p:cNvSpPr/>
          <p:nvPr/>
        </p:nvSpPr>
        <p:spPr>
          <a:xfrm>
            <a:off x="1616040" y="1741320"/>
            <a:ext cx="46080" cy="258840"/>
          </a:xfrm>
          <a:custGeom>
            <a:avLst/>
            <a:gdLst/>
            <a:ahLst/>
            <a:rect l="l" t="t" r="r" b="b"/>
            <a:pathLst>
              <a:path w="125" h="720">
                <a:moveTo>
                  <a:pt x="4490" y="4837"/>
                </a:moveTo>
                <a:cubicBezTo>
                  <a:pt x="4613" y="5057"/>
                  <a:pt x="4614" y="5073"/>
                  <a:pt x="4614" y="5308"/>
                </a:cubicBezTo>
                <a:cubicBezTo>
                  <a:pt x="4614" y="5328"/>
                  <a:pt x="4614" y="5637"/>
                  <a:pt x="4614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7" name="Ink 17"/>
          <p:cNvSpPr/>
          <p:nvPr/>
        </p:nvSpPr>
        <p:spPr>
          <a:xfrm>
            <a:off x="1633680" y="162576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4539" y="4539"/>
                </a:moveTo>
                <a:cubicBezTo>
                  <a:pt x="4547" y="4531"/>
                  <a:pt x="4556" y="4522"/>
                  <a:pt x="4564" y="45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8" name="Ink 18"/>
          <p:cNvSpPr/>
          <p:nvPr/>
        </p:nvSpPr>
        <p:spPr>
          <a:xfrm>
            <a:off x="1768320" y="1714680"/>
            <a:ext cx="276480" cy="277560"/>
          </a:xfrm>
          <a:custGeom>
            <a:avLst/>
            <a:gdLst/>
            <a:ahLst/>
            <a:rect l="l" t="t" r="r" b="b"/>
            <a:pathLst>
              <a:path w="770" h="770">
                <a:moveTo>
                  <a:pt x="4911" y="5259"/>
                </a:moveTo>
                <a:cubicBezTo>
                  <a:pt x="4933" y="5363"/>
                  <a:pt x="4949" y="5399"/>
                  <a:pt x="4961" y="5482"/>
                </a:cubicBezTo>
                <a:cubicBezTo>
                  <a:pt x="4961" y="5396"/>
                  <a:pt x="4978" y="5312"/>
                  <a:pt x="4986" y="5234"/>
                </a:cubicBezTo>
                <a:cubicBezTo>
                  <a:pt x="4997" y="5125"/>
                  <a:pt x="4993" y="5028"/>
                  <a:pt x="5060" y="4936"/>
                </a:cubicBezTo>
                <a:cubicBezTo>
                  <a:pt x="5099" y="4883"/>
                  <a:pt x="5192" y="4777"/>
                  <a:pt x="5259" y="4762"/>
                </a:cubicBezTo>
                <a:cubicBezTo>
                  <a:pt x="5361" y="4740"/>
                  <a:pt x="5482" y="4921"/>
                  <a:pt x="5507" y="5011"/>
                </a:cubicBezTo>
                <a:cubicBezTo>
                  <a:pt x="5531" y="5096"/>
                  <a:pt x="5509" y="5199"/>
                  <a:pt x="5531" y="5283"/>
                </a:cubicBezTo>
                <a:cubicBezTo>
                  <a:pt x="5550" y="5356"/>
                  <a:pt x="5553" y="5423"/>
                  <a:pt x="5606" y="5482"/>
                </a:cubicBezTo>
                <a:cubicBezTo>
                  <a:pt x="5633" y="5512"/>
                  <a:pt x="5644" y="5522"/>
                  <a:pt x="5680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9" name="Ink 19"/>
          <p:cNvSpPr/>
          <p:nvPr/>
        </p:nvSpPr>
        <p:spPr>
          <a:xfrm>
            <a:off x="1295280" y="2867040"/>
            <a:ext cx="160560" cy="258840"/>
          </a:xfrm>
          <a:custGeom>
            <a:avLst/>
            <a:gdLst/>
            <a:ahLst/>
            <a:rect l="l" t="t" r="r" b="b"/>
            <a:pathLst>
              <a:path w="447" h="721">
                <a:moveTo>
                  <a:pt x="3994" y="8186"/>
                </a:moveTo>
                <a:cubicBezTo>
                  <a:pt x="3969" y="8210"/>
                  <a:pt x="3961" y="8218"/>
                  <a:pt x="3994" y="8235"/>
                </a:cubicBezTo>
                <a:cubicBezTo>
                  <a:pt x="3994" y="8166"/>
                  <a:pt x="3999" y="8118"/>
                  <a:pt x="3969" y="8062"/>
                </a:cubicBezTo>
                <a:cubicBezTo>
                  <a:pt x="3933" y="7995"/>
                  <a:pt x="3883" y="7957"/>
                  <a:pt x="3820" y="7987"/>
                </a:cubicBezTo>
                <a:cubicBezTo>
                  <a:pt x="3750" y="8020"/>
                  <a:pt x="3707" y="8069"/>
                  <a:pt x="3671" y="8136"/>
                </a:cubicBezTo>
                <a:cubicBezTo>
                  <a:pt x="3614" y="8242"/>
                  <a:pt x="3597" y="8292"/>
                  <a:pt x="3597" y="8409"/>
                </a:cubicBezTo>
                <a:cubicBezTo>
                  <a:pt x="3597" y="8492"/>
                  <a:pt x="3592" y="8581"/>
                  <a:pt x="3671" y="8632"/>
                </a:cubicBezTo>
                <a:cubicBezTo>
                  <a:pt x="3730" y="8670"/>
                  <a:pt x="3799" y="8698"/>
                  <a:pt x="3870" y="8682"/>
                </a:cubicBezTo>
                <a:cubicBezTo>
                  <a:pt x="3951" y="8664"/>
                  <a:pt x="3984" y="8634"/>
                  <a:pt x="4043" y="85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0" name="Ink 20"/>
          <p:cNvSpPr/>
          <p:nvPr/>
        </p:nvSpPr>
        <p:spPr>
          <a:xfrm>
            <a:off x="1509840" y="2938320"/>
            <a:ext cx="152280" cy="18756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4266" y="8186"/>
                </a:moveTo>
                <a:cubicBezTo>
                  <a:pt x="4176" y="8276"/>
                  <a:pt x="4192" y="8325"/>
                  <a:pt x="4192" y="8458"/>
                </a:cubicBezTo>
                <a:cubicBezTo>
                  <a:pt x="4192" y="8529"/>
                  <a:pt x="4202" y="8590"/>
                  <a:pt x="4266" y="8632"/>
                </a:cubicBezTo>
                <a:cubicBezTo>
                  <a:pt x="4353" y="8689"/>
                  <a:pt x="4421" y="8682"/>
                  <a:pt x="4514" y="8632"/>
                </a:cubicBezTo>
                <a:cubicBezTo>
                  <a:pt x="4563" y="8606"/>
                  <a:pt x="4605" y="8482"/>
                  <a:pt x="4614" y="8434"/>
                </a:cubicBezTo>
                <a:cubicBezTo>
                  <a:pt x="4623" y="8388"/>
                  <a:pt x="4618" y="8244"/>
                  <a:pt x="4589" y="8210"/>
                </a:cubicBezTo>
                <a:cubicBezTo>
                  <a:pt x="4539" y="8152"/>
                  <a:pt x="4406" y="8145"/>
                  <a:pt x="4341" y="8161"/>
                </a:cubicBezTo>
                <a:cubicBezTo>
                  <a:pt x="4291" y="8186"/>
                  <a:pt x="4275" y="8194"/>
                  <a:pt x="4242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1" name="Ink 21"/>
          <p:cNvSpPr/>
          <p:nvPr/>
        </p:nvSpPr>
        <p:spPr>
          <a:xfrm>
            <a:off x="1697040" y="2894040"/>
            <a:ext cx="223920" cy="249120"/>
          </a:xfrm>
          <a:custGeom>
            <a:avLst/>
            <a:gdLst/>
            <a:ahLst/>
            <a:rect l="l" t="t" r="r" b="b"/>
            <a:pathLst>
              <a:path w="621" h="695">
                <a:moveTo>
                  <a:pt x="5234" y="8037"/>
                </a:moveTo>
                <a:cubicBezTo>
                  <a:pt x="5167" y="8130"/>
                  <a:pt x="5070" y="8140"/>
                  <a:pt x="4961" y="8186"/>
                </a:cubicBezTo>
                <a:cubicBezTo>
                  <a:pt x="4911" y="8210"/>
                  <a:pt x="4895" y="8218"/>
                  <a:pt x="4862" y="8235"/>
                </a:cubicBezTo>
                <a:cubicBezTo>
                  <a:pt x="4939" y="8303"/>
                  <a:pt x="5014" y="8366"/>
                  <a:pt x="5110" y="8409"/>
                </a:cubicBezTo>
                <a:cubicBezTo>
                  <a:pt x="5166" y="8434"/>
                  <a:pt x="5308" y="8519"/>
                  <a:pt x="5333" y="8582"/>
                </a:cubicBezTo>
                <a:cubicBezTo>
                  <a:pt x="5333" y="8599"/>
                  <a:pt x="5333" y="8615"/>
                  <a:pt x="5333" y="8632"/>
                </a:cubicBezTo>
                <a:cubicBezTo>
                  <a:pt x="5261" y="8677"/>
                  <a:pt x="5129" y="8738"/>
                  <a:pt x="5035" y="8731"/>
                </a:cubicBezTo>
                <a:cubicBezTo>
                  <a:pt x="4941" y="8724"/>
                  <a:pt x="4852" y="8676"/>
                  <a:pt x="4762" y="8657"/>
                </a:cubicBezTo>
                <a:cubicBezTo>
                  <a:pt x="4746" y="8657"/>
                  <a:pt x="4729" y="8657"/>
                  <a:pt x="4713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2" name="Ink 22"/>
          <p:cNvSpPr/>
          <p:nvPr/>
        </p:nvSpPr>
        <p:spPr>
          <a:xfrm>
            <a:off x="2276640" y="2776680"/>
            <a:ext cx="287280" cy="36360"/>
          </a:xfrm>
          <a:custGeom>
            <a:avLst/>
            <a:gdLst/>
            <a:ahLst/>
            <a:rect l="l" t="t" r="r" b="b"/>
            <a:pathLst>
              <a:path w="795" h="100">
                <a:moveTo>
                  <a:pt x="6325" y="7813"/>
                </a:moveTo>
                <a:cubicBezTo>
                  <a:pt x="6428" y="7813"/>
                  <a:pt x="6527" y="7798"/>
                  <a:pt x="6623" y="7789"/>
                </a:cubicBezTo>
                <a:cubicBezTo>
                  <a:pt x="6716" y="7780"/>
                  <a:pt x="6829" y="7785"/>
                  <a:pt x="6921" y="7764"/>
                </a:cubicBezTo>
                <a:cubicBezTo>
                  <a:pt x="6987" y="7749"/>
                  <a:pt x="7084" y="7798"/>
                  <a:pt x="7119" y="7739"/>
                </a:cubicBezTo>
                <a:cubicBezTo>
                  <a:pt x="7111" y="7731"/>
                  <a:pt x="7102" y="7722"/>
                  <a:pt x="7094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3" name="Ink 23"/>
          <p:cNvSpPr/>
          <p:nvPr/>
        </p:nvSpPr>
        <p:spPr>
          <a:xfrm>
            <a:off x="2143080" y="1758960"/>
            <a:ext cx="135000" cy="19080"/>
          </a:xfrm>
          <a:custGeom>
            <a:avLst/>
            <a:gdLst/>
            <a:ahLst/>
            <a:rect l="l" t="t" r="r" b="b"/>
            <a:pathLst>
              <a:path w="373" h="50">
                <a:moveTo>
                  <a:pt x="5953" y="4936"/>
                </a:moveTo>
                <a:cubicBezTo>
                  <a:pt x="6055" y="4902"/>
                  <a:pt x="6140" y="4891"/>
                  <a:pt x="6251" y="4887"/>
                </a:cubicBezTo>
                <a:cubicBezTo>
                  <a:pt x="6295" y="4887"/>
                  <a:pt x="6308" y="4884"/>
                  <a:pt x="6325" y="49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4" name="Ink 24"/>
          <p:cNvSpPr/>
          <p:nvPr/>
        </p:nvSpPr>
        <p:spPr>
          <a:xfrm>
            <a:off x="2125800" y="1830240"/>
            <a:ext cx="152280" cy="27000"/>
          </a:xfrm>
          <a:custGeom>
            <a:avLst/>
            <a:gdLst/>
            <a:ahLst/>
            <a:rect l="l" t="t" r="r" b="b"/>
            <a:pathLst>
              <a:path w="422" h="75">
                <a:moveTo>
                  <a:pt x="5904" y="5135"/>
                </a:moveTo>
                <a:cubicBezTo>
                  <a:pt x="5986" y="5165"/>
                  <a:pt x="6065" y="5154"/>
                  <a:pt x="6152" y="5135"/>
                </a:cubicBezTo>
                <a:cubicBezTo>
                  <a:pt x="6234" y="5107"/>
                  <a:pt x="6266" y="5097"/>
                  <a:pt x="6325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5" name="Ink 25"/>
          <p:cNvSpPr/>
          <p:nvPr/>
        </p:nvSpPr>
        <p:spPr>
          <a:xfrm>
            <a:off x="2581200" y="1366920"/>
            <a:ext cx="17640" cy="330120"/>
          </a:xfrm>
          <a:custGeom>
            <a:avLst/>
            <a:gdLst/>
            <a:ahLst/>
            <a:rect l="l" t="t" r="r" b="b"/>
            <a:pathLst>
              <a:path w="50" h="919">
                <a:moveTo>
                  <a:pt x="7193" y="3870"/>
                </a:moveTo>
                <a:cubicBezTo>
                  <a:pt x="7193" y="3845"/>
                  <a:pt x="7193" y="3820"/>
                  <a:pt x="7193" y="3795"/>
                </a:cubicBezTo>
                <a:cubicBezTo>
                  <a:pt x="7222" y="3863"/>
                  <a:pt x="7218" y="3937"/>
                  <a:pt x="7218" y="4018"/>
                </a:cubicBezTo>
                <a:cubicBezTo>
                  <a:pt x="7218" y="4214"/>
                  <a:pt x="7214" y="4399"/>
                  <a:pt x="7193" y="4589"/>
                </a:cubicBezTo>
                <a:cubicBezTo>
                  <a:pt x="7193" y="4657"/>
                  <a:pt x="7196" y="4676"/>
                  <a:pt x="7169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6" name="Ink 26"/>
          <p:cNvSpPr/>
          <p:nvPr/>
        </p:nvSpPr>
        <p:spPr>
          <a:xfrm>
            <a:off x="2446200" y="1751040"/>
            <a:ext cx="260640" cy="7920"/>
          </a:xfrm>
          <a:custGeom>
            <a:avLst/>
            <a:gdLst/>
            <a:ahLst/>
            <a:rect l="l" t="t" r="r" b="b"/>
            <a:pathLst>
              <a:path w="721" h="26">
                <a:moveTo>
                  <a:pt x="6796" y="4887"/>
                </a:moveTo>
                <a:cubicBezTo>
                  <a:pt x="6941" y="4887"/>
                  <a:pt x="7077" y="4881"/>
                  <a:pt x="7218" y="4862"/>
                </a:cubicBezTo>
                <a:cubicBezTo>
                  <a:pt x="7313" y="4849"/>
                  <a:pt x="7420" y="4862"/>
                  <a:pt x="7516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7" name="Ink 27"/>
          <p:cNvSpPr/>
          <p:nvPr/>
        </p:nvSpPr>
        <p:spPr>
          <a:xfrm>
            <a:off x="2509920" y="1839960"/>
            <a:ext cx="160200" cy="9828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7020" y="5110"/>
                </a:moveTo>
                <a:cubicBezTo>
                  <a:pt x="6977" y="5230"/>
                  <a:pt x="6937" y="5250"/>
                  <a:pt x="7020" y="5333"/>
                </a:cubicBezTo>
                <a:cubicBezTo>
                  <a:pt x="7077" y="5390"/>
                  <a:pt x="7134" y="5400"/>
                  <a:pt x="7218" y="5383"/>
                </a:cubicBezTo>
                <a:cubicBezTo>
                  <a:pt x="7291" y="5368"/>
                  <a:pt x="7360" y="5328"/>
                  <a:pt x="7417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8" name="Ink 28"/>
          <p:cNvSpPr/>
          <p:nvPr/>
        </p:nvSpPr>
        <p:spPr>
          <a:xfrm>
            <a:off x="2633760" y="1785960"/>
            <a:ext cx="36360" cy="366840"/>
          </a:xfrm>
          <a:custGeom>
            <a:avLst/>
            <a:gdLst/>
            <a:ahLst/>
            <a:rect l="l" t="t" r="r" b="b"/>
            <a:pathLst>
              <a:path w="101" h="1018">
                <a:moveTo>
                  <a:pt x="7417" y="4961"/>
                </a:moveTo>
                <a:cubicBezTo>
                  <a:pt x="7385" y="5072"/>
                  <a:pt x="7372" y="5172"/>
                  <a:pt x="7342" y="5283"/>
                </a:cubicBezTo>
                <a:cubicBezTo>
                  <a:pt x="7316" y="5379"/>
                  <a:pt x="7297" y="5505"/>
                  <a:pt x="7317" y="5606"/>
                </a:cubicBezTo>
                <a:cubicBezTo>
                  <a:pt x="7338" y="5710"/>
                  <a:pt x="7362" y="5820"/>
                  <a:pt x="7367" y="5928"/>
                </a:cubicBezTo>
                <a:cubicBezTo>
                  <a:pt x="7367" y="5945"/>
                  <a:pt x="7367" y="5961"/>
                  <a:pt x="7367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9" name="Ink 29"/>
          <p:cNvSpPr/>
          <p:nvPr/>
        </p:nvSpPr>
        <p:spPr>
          <a:xfrm>
            <a:off x="7920000" y="3562200"/>
            <a:ext cx="144360" cy="17964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22002" y="9897"/>
                </a:moveTo>
                <a:cubicBezTo>
                  <a:pt x="22076" y="9998"/>
                  <a:pt x="22154" y="10095"/>
                  <a:pt x="22225" y="10195"/>
                </a:cubicBezTo>
                <a:cubicBezTo>
                  <a:pt x="22264" y="10249"/>
                  <a:pt x="22300" y="10297"/>
                  <a:pt x="22349" y="10344"/>
                </a:cubicBezTo>
                <a:cubicBezTo>
                  <a:pt x="22374" y="10368"/>
                  <a:pt x="22383" y="10376"/>
                  <a:pt x="22399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0" name="Ink 30"/>
          <p:cNvSpPr/>
          <p:nvPr/>
        </p:nvSpPr>
        <p:spPr>
          <a:xfrm>
            <a:off x="7947000" y="3517920"/>
            <a:ext cx="117360" cy="268200"/>
          </a:xfrm>
          <a:custGeom>
            <a:avLst/>
            <a:gdLst/>
            <a:ahLst/>
            <a:rect l="l" t="t" r="r" b="b"/>
            <a:pathLst>
              <a:path w="324" h="745">
                <a:moveTo>
                  <a:pt x="22399" y="9773"/>
                </a:moveTo>
                <a:cubicBezTo>
                  <a:pt x="22352" y="9894"/>
                  <a:pt x="22311" y="10031"/>
                  <a:pt x="22250" y="10145"/>
                </a:cubicBezTo>
                <a:cubicBezTo>
                  <a:pt x="22195" y="10248"/>
                  <a:pt x="22190" y="10370"/>
                  <a:pt x="22126" y="10468"/>
                </a:cubicBezTo>
                <a:cubicBezTo>
                  <a:pt x="22101" y="10492"/>
                  <a:pt x="22092" y="10500"/>
                  <a:pt x="22076" y="105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1" name="Ink 31"/>
          <p:cNvSpPr/>
          <p:nvPr/>
        </p:nvSpPr>
        <p:spPr>
          <a:xfrm>
            <a:off x="8089920" y="3438360"/>
            <a:ext cx="179280" cy="106560"/>
          </a:xfrm>
          <a:custGeom>
            <a:avLst/>
            <a:gdLst/>
            <a:ahLst/>
            <a:rect l="l" t="t" r="r" b="b"/>
            <a:pathLst>
              <a:path w="497" h="298">
                <a:moveTo>
                  <a:pt x="22473" y="9575"/>
                </a:moveTo>
                <a:cubicBezTo>
                  <a:pt x="22549" y="9549"/>
                  <a:pt x="22621" y="9530"/>
                  <a:pt x="22696" y="9575"/>
                </a:cubicBezTo>
                <a:cubicBezTo>
                  <a:pt x="22744" y="9604"/>
                  <a:pt x="22766" y="9721"/>
                  <a:pt x="22746" y="9773"/>
                </a:cubicBezTo>
                <a:cubicBezTo>
                  <a:pt x="22710" y="9867"/>
                  <a:pt x="22785" y="9847"/>
                  <a:pt x="22870" y="9847"/>
                </a:cubicBezTo>
                <a:cubicBezTo>
                  <a:pt x="22922" y="9847"/>
                  <a:pt x="22926" y="9833"/>
                  <a:pt x="22969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2" name="Ink 32"/>
          <p:cNvSpPr/>
          <p:nvPr/>
        </p:nvSpPr>
        <p:spPr>
          <a:xfrm>
            <a:off x="8269200" y="3616200"/>
            <a:ext cx="71640" cy="97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22969" y="10046"/>
                </a:moveTo>
                <a:cubicBezTo>
                  <a:pt x="23046" y="10061"/>
                  <a:pt x="23092" y="10071"/>
                  <a:pt x="23168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3" name="Ink 33"/>
          <p:cNvSpPr/>
          <p:nvPr/>
        </p:nvSpPr>
        <p:spPr>
          <a:xfrm>
            <a:off x="8331120" y="3660840"/>
            <a:ext cx="63720" cy="36360"/>
          </a:xfrm>
          <a:custGeom>
            <a:avLst/>
            <a:gdLst/>
            <a:ahLst/>
            <a:rect l="l" t="t" r="r" b="b"/>
            <a:pathLst>
              <a:path w="174" h="100">
                <a:moveTo>
                  <a:pt x="23143" y="10244"/>
                </a:moveTo>
                <a:cubicBezTo>
                  <a:pt x="23151" y="10252"/>
                  <a:pt x="23160" y="10261"/>
                  <a:pt x="23168" y="10269"/>
                </a:cubicBezTo>
                <a:cubicBezTo>
                  <a:pt x="23223" y="10235"/>
                  <a:pt x="23263" y="10224"/>
                  <a:pt x="23316" y="101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4" name="Ink 34"/>
          <p:cNvSpPr/>
          <p:nvPr/>
        </p:nvSpPr>
        <p:spPr>
          <a:xfrm>
            <a:off x="8518680" y="3510000"/>
            <a:ext cx="18720" cy="295200"/>
          </a:xfrm>
          <a:custGeom>
            <a:avLst/>
            <a:gdLst/>
            <a:ahLst/>
            <a:rect l="l" t="t" r="r" b="b"/>
            <a:pathLst>
              <a:path w="50" h="820">
                <a:moveTo>
                  <a:pt x="23664" y="9748"/>
                </a:moveTo>
                <a:cubicBezTo>
                  <a:pt x="23682" y="9925"/>
                  <a:pt x="23669" y="10050"/>
                  <a:pt x="23664" y="10220"/>
                </a:cubicBezTo>
                <a:cubicBezTo>
                  <a:pt x="23661" y="10316"/>
                  <a:pt x="23655" y="10454"/>
                  <a:pt x="23688" y="10542"/>
                </a:cubicBezTo>
                <a:cubicBezTo>
                  <a:pt x="23696" y="10550"/>
                  <a:pt x="23705" y="10559"/>
                  <a:pt x="23713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5" name="Ink 35"/>
          <p:cNvSpPr/>
          <p:nvPr/>
        </p:nvSpPr>
        <p:spPr>
          <a:xfrm>
            <a:off x="8626320" y="3456000"/>
            <a:ext cx="142920" cy="4428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23961" y="9723"/>
                </a:moveTo>
                <a:cubicBezTo>
                  <a:pt x="24073" y="9704"/>
                  <a:pt x="24169" y="9697"/>
                  <a:pt x="24259" y="9649"/>
                </a:cubicBezTo>
                <a:cubicBezTo>
                  <a:pt x="24309" y="9624"/>
                  <a:pt x="24325" y="9616"/>
                  <a:pt x="24358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6" name="Ink 36"/>
          <p:cNvSpPr/>
          <p:nvPr/>
        </p:nvSpPr>
        <p:spPr>
          <a:xfrm>
            <a:off x="8616960" y="3527280"/>
            <a:ext cx="135000" cy="258840"/>
          </a:xfrm>
          <a:custGeom>
            <a:avLst/>
            <a:gdLst/>
            <a:ahLst/>
            <a:rect l="l" t="t" r="r" b="b"/>
            <a:pathLst>
              <a:path w="373" h="720">
                <a:moveTo>
                  <a:pt x="23937" y="9798"/>
                </a:moveTo>
                <a:cubicBezTo>
                  <a:pt x="23937" y="9899"/>
                  <a:pt x="23927" y="9919"/>
                  <a:pt x="23961" y="9971"/>
                </a:cubicBezTo>
                <a:cubicBezTo>
                  <a:pt x="24022" y="9963"/>
                  <a:pt x="24070" y="9911"/>
                  <a:pt x="24135" y="9922"/>
                </a:cubicBezTo>
                <a:cubicBezTo>
                  <a:pt x="24251" y="9942"/>
                  <a:pt x="24259" y="9976"/>
                  <a:pt x="24284" y="10071"/>
                </a:cubicBezTo>
                <a:cubicBezTo>
                  <a:pt x="24322" y="10215"/>
                  <a:pt x="24310" y="10257"/>
                  <a:pt x="24209" y="10368"/>
                </a:cubicBezTo>
                <a:cubicBezTo>
                  <a:pt x="24146" y="10438"/>
                  <a:pt x="24069" y="10479"/>
                  <a:pt x="23986" y="105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7" name="Ink 37"/>
          <p:cNvSpPr/>
          <p:nvPr/>
        </p:nvSpPr>
        <p:spPr>
          <a:xfrm>
            <a:off x="8161200" y="3956040"/>
            <a:ext cx="125640" cy="196920"/>
          </a:xfrm>
          <a:custGeom>
            <a:avLst/>
            <a:gdLst/>
            <a:ahLst/>
            <a:rect l="l" t="t" r="r" b="b"/>
            <a:pathLst>
              <a:path w="349" h="547">
                <a:moveTo>
                  <a:pt x="22671" y="10988"/>
                </a:moveTo>
                <a:cubicBezTo>
                  <a:pt x="22724" y="11094"/>
                  <a:pt x="22777" y="11191"/>
                  <a:pt x="22845" y="11286"/>
                </a:cubicBezTo>
                <a:cubicBezTo>
                  <a:pt x="22894" y="11354"/>
                  <a:pt x="22933" y="11480"/>
                  <a:pt x="22994" y="11534"/>
                </a:cubicBezTo>
                <a:cubicBezTo>
                  <a:pt x="23002" y="11534"/>
                  <a:pt x="23011" y="11534"/>
                  <a:pt x="23019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8" name="Ink 38"/>
          <p:cNvSpPr/>
          <p:nvPr/>
        </p:nvSpPr>
        <p:spPr>
          <a:xfrm>
            <a:off x="8170920" y="3990960"/>
            <a:ext cx="71280" cy="196920"/>
          </a:xfrm>
          <a:custGeom>
            <a:avLst/>
            <a:gdLst/>
            <a:ahLst/>
            <a:rect l="l" t="t" r="r" b="b"/>
            <a:pathLst>
              <a:path w="200" h="546">
                <a:moveTo>
                  <a:pt x="22895" y="11088"/>
                </a:moveTo>
                <a:cubicBezTo>
                  <a:pt x="22836" y="11234"/>
                  <a:pt x="22807" y="11391"/>
                  <a:pt x="22746" y="11534"/>
                </a:cubicBezTo>
                <a:cubicBezTo>
                  <a:pt x="22729" y="11567"/>
                  <a:pt x="22713" y="11600"/>
                  <a:pt x="22696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9" name="Ink 39"/>
          <p:cNvSpPr/>
          <p:nvPr/>
        </p:nvSpPr>
        <p:spPr>
          <a:xfrm>
            <a:off x="8331120" y="4000680"/>
            <a:ext cx="81000" cy="26640"/>
          </a:xfrm>
          <a:custGeom>
            <a:avLst/>
            <a:gdLst/>
            <a:ahLst/>
            <a:rect l="l" t="t" r="r" b="b"/>
            <a:pathLst>
              <a:path w="224" h="76">
                <a:moveTo>
                  <a:pt x="23143" y="11187"/>
                </a:moveTo>
                <a:cubicBezTo>
                  <a:pt x="23217" y="11165"/>
                  <a:pt x="23305" y="11149"/>
                  <a:pt x="23366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0" name="Ink 40"/>
          <p:cNvSpPr/>
          <p:nvPr/>
        </p:nvSpPr>
        <p:spPr>
          <a:xfrm>
            <a:off x="8358120" y="4081320"/>
            <a:ext cx="367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23217" y="11361"/>
                </a:moveTo>
                <a:cubicBezTo>
                  <a:pt x="23279" y="11361"/>
                  <a:pt x="23294" y="11371"/>
                  <a:pt x="23316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1" name="Ink 41"/>
          <p:cNvSpPr/>
          <p:nvPr/>
        </p:nvSpPr>
        <p:spPr>
          <a:xfrm>
            <a:off x="8501040" y="3894120"/>
            <a:ext cx="268200" cy="357120"/>
          </a:xfrm>
          <a:custGeom>
            <a:avLst/>
            <a:gdLst/>
            <a:ahLst/>
            <a:rect l="l" t="t" r="r" b="b"/>
            <a:pathLst>
              <a:path w="745" h="993">
                <a:moveTo>
                  <a:pt x="23639" y="11336"/>
                </a:moveTo>
                <a:cubicBezTo>
                  <a:pt x="23662" y="11481"/>
                  <a:pt x="23688" y="11612"/>
                  <a:pt x="23688" y="11757"/>
                </a:cubicBezTo>
                <a:cubicBezTo>
                  <a:pt x="23688" y="11774"/>
                  <a:pt x="23688" y="11790"/>
                  <a:pt x="23688" y="11807"/>
                </a:cubicBezTo>
                <a:cubicBezTo>
                  <a:pt x="23663" y="11714"/>
                  <a:pt x="23662" y="11624"/>
                  <a:pt x="23639" y="11534"/>
                </a:cubicBezTo>
                <a:cubicBezTo>
                  <a:pt x="23614" y="11435"/>
                  <a:pt x="23623" y="11383"/>
                  <a:pt x="23639" y="11286"/>
                </a:cubicBezTo>
                <a:cubicBezTo>
                  <a:pt x="23651" y="11209"/>
                  <a:pt x="23659" y="11148"/>
                  <a:pt x="23713" y="11088"/>
                </a:cubicBezTo>
                <a:cubicBezTo>
                  <a:pt x="23771" y="11024"/>
                  <a:pt x="23880" y="10968"/>
                  <a:pt x="23961" y="10939"/>
                </a:cubicBezTo>
                <a:cubicBezTo>
                  <a:pt x="24054" y="10906"/>
                  <a:pt x="24172" y="10898"/>
                  <a:pt x="24259" y="10864"/>
                </a:cubicBezTo>
                <a:cubicBezTo>
                  <a:pt x="24289" y="10852"/>
                  <a:pt x="24327" y="10827"/>
                  <a:pt x="24358" y="108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2" name="Ink 42"/>
          <p:cNvSpPr/>
          <p:nvPr/>
        </p:nvSpPr>
        <p:spPr>
          <a:xfrm>
            <a:off x="8589960" y="4071960"/>
            <a:ext cx="19080" cy="1872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23862" y="11311"/>
                </a:moveTo>
                <a:cubicBezTo>
                  <a:pt x="23892" y="11500"/>
                  <a:pt x="23912" y="11609"/>
                  <a:pt x="23912" y="11782"/>
                </a:cubicBezTo>
                <a:cubicBezTo>
                  <a:pt x="23912" y="11832"/>
                  <a:pt x="23912" y="11849"/>
                  <a:pt x="23912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3" name="Ink 43"/>
          <p:cNvSpPr/>
          <p:nvPr/>
        </p:nvSpPr>
        <p:spPr>
          <a:xfrm>
            <a:off x="8678880" y="4027320"/>
            <a:ext cx="54000" cy="3672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24110" y="11286"/>
                </a:moveTo>
                <a:cubicBezTo>
                  <a:pt x="24165" y="11250"/>
                  <a:pt x="24232" y="11240"/>
                  <a:pt x="24259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4" name="Ink 44"/>
          <p:cNvSpPr/>
          <p:nvPr/>
        </p:nvSpPr>
        <p:spPr>
          <a:xfrm>
            <a:off x="8661240" y="4081320"/>
            <a:ext cx="81000" cy="106560"/>
          </a:xfrm>
          <a:custGeom>
            <a:avLst/>
            <a:gdLst/>
            <a:ahLst/>
            <a:rect l="l" t="t" r="r" b="b"/>
            <a:pathLst>
              <a:path w="224" h="298">
                <a:moveTo>
                  <a:pt x="24085" y="11336"/>
                </a:moveTo>
                <a:cubicBezTo>
                  <a:pt x="24065" y="11396"/>
                  <a:pt x="24047" y="11411"/>
                  <a:pt x="24085" y="11435"/>
                </a:cubicBezTo>
                <a:cubicBezTo>
                  <a:pt x="24142" y="11443"/>
                  <a:pt x="24205" y="11453"/>
                  <a:pt x="24259" y="11485"/>
                </a:cubicBezTo>
                <a:cubicBezTo>
                  <a:pt x="24341" y="11535"/>
                  <a:pt x="24240" y="11618"/>
                  <a:pt x="24185" y="11633"/>
                </a:cubicBezTo>
                <a:cubicBezTo>
                  <a:pt x="24135" y="11633"/>
                  <a:pt x="24118" y="11633"/>
                  <a:pt x="24085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40384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Cot </a:t>
            </a:r>
            <a:r>
              <a:rPr b="0" lang="el-GR" sz="2800" spc="-1" strike="noStrike">
                <a:solidFill>
                  <a:srgbClr val="e6e6da"/>
                </a:solidFill>
                <a:latin typeface="Verdana"/>
              </a:rPr>
              <a:t>θ</a:t>
            </a: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 is undefined;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4114800" y="228600"/>
          <a:ext cx="19810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28600"/>
                    <a:ext cx="1981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Ink 4"/>
          <p:cNvSpPr/>
          <p:nvPr/>
        </p:nvSpPr>
        <p:spPr>
          <a:xfrm>
            <a:off x="1320840" y="1751040"/>
            <a:ext cx="698400" cy="411120"/>
          </a:xfrm>
          <a:custGeom>
            <a:avLst/>
            <a:gdLst/>
            <a:ahLst/>
            <a:rect l="l" t="t" r="r" b="b"/>
            <a:pathLst>
              <a:path w="1936" h="1142">
                <a:moveTo>
                  <a:pt x="4266" y="5234"/>
                </a:moveTo>
                <a:cubicBezTo>
                  <a:pt x="4247" y="5201"/>
                  <a:pt x="4242" y="5124"/>
                  <a:pt x="4192" y="5110"/>
                </a:cubicBezTo>
                <a:cubicBezTo>
                  <a:pt x="4110" y="5087"/>
                  <a:pt x="4072" y="5100"/>
                  <a:pt x="3994" y="5110"/>
                </a:cubicBezTo>
                <a:cubicBezTo>
                  <a:pt x="3892" y="5123"/>
                  <a:pt x="3868" y="5168"/>
                  <a:pt x="3795" y="5234"/>
                </a:cubicBezTo>
                <a:cubicBezTo>
                  <a:pt x="3751" y="5274"/>
                  <a:pt x="3640" y="5369"/>
                  <a:pt x="3721" y="5432"/>
                </a:cubicBezTo>
                <a:cubicBezTo>
                  <a:pt x="3795" y="5490"/>
                  <a:pt x="3890" y="5531"/>
                  <a:pt x="3969" y="5581"/>
                </a:cubicBezTo>
                <a:cubicBezTo>
                  <a:pt x="4072" y="5646"/>
                  <a:pt x="4189" y="5686"/>
                  <a:pt x="4242" y="5804"/>
                </a:cubicBezTo>
                <a:cubicBezTo>
                  <a:pt x="4273" y="5872"/>
                  <a:pt x="4285" y="5934"/>
                  <a:pt x="4217" y="5978"/>
                </a:cubicBezTo>
                <a:cubicBezTo>
                  <a:pt x="4140" y="6028"/>
                  <a:pt x="4008" y="6003"/>
                  <a:pt x="3919" y="6003"/>
                </a:cubicBezTo>
                <a:cubicBezTo>
                  <a:pt x="3864" y="6003"/>
                  <a:pt x="3691" y="6004"/>
                  <a:pt x="3671" y="5928"/>
                </a:cubicBezTo>
                <a:cubicBezTo>
                  <a:pt x="3671" y="5903"/>
                  <a:pt x="3671" y="5879"/>
                  <a:pt x="3671" y="5854"/>
                </a:cubicBezTo>
              </a:path>
              <a:path w="1936" h="1142">
                <a:moveTo>
                  <a:pt x="4564" y="5358"/>
                </a:moveTo>
                <a:cubicBezTo>
                  <a:pt x="4605" y="5498"/>
                  <a:pt x="4648" y="5637"/>
                  <a:pt x="4663" y="5779"/>
                </a:cubicBezTo>
                <a:cubicBezTo>
                  <a:pt x="4666" y="5804"/>
                  <a:pt x="4717" y="6003"/>
                  <a:pt x="4663" y="6003"/>
                </a:cubicBezTo>
                <a:cubicBezTo>
                  <a:pt x="4663" y="5995"/>
                  <a:pt x="4663" y="5986"/>
                  <a:pt x="4663" y="5978"/>
                </a:cubicBezTo>
              </a:path>
              <a:path w="1936" h="1142">
                <a:moveTo>
                  <a:pt x="4738" y="4862"/>
                </a:moveTo>
                <a:cubicBezTo>
                  <a:pt x="4746" y="4862"/>
                  <a:pt x="4754" y="4862"/>
                  <a:pt x="4762" y="4862"/>
                </a:cubicBezTo>
              </a:path>
              <a:path w="1936" h="1142">
                <a:moveTo>
                  <a:pt x="4961" y="5730"/>
                </a:moveTo>
                <a:cubicBezTo>
                  <a:pt x="4961" y="5841"/>
                  <a:pt x="4934" y="5864"/>
                  <a:pt x="4986" y="5904"/>
                </a:cubicBezTo>
                <a:cubicBezTo>
                  <a:pt x="4986" y="5759"/>
                  <a:pt x="4995" y="5622"/>
                  <a:pt x="5011" y="5482"/>
                </a:cubicBezTo>
                <a:cubicBezTo>
                  <a:pt x="5023" y="5375"/>
                  <a:pt x="5036" y="5319"/>
                  <a:pt x="5135" y="5259"/>
                </a:cubicBezTo>
                <a:cubicBezTo>
                  <a:pt x="5199" y="5220"/>
                  <a:pt x="5283" y="5276"/>
                  <a:pt x="5333" y="5333"/>
                </a:cubicBezTo>
                <a:cubicBezTo>
                  <a:pt x="5413" y="5425"/>
                  <a:pt x="5444" y="5533"/>
                  <a:pt x="5507" y="5631"/>
                </a:cubicBezTo>
                <a:cubicBezTo>
                  <a:pt x="5539" y="5681"/>
                  <a:pt x="5592" y="5714"/>
                  <a:pt x="5606" y="5779"/>
                </a:cubicBezTo>
                <a:cubicBezTo>
                  <a:pt x="5606" y="5796"/>
                  <a:pt x="5606" y="5812"/>
                  <a:pt x="5606" y="58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19" name="Ink 5"/>
          <p:cNvSpPr/>
          <p:nvPr/>
        </p:nvSpPr>
        <p:spPr>
          <a:xfrm>
            <a:off x="2482920" y="1731960"/>
            <a:ext cx="276120" cy="37620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6995" y="5110"/>
                </a:moveTo>
                <a:cubicBezTo>
                  <a:pt x="6987" y="5227"/>
                  <a:pt x="6936" y="5314"/>
                  <a:pt x="6921" y="5432"/>
                </a:cubicBezTo>
                <a:cubicBezTo>
                  <a:pt x="6906" y="5547"/>
                  <a:pt x="6911" y="5642"/>
                  <a:pt x="6970" y="5730"/>
                </a:cubicBezTo>
                <a:cubicBezTo>
                  <a:pt x="7024" y="5810"/>
                  <a:pt x="7060" y="5871"/>
                  <a:pt x="7169" y="5854"/>
                </a:cubicBezTo>
                <a:cubicBezTo>
                  <a:pt x="7321" y="5830"/>
                  <a:pt x="7412" y="5751"/>
                  <a:pt x="7516" y="5655"/>
                </a:cubicBezTo>
                <a:cubicBezTo>
                  <a:pt x="7605" y="5572"/>
                  <a:pt x="7649" y="5455"/>
                  <a:pt x="7665" y="5333"/>
                </a:cubicBezTo>
                <a:cubicBezTo>
                  <a:pt x="7678" y="5239"/>
                  <a:pt x="7682" y="5099"/>
                  <a:pt x="7640" y="5011"/>
                </a:cubicBezTo>
                <a:cubicBezTo>
                  <a:pt x="7590" y="4907"/>
                  <a:pt x="7429" y="4828"/>
                  <a:pt x="7317" y="4812"/>
                </a:cubicBezTo>
                <a:cubicBezTo>
                  <a:pt x="7194" y="4794"/>
                  <a:pt x="7058" y="4841"/>
                  <a:pt x="6945" y="4887"/>
                </a:cubicBezTo>
                <a:cubicBezTo>
                  <a:pt x="6862" y="4921"/>
                  <a:pt x="6896" y="4984"/>
                  <a:pt x="6896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0" name="Ink 6"/>
          <p:cNvSpPr/>
          <p:nvPr/>
        </p:nvSpPr>
        <p:spPr>
          <a:xfrm>
            <a:off x="1330200" y="3160800"/>
            <a:ext cx="652680" cy="357120"/>
          </a:xfrm>
          <a:custGeom>
            <a:avLst/>
            <a:gdLst/>
            <a:ahLst/>
            <a:rect l="l" t="t" r="r" b="b"/>
            <a:pathLst>
              <a:path w="1812" h="993">
                <a:moveTo>
                  <a:pt x="4142" y="8930"/>
                </a:moveTo>
                <a:cubicBezTo>
                  <a:pt x="4077" y="8962"/>
                  <a:pt x="4062" y="8866"/>
                  <a:pt x="4018" y="8806"/>
                </a:cubicBezTo>
                <a:cubicBezTo>
                  <a:pt x="3959" y="8727"/>
                  <a:pt x="3856" y="8799"/>
                  <a:pt x="3820" y="8855"/>
                </a:cubicBezTo>
                <a:cubicBezTo>
                  <a:pt x="3774" y="8925"/>
                  <a:pt x="3711" y="9047"/>
                  <a:pt x="3696" y="9128"/>
                </a:cubicBezTo>
                <a:cubicBezTo>
                  <a:pt x="3680" y="9212"/>
                  <a:pt x="3684" y="9349"/>
                  <a:pt x="3721" y="9426"/>
                </a:cubicBezTo>
                <a:cubicBezTo>
                  <a:pt x="3769" y="9527"/>
                  <a:pt x="3831" y="9603"/>
                  <a:pt x="3944" y="9624"/>
                </a:cubicBezTo>
                <a:cubicBezTo>
                  <a:pt x="4008" y="9636"/>
                  <a:pt x="4083" y="9575"/>
                  <a:pt x="4142" y="9550"/>
                </a:cubicBezTo>
              </a:path>
              <a:path w="1812" h="993">
                <a:moveTo>
                  <a:pt x="4465" y="9029"/>
                </a:moveTo>
                <a:cubicBezTo>
                  <a:pt x="4413" y="9200"/>
                  <a:pt x="4318" y="9343"/>
                  <a:pt x="4465" y="9475"/>
                </a:cubicBezTo>
                <a:cubicBezTo>
                  <a:pt x="4528" y="9532"/>
                  <a:pt x="4570" y="9526"/>
                  <a:pt x="4638" y="9500"/>
                </a:cubicBezTo>
                <a:cubicBezTo>
                  <a:pt x="4727" y="9466"/>
                  <a:pt x="4770" y="9430"/>
                  <a:pt x="4787" y="9327"/>
                </a:cubicBezTo>
                <a:cubicBezTo>
                  <a:pt x="4802" y="9236"/>
                  <a:pt x="4773" y="9160"/>
                  <a:pt x="4762" y="9079"/>
                </a:cubicBezTo>
                <a:cubicBezTo>
                  <a:pt x="4744" y="8944"/>
                  <a:pt x="4674" y="8959"/>
                  <a:pt x="4539" y="8954"/>
                </a:cubicBezTo>
                <a:cubicBezTo>
                  <a:pt x="4498" y="8952"/>
                  <a:pt x="4456" y="8954"/>
                  <a:pt x="4415" y="8954"/>
                </a:cubicBezTo>
              </a:path>
              <a:path w="1812" h="993">
                <a:moveTo>
                  <a:pt x="5259" y="8830"/>
                </a:moveTo>
                <a:cubicBezTo>
                  <a:pt x="5191" y="8898"/>
                  <a:pt x="5150" y="8944"/>
                  <a:pt x="5060" y="8979"/>
                </a:cubicBezTo>
                <a:cubicBezTo>
                  <a:pt x="4989" y="9006"/>
                  <a:pt x="4841" y="9058"/>
                  <a:pt x="4911" y="9153"/>
                </a:cubicBezTo>
                <a:cubicBezTo>
                  <a:pt x="4968" y="9231"/>
                  <a:pt x="5125" y="9285"/>
                  <a:pt x="5209" y="9327"/>
                </a:cubicBezTo>
                <a:cubicBezTo>
                  <a:pt x="5264" y="9354"/>
                  <a:pt x="5482" y="9469"/>
                  <a:pt x="5507" y="9525"/>
                </a:cubicBezTo>
                <a:cubicBezTo>
                  <a:pt x="5559" y="9640"/>
                  <a:pt x="5465" y="9671"/>
                  <a:pt x="5383" y="9699"/>
                </a:cubicBezTo>
                <a:cubicBezTo>
                  <a:pt x="5278" y="9735"/>
                  <a:pt x="5170" y="9743"/>
                  <a:pt x="5060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1" name="Ink 7"/>
          <p:cNvSpPr/>
          <p:nvPr/>
        </p:nvSpPr>
        <p:spPr>
          <a:xfrm>
            <a:off x="2571840" y="3160800"/>
            <a:ext cx="366480" cy="339480"/>
          </a:xfrm>
          <a:custGeom>
            <a:avLst/>
            <a:gdLst/>
            <a:ahLst/>
            <a:rect l="l" t="t" r="r" b="b"/>
            <a:pathLst>
              <a:path w="1018" h="943">
                <a:moveTo>
                  <a:pt x="7144" y="9252"/>
                </a:moveTo>
                <a:cubicBezTo>
                  <a:pt x="7227" y="9220"/>
                  <a:pt x="7301" y="9227"/>
                  <a:pt x="7392" y="9227"/>
                </a:cubicBezTo>
                <a:cubicBezTo>
                  <a:pt x="7477" y="9227"/>
                  <a:pt x="7537" y="9243"/>
                  <a:pt x="7615" y="9227"/>
                </a:cubicBezTo>
              </a:path>
              <a:path w="1018" h="943">
                <a:moveTo>
                  <a:pt x="8037" y="8781"/>
                </a:moveTo>
                <a:cubicBezTo>
                  <a:pt x="8056" y="8915"/>
                  <a:pt x="8062" y="9047"/>
                  <a:pt x="8086" y="9178"/>
                </a:cubicBezTo>
                <a:cubicBezTo>
                  <a:pt x="8108" y="9296"/>
                  <a:pt x="8116" y="9410"/>
                  <a:pt x="8136" y="9525"/>
                </a:cubicBezTo>
                <a:cubicBezTo>
                  <a:pt x="8161" y="9623"/>
                  <a:pt x="8169" y="9655"/>
                  <a:pt x="8161" y="97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2" name="Ink 8"/>
          <p:cNvSpPr/>
          <p:nvPr/>
        </p:nvSpPr>
        <p:spPr>
          <a:xfrm>
            <a:off x="1285920" y="4321080"/>
            <a:ext cx="1420920" cy="403200"/>
          </a:xfrm>
          <a:custGeom>
            <a:avLst/>
            <a:gdLst/>
            <a:ahLst/>
            <a:rect l="l" t="t" r="r" b="b"/>
            <a:pathLst>
              <a:path w="3945" h="1118">
                <a:moveTo>
                  <a:pt x="3894" y="12204"/>
                </a:moveTo>
                <a:cubicBezTo>
                  <a:pt x="3906" y="12296"/>
                  <a:pt x="3910" y="12381"/>
                  <a:pt x="3919" y="12477"/>
                </a:cubicBezTo>
                <a:cubicBezTo>
                  <a:pt x="3933" y="12624"/>
                  <a:pt x="3958" y="12784"/>
                  <a:pt x="3994" y="12923"/>
                </a:cubicBezTo>
                <a:cubicBezTo>
                  <a:pt x="4014" y="13005"/>
                  <a:pt x="4022" y="13021"/>
                  <a:pt x="4018" y="13072"/>
                </a:cubicBezTo>
              </a:path>
              <a:path w="3945" h="1118">
                <a:moveTo>
                  <a:pt x="3572" y="12601"/>
                </a:moveTo>
                <a:cubicBezTo>
                  <a:pt x="3733" y="12633"/>
                  <a:pt x="3904" y="12640"/>
                  <a:pt x="4068" y="12650"/>
                </a:cubicBezTo>
                <a:cubicBezTo>
                  <a:pt x="4186" y="12657"/>
                  <a:pt x="4296" y="12675"/>
                  <a:pt x="4415" y="12675"/>
                </a:cubicBezTo>
                <a:cubicBezTo>
                  <a:pt x="4486" y="12675"/>
                  <a:pt x="4511" y="12668"/>
                  <a:pt x="4564" y="12700"/>
                </a:cubicBezTo>
                <a:cubicBezTo>
                  <a:pt x="4507" y="12770"/>
                  <a:pt x="4406" y="12876"/>
                  <a:pt x="4366" y="12948"/>
                </a:cubicBezTo>
                <a:cubicBezTo>
                  <a:pt x="4341" y="12992"/>
                  <a:pt x="4333" y="13070"/>
                  <a:pt x="4390" y="13097"/>
                </a:cubicBezTo>
                <a:cubicBezTo>
                  <a:pt x="4468" y="13134"/>
                  <a:pt x="4551" y="13102"/>
                  <a:pt x="4614" y="13047"/>
                </a:cubicBezTo>
                <a:cubicBezTo>
                  <a:pt x="4679" y="12990"/>
                  <a:pt x="4703" y="12930"/>
                  <a:pt x="4713" y="12849"/>
                </a:cubicBezTo>
                <a:cubicBezTo>
                  <a:pt x="4669" y="12922"/>
                  <a:pt x="4700" y="12968"/>
                  <a:pt x="4713" y="13047"/>
                </a:cubicBezTo>
                <a:cubicBezTo>
                  <a:pt x="4713" y="13106"/>
                  <a:pt x="4722" y="13126"/>
                  <a:pt x="4787" y="13122"/>
                </a:cubicBezTo>
              </a:path>
              <a:path w="3945" h="1118">
                <a:moveTo>
                  <a:pt x="5060" y="12774"/>
                </a:moveTo>
                <a:cubicBezTo>
                  <a:pt x="5060" y="12882"/>
                  <a:pt x="5060" y="12989"/>
                  <a:pt x="5060" y="13097"/>
                </a:cubicBezTo>
                <a:cubicBezTo>
                  <a:pt x="5060" y="12992"/>
                  <a:pt x="5074" y="12900"/>
                  <a:pt x="5085" y="12799"/>
                </a:cubicBezTo>
                <a:cubicBezTo>
                  <a:pt x="5091" y="12749"/>
                  <a:pt x="5100" y="12626"/>
                  <a:pt x="5184" y="12626"/>
                </a:cubicBezTo>
                <a:cubicBezTo>
                  <a:pt x="5247" y="12626"/>
                  <a:pt x="5353" y="12727"/>
                  <a:pt x="5383" y="12774"/>
                </a:cubicBezTo>
                <a:cubicBezTo>
                  <a:pt x="5415" y="12825"/>
                  <a:pt x="5455" y="12983"/>
                  <a:pt x="5507" y="13022"/>
                </a:cubicBezTo>
                <a:cubicBezTo>
                  <a:pt x="5540" y="13039"/>
                  <a:pt x="5573" y="13055"/>
                  <a:pt x="5606" y="13072"/>
                </a:cubicBezTo>
              </a:path>
              <a:path w="3945" h="1118">
                <a:moveTo>
                  <a:pt x="5829" y="12725"/>
                </a:moveTo>
                <a:cubicBezTo>
                  <a:pt x="5961" y="12725"/>
                  <a:pt x="6094" y="12725"/>
                  <a:pt x="6226" y="12725"/>
                </a:cubicBezTo>
              </a:path>
              <a:path w="3945" h="1118">
                <a:moveTo>
                  <a:pt x="5854" y="12998"/>
                </a:moveTo>
                <a:cubicBezTo>
                  <a:pt x="5950" y="13073"/>
                  <a:pt x="6054" y="13018"/>
                  <a:pt x="6176" y="12998"/>
                </a:cubicBezTo>
              </a:path>
              <a:path w="3945" h="1118">
                <a:moveTo>
                  <a:pt x="6995" y="12179"/>
                </a:moveTo>
                <a:cubicBezTo>
                  <a:pt x="6926" y="12248"/>
                  <a:pt x="6876" y="12307"/>
                  <a:pt x="6846" y="12402"/>
                </a:cubicBezTo>
                <a:cubicBezTo>
                  <a:pt x="6812" y="12509"/>
                  <a:pt x="6784" y="12612"/>
                  <a:pt x="6796" y="12725"/>
                </a:cubicBezTo>
                <a:cubicBezTo>
                  <a:pt x="6814" y="12894"/>
                  <a:pt x="6845" y="12967"/>
                  <a:pt x="6970" y="13072"/>
                </a:cubicBezTo>
                <a:cubicBezTo>
                  <a:pt x="7027" y="13120"/>
                  <a:pt x="7173" y="13148"/>
                  <a:pt x="7243" y="13122"/>
                </a:cubicBezTo>
                <a:cubicBezTo>
                  <a:pt x="7347" y="13083"/>
                  <a:pt x="7428" y="12944"/>
                  <a:pt x="7466" y="12849"/>
                </a:cubicBezTo>
                <a:cubicBezTo>
                  <a:pt x="7527" y="12695"/>
                  <a:pt x="7505" y="12580"/>
                  <a:pt x="7466" y="12427"/>
                </a:cubicBezTo>
                <a:cubicBezTo>
                  <a:pt x="7416" y="12230"/>
                  <a:pt x="7369" y="12226"/>
                  <a:pt x="7243" y="12105"/>
                </a:cubicBezTo>
                <a:cubicBezTo>
                  <a:pt x="7152" y="12018"/>
                  <a:pt x="7072" y="11973"/>
                  <a:pt x="6945" y="12030"/>
                </a:cubicBezTo>
                <a:cubicBezTo>
                  <a:pt x="6929" y="12038"/>
                  <a:pt x="6912" y="12047"/>
                  <a:pt x="6896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3" name="Ink 9"/>
          <p:cNvSpPr/>
          <p:nvPr/>
        </p:nvSpPr>
        <p:spPr>
          <a:xfrm>
            <a:off x="4714920" y="3321000"/>
            <a:ext cx="509400" cy="376200"/>
          </a:xfrm>
          <a:custGeom>
            <a:avLst/>
            <a:gdLst/>
            <a:ahLst/>
            <a:rect l="l" t="t" r="r" b="b"/>
            <a:pathLst>
              <a:path w="1415" h="1043">
                <a:moveTo>
                  <a:pt x="13494" y="9227"/>
                </a:moveTo>
                <a:cubicBezTo>
                  <a:pt x="13494" y="9269"/>
                  <a:pt x="13530" y="9387"/>
                  <a:pt x="13494" y="9327"/>
                </a:cubicBezTo>
                <a:cubicBezTo>
                  <a:pt x="13448" y="9248"/>
                  <a:pt x="13367" y="9226"/>
                  <a:pt x="13271" y="9252"/>
                </a:cubicBezTo>
                <a:cubicBezTo>
                  <a:pt x="13216" y="9267"/>
                  <a:pt x="13148" y="9380"/>
                  <a:pt x="13122" y="9426"/>
                </a:cubicBezTo>
                <a:cubicBezTo>
                  <a:pt x="13084" y="9493"/>
                  <a:pt x="13123" y="9590"/>
                  <a:pt x="13171" y="9649"/>
                </a:cubicBezTo>
                <a:cubicBezTo>
                  <a:pt x="13256" y="9753"/>
                  <a:pt x="13368" y="9812"/>
                  <a:pt x="13469" y="9897"/>
                </a:cubicBezTo>
                <a:cubicBezTo>
                  <a:pt x="13578" y="9989"/>
                  <a:pt x="13657" y="10040"/>
                  <a:pt x="13618" y="10195"/>
                </a:cubicBezTo>
                <a:cubicBezTo>
                  <a:pt x="13596" y="10283"/>
                  <a:pt x="13467" y="10281"/>
                  <a:pt x="13395" y="10269"/>
                </a:cubicBezTo>
                <a:cubicBezTo>
                  <a:pt x="13301" y="10254"/>
                  <a:pt x="13270" y="10216"/>
                  <a:pt x="13196" y="10170"/>
                </a:cubicBezTo>
              </a:path>
              <a:path w="1415" h="1043">
                <a:moveTo>
                  <a:pt x="13643" y="9823"/>
                </a:moveTo>
                <a:cubicBezTo>
                  <a:pt x="13706" y="9808"/>
                  <a:pt x="13962" y="9772"/>
                  <a:pt x="14015" y="9674"/>
                </a:cubicBezTo>
                <a:cubicBezTo>
                  <a:pt x="14036" y="9634"/>
                  <a:pt x="14013" y="9517"/>
                  <a:pt x="13965" y="9500"/>
                </a:cubicBezTo>
                <a:cubicBezTo>
                  <a:pt x="13918" y="9483"/>
                  <a:pt x="13820" y="9508"/>
                  <a:pt x="13791" y="9550"/>
                </a:cubicBezTo>
                <a:cubicBezTo>
                  <a:pt x="13731" y="9637"/>
                  <a:pt x="13619" y="9824"/>
                  <a:pt x="13643" y="9947"/>
                </a:cubicBezTo>
                <a:cubicBezTo>
                  <a:pt x="13659" y="10030"/>
                  <a:pt x="13666" y="10103"/>
                  <a:pt x="13767" y="10120"/>
                </a:cubicBezTo>
                <a:cubicBezTo>
                  <a:pt x="13834" y="10131"/>
                  <a:pt x="13879" y="10096"/>
                  <a:pt x="13940" y="10071"/>
                </a:cubicBezTo>
              </a:path>
              <a:path w="1415" h="1043">
                <a:moveTo>
                  <a:pt x="14412" y="9649"/>
                </a:moveTo>
                <a:cubicBezTo>
                  <a:pt x="14470" y="9707"/>
                  <a:pt x="14478" y="9715"/>
                  <a:pt x="14511" y="9748"/>
                </a:cubicBezTo>
                <a:cubicBezTo>
                  <a:pt x="14481" y="9698"/>
                  <a:pt x="14480" y="9648"/>
                  <a:pt x="14436" y="9599"/>
                </a:cubicBezTo>
                <a:cubicBezTo>
                  <a:pt x="14392" y="9549"/>
                  <a:pt x="14331" y="9527"/>
                  <a:pt x="14263" y="9550"/>
                </a:cubicBezTo>
                <a:cubicBezTo>
                  <a:pt x="14129" y="9595"/>
                  <a:pt x="14034" y="9708"/>
                  <a:pt x="14015" y="9847"/>
                </a:cubicBezTo>
                <a:cubicBezTo>
                  <a:pt x="14001" y="9950"/>
                  <a:pt x="14016" y="10041"/>
                  <a:pt x="14114" y="10096"/>
                </a:cubicBezTo>
                <a:cubicBezTo>
                  <a:pt x="14203" y="10146"/>
                  <a:pt x="14343" y="10156"/>
                  <a:pt x="14436" y="10120"/>
                </a:cubicBezTo>
                <a:cubicBezTo>
                  <a:pt x="14461" y="10104"/>
                  <a:pt x="14486" y="10087"/>
                  <a:pt x="14511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4" name="Ink 10"/>
          <p:cNvSpPr/>
          <p:nvPr/>
        </p:nvSpPr>
        <p:spPr>
          <a:xfrm>
            <a:off x="5803920" y="3510000"/>
            <a:ext cx="63360" cy="1440"/>
          </a:xfrm>
          <a:custGeom>
            <a:avLst/>
            <a:gdLst/>
            <a:ahLst/>
            <a:rect l="l" t="t" r="r" b="b"/>
            <a:pathLst>
              <a:path w="175" h="1">
                <a:moveTo>
                  <a:pt x="16123" y="9748"/>
                </a:moveTo>
                <a:cubicBezTo>
                  <a:pt x="16181" y="9748"/>
                  <a:pt x="16239" y="9748"/>
                  <a:pt x="16297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5" name="Ink 11"/>
          <p:cNvSpPr/>
          <p:nvPr/>
        </p:nvSpPr>
        <p:spPr>
          <a:xfrm>
            <a:off x="6143760" y="3259080"/>
            <a:ext cx="27000" cy="492120"/>
          </a:xfrm>
          <a:custGeom>
            <a:avLst/>
            <a:gdLst/>
            <a:ahLst/>
            <a:rect l="l" t="t" r="r" b="b"/>
            <a:pathLst>
              <a:path w="75" h="1365">
                <a:moveTo>
                  <a:pt x="17115" y="9054"/>
                </a:moveTo>
                <a:cubicBezTo>
                  <a:pt x="17109" y="9169"/>
                  <a:pt x="17108" y="9287"/>
                  <a:pt x="17090" y="9401"/>
                </a:cubicBezTo>
                <a:cubicBezTo>
                  <a:pt x="17071" y="9520"/>
                  <a:pt x="17066" y="9626"/>
                  <a:pt x="17066" y="9748"/>
                </a:cubicBezTo>
                <a:cubicBezTo>
                  <a:pt x="17066" y="9858"/>
                  <a:pt x="17076" y="9986"/>
                  <a:pt x="17090" y="10096"/>
                </a:cubicBezTo>
                <a:cubicBezTo>
                  <a:pt x="17104" y="10206"/>
                  <a:pt x="17128" y="10310"/>
                  <a:pt x="17140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6" name="Ink 12"/>
          <p:cNvSpPr/>
          <p:nvPr/>
        </p:nvSpPr>
        <p:spPr>
          <a:xfrm>
            <a:off x="5037120" y="4500720"/>
            <a:ext cx="1598760" cy="438120"/>
          </a:xfrm>
          <a:custGeom>
            <a:avLst/>
            <a:gdLst/>
            <a:ahLst/>
            <a:rect l="l" t="t" r="r" b="b"/>
            <a:pathLst>
              <a:path w="4441" h="1216">
                <a:moveTo>
                  <a:pt x="14387" y="12874"/>
                </a:moveTo>
                <a:cubicBezTo>
                  <a:pt x="14387" y="12841"/>
                  <a:pt x="14407" y="12717"/>
                  <a:pt x="14362" y="12700"/>
                </a:cubicBezTo>
                <a:cubicBezTo>
                  <a:pt x="14261" y="12661"/>
                  <a:pt x="14229" y="12699"/>
                  <a:pt x="14139" y="12750"/>
                </a:cubicBezTo>
                <a:cubicBezTo>
                  <a:pt x="14064" y="12792"/>
                  <a:pt x="13987" y="12903"/>
                  <a:pt x="13990" y="12998"/>
                </a:cubicBezTo>
                <a:cubicBezTo>
                  <a:pt x="13995" y="13153"/>
                  <a:pt x="14079" y="13265"/>
                  <a:pt x="14213" y="13320"/>
                </a:cubicBezTo>
                <a:cubicBezTo>
                  <a:pt x="14304" y="13357"/>
                  <a:pt x="14346" y="13343"/>
                  <a:pt x="14436" y="13320"/>
                </a:cubicBezTo>
              </a:path>
              <a:path w="4441" h="1216">
                <a:moveTo>
                  <a:pt x="14759" y="12849"/>
                </a:moveTo>
                <a:cubicBezTo>
                  <a:pt x="14660" y="12927"/>
                  <a:pt x="14641" y="12967"/>
                  <a:pt x="14635" y="13097"/>
                </a:cubicBezTo>
                <a:cubicBezTo>
                  <a:pt x="14630" y="13196"/>
                  <a:pt x="14706" y="13302"/>
                  <a:pt x="14808" y="13320"/>
                </a:cubicBezTo>
                <a:cubicBezTo>
                  <a:pt x="14919" y="13339"/>
                  <a:pt x="14963" y="13270"/>
                  <a:pt x="14982" y="13171"/>
                </a:cubicBezTo>
                <a:cubicBezTo>
                  <a:pt x="15003" y="13062"/>
                  <a:pt x="14979" y="12977"/>
                  <a:pt x="14908" y="12898"/>
                </a:cubicBezTo>
                <a:cubicBezTo>
                  <a:pt x="14830" y="12811"/>
                  <a:pt x="14786" y="12806"/>
                  <a:pt x="14684" y="12774"/>
                </a:cubicBezTo>
                <a:cubicBezTo>
                  <a:pt x="14668" y="12766"/>
                  <a:pt x="14651" y="12758"/>
                  <a:pt x="14635" y="12750"/>
                </a:cubicBezTo>
              </a:path>
              <a:path w="4441" h="1216">
                <a:moveTo>
                  <a:pt x="15205" y="12601"/>
                </a:moveTo>
                <a:cubicBezTo>
                  <a:pt x="15210" y="12792"/>
                  <a:pt x="15204" y="12987"/>
                  <a:pt x="15255" y="13171"/>
                </a:cubicBezTo>
                <a:cubicBezTo>
                  <a:pt x="15272" y="13234"/>
                  <a:pt x="15300" y="13287"/>
                  <a:pt x="15329" y="13345"/>
                </a:cubicBezTo>
              </a:path>
              <a:path w="4441" h="1216">
                <a:moveTo>
                  <a:pt x="15007" y="12849"/>
                </a:moveTo>
                <a:cubicBezTo>
                  <a:pt x="15159" y="12849"/>
                  <a:pt x="15307" y="12858"/>
                  <a:pt x="15453" y="12824"/>
                </a:cubicBezTo>
              </a:path>
              <a:path w="4441" h="1216">
                <a:moveTo>
                  <a:pt x="15776" y="12849"/>
                </a:moveTo>
                <a:cubicBezTo>
                  <a:pt x="15916" y="12849"/>
                  <a:pt x="16057" y="12849"/>
                  <a:pt x="16197" y="12849"/>
                </a:cubicBezTo>
              </a:path>
              <a:path w="4441" h="1216">
                <a:moveTo>
                  <a:pt x="15850" y="13146"/>
                </a:moveTo>
                <a:cubicBezTo>
                  <a:pt x="15955" y="13154"/>
                  <a:pt x="16045" y="13174"/>
                  <a:pt x="16148" y="13146"/>
                </a:cubicBezTo>
                <a:cubicBezTo>
                  <a:pt x="16164" y="13138"/>
                  <a:pt x="16181" y="13130"/>
                  <a:pt x="16197" y="13122"/>
                </a:cubicBezTo>
              </a:path>
              <a:path w="4441" h="1216">
                <a:moveTo>
                  <a:pt x="16594" y="12898"/>
                </a:moveTo>
                <a:cubicBezTo>
                  <a:pt x="16556" y="12986"/>
                  <a:pt x="16466" y="13146"/>
                  <a:pt x="16470" y="13246"/>
                </a:cubicBezTo>
                <a:cubicBezTo>
                  <a:pt x="16472" y="13296"/>
                  <a:pt x="16503" y="13408"/>
                  <a:pt x="16545" y="13444"/>
                </a:cubicBezTo>
                <a:cubicBezTo>
                  <a:pt x="16613" y="13502"/>
                  <a:pt x="16716" y="13450"/>
                  <a:pt x="16768" y="13395"/>
                </a:cubicBezTo>
                <a:cubicBezTo>
                  <a:pt x="16828" y="13331"/>
                  <a:pt x="16876" y="13234"/>
                  <a:pt x="16892" y="13146"/>
                </a:cubicBezTo>
                <a:cubicBezTo>
                  <a:pt x="16903" y="13089"/>
                  <a:pt x="16910" y="13031"/>
                  <a:pt x="16917" y="12973"/>
                </a:cubicBezTo>
                <a:cubicBezTo>
                  <a:pt x="16902" y="13050"/>
                  <a:pt x="16856" y="13217"/>
                  <a:pt x="16892" y="13295"/>
                </a:cubicBezTo>
                <a:cubicBezTo>
                  <a:pt x="16931" y="13380"/>
                  <a:pt x="17019" y="13365"/>
                  <a:pt x="17090" y="13370"/>
                </a:cubicBezTo>
              </a:path>
              <a:path w="4441" h="1216">
                <a:moveTo>
                  <a:pt x="17165" y="12998"/>
                </a:moveTo>
                <a:cubicBezTo>
                  <a:pt x="17145" y="13119"/>
                  <a:pt x="17083" y="13275"/>
                  <a:pt x="17140" y="13395"/>
                </a:cubicBezTo>
                <a:cubicBezTo>
                  <a:pt x="17148" y="13403"/>
                  <a:pt x="17157" y="13411"/>
                  <a:pt x="17165" y="13419"/>
                </a:cubicBezTo>
                <a:cubicBezTo>
                  <a:pt x="17208" y="13355"/>
                  <a:pt x="17227" y="13271"/>
                  <a:pt x="17239" y="13196"/>
                </a:cubicBezTo>
                <a:cubicBezTo>
                  <a:pt x="17251" y="13118"/>
                  <a:pt x="17261" y="13046"/>
                  <a:pt x="17289" y="12973"/>
                </a:cubicBezTo>
                <a:cubicBezTo>
                  <a:pt x="17413" y="12955"/>
                  <a:pt x="17445" y="13042"/>
                  <a:pt x="17462" y="13171"/>
                </a:cubicBezTo>
                <a:cubicBezTo>
                  <a:pt x="17477" y="13290"/>
                  <a:pt x="17471" y="13393"/>
                  <a:pt x="17537" y="13494"/>
                </a:cubicBezTo>
                <a:cubicBezTo>
                  <a:pt x="17565" y="13522"/>
                  <a:pt x="17578" y="13531"/>
                  <a:pt x="17611" y="13519"/>
                </a:cubicBezTo>
              </a:path>
              <a:path w="4441" h="1216">
                <a:moveTo>
                  <a:pt x="17909" y="12923"/>
                </a:moveTo>
                <a:cubicBezTo>
                  <a:pt x="17784" y="12929"/>
                  <a:pt x="17682" y="12921"/>
                  <a:pt x="17611" y="13047"/>
                </a:cubicBezTo>
                <a:cubicBezTo>
                  <a:pt x="17543" y="13169"/>
                  <a:pt x="17572" y="13218"/>
                  <a:pt x="17636" y="13320"/>
                </a:cubicBezTo>
                <a:cubicBezTo>
                  <a:pt x="17692" y="13409"/>
                  <a:pt x="17752" y="13434"/>
                  <a:pt x="17859" y="13395"/>
                </a:cubicBezTo>
                <a:cubicBezTo>
                  <a:pt x="17926" y="13370"/>
                  <a:pt x="17982" y="13229"/>
                  <a:pt x="18008" y="13171"/>
                </a:cubicBezTo>
                <a:cubicBezTo>
                  <a:pt x="18050" y="13076"/>
                  <a:pt x="18070" y="12902"/>
                  <a:pt x="18058" y="12799"/>
                </a:cubicBezTo>
                <a:cubicBezTo>
                  <a:pt x="18047" y="12697"/>
                  <a:pt x="18020" y="12600"/>
                  <a:pt x="18008" y="12502"/>
                </a:cubicBezTo>
                <a:cubicBezTo>
                  <a:pt x="17951" y="12613"/>
                  <a:pt x="17952" y="12770"/>
                  <a:pt x="17983" y="12898"/>
                </a:cubicBezTo>
                <a:cubicBezTo>
                  <a:pt x="18020" y="13052"/>
                  <a:pt x="18092" y="13202"/>
                  <a:pt x="18157" y="13345"/>
                </a:cubicBezTo>
                <a:cubicBezTo>
                  <a:pt x="18210" y="13462"/>
                  <a:pt x="18266" y="13625"/>
                  <a:pt x="18380" y="13692"/>
                </a:cubicBezTo>
                <a:cubicBezTo>
                  <a:pt x="18397" y="13700"/>
                  <a:pt x="18413" y="13709"/>
                  <a:pt x="18430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7" name="Ink 13"/>
          <p:cNvSpPr/>
          <p:nvPr/>
        </p:nvSpPr>
        <p:spPr>
          <a:xfrm>
            <a:off x="4518000" y="1884240"/>
            <a:ext cx="733320" cy="303480"/>
          </a:xfrm>
          <a:custGeom>
            <a:avLst/>
            <a:gdLst/>
            <a:ahLst/>
            <a:rect l="l" t="t" r="r" b="b"/>
            <a:pathLst>
              <a:path w="2035" h="844">
                <a:moveTo>
                  <a:pt x="13047" y="5383"/>
                </a:moveTo>
                <a:cubicBezTo>
                  <a:pt x="13007" y="5312"/>
                  <a:pt x="12986" y="5305"/>
                  <a:pt x="12923" y="5259"/>
                </a:cubicBezTo>
                <a:cubicBezTo>
                  <a:pt x="12870" y="5220"/>
                  <a:pt x="12777" y="5231"/>
                  <a:pt x="12725" y="5283"/>
                </a:cubicBezTo>
                <a:cubicBezTo>
                  <a:pt x="12655" y="5353"/>
                  <a:pt x="12606" y="5561"/>
                  <a:pt x="12576" y="5655"/>
                </a:cubicBezTo>
                <a:cubicBezTo>
                  <a:pt x="12545" y="5753"/>
                  <a:pt x="12528" y="5914"/>
                  <a:pt x="12601" y="6003"/>
                </a:cubicBezTo>
                <a:cubicBezTo>
                  <a:pt x="12646" y="6058"/>
                  <a:pt x="12736" y="6075"/>
                  <a:pt x="12799" y="6077"/>
                </a:cubicBezTo>
                <a:cubicBezTo>
                  <a:pt x="12889" y="6080"/>
                  <a:pt x="12963" y="6054"/>
                  <a:pt x="13047" y="6028"/>
                </a:cubicBezTo>
              </a:path>
              <a:path w="2035" h="844">
                <a:moveTo>
                  <a:pt x="13519" y="5432"/>
                </a:moveTo>
                <a:cubicBezTo>
                  <a:pt x="13456" y="5478"/>
                  <a:pt x="13295" y="5550"/>
                  <a:pt x="13271" y="5631"/>
                </a:cubicBezTo>
                <a:cubicBezTo>
                  <a:pt x="13238" y="5743"/>
                  <a:pt x="13325" y="5768"/>
                  <a:pt x="13395" y="5829"/>
                </a:cubicBezTo>
                <a:cubicBezTo>
                  <a:pt x="13462" y="5887"/>
                  <a:pt x="13530" y="5940"/>
                  <a:pt x="13593" y="6003"/>
                </a:cubicBezTo>
                <a:cubicBezTo>
                  <a:pt x="13506" y="6089"/>
                  <a:pt x="13419" y="6095"/>
                  <a:pt x="13295" y="6052"/>
                </a:cubicBezTo>
                <a:cubicBezTo>
                  <a:pt x="13279" y="6044"/>
                  <a:pt x="13262" y="6036"/>
                  <a:pt x="13246" y="6028"/>
                </a:cubicBezTo>
              </a:path>
              <a:path w="2035" h="844">
                <a:moveTo>
                  <a:pt x="14015" y="5383"/>
                </a:moveTo>
                <a:cubicBezTo>
                  <a:pt x="14030" y="5304"/>
                  <a:pt x="13976" y="5287"/>
                  <a:pt x="13891" y="5283"/>
                </a:cubicBezTo>
                <a:cubicBezTo>
                  <a:pt x="13785" y="5278"/>
                  <a:pt x="13784" y="5330"/>
                  <a:pt x="13717" y="5407"/>
                </a:cubicBezTo>
                <a:cubicBezTo>
                  <a:pt x="13635" y="5502"/>
                  <a:pt x="13600" y="5625"/>
                  <a:pt x="13618" y="5755"/>
                </a:cubicBezTo>
                <a:cubicBezTo>
                  <a:pt x="13629" y="5831"/>
                  <a:pt x="13780" y="5872"/>
                  <a:pt x="13841" y="5879"/>
                </a:cubicBezTo>
                <a:cubicBezTo>
                  <a:pt x="13988" y="5895"/>
                  <a:pt x="14141" y="5918"/>
                  <a:pt x="14288" y="5928"/>
                </a:cubicBezTo>
                <a:cubicBezTo>
                  <a:pt x="14386" y="5935"/>
                  <a:pt x="14487" y="5928"/>
                  <a:pt x="14585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28" name="Ink 14"/>
          <p:cNvSpPr/>
          <p:nvPr/>
        </p:nvSpPr>
        <p:spPr>
          <a:xfrm>
            <a:off x="5732640" y="1785960"/>
            <a:ext cx="652320" cy="312840"/>
          </a:xfrm>
          <a:custGeom>
            <a:avLst/>
            <a:gdLst/>
            <a:ahLst/>
            <a:rect l="l" t="t" r="r" b="b"/>
            <a:pathLst>
              <a:path w="1811" h="869">
                <a:moveTo>
                  <a:pt x="15925" y="5333"/>
                </a:moveTo>
                <a:cubicBezTo>
                  <a:pt x="15925" y="5325"/>
                  <a:pt x="15925" y="5316"/>
                  <a:pt x="15925" y="5308"/>
                </a:cubicBezTo>
              </a:path>
              <a:path w="1811" h="869">
                <a:moveTo>
                  <a:pt x="15925" y="5333"/>
                </a:moveTo>
                <a:cubicBezTo>
                  <a:pt x="15950" y="5325"/>
                  <a:pt x="15974" y="5316"/>
                  <a:pt x="15999" y="5308"/>
                </a:cubicBezTo>
              </a:path>
              <a:path w="1811" h="869">
                <a:moveTo>
                  <a:pt x="15999" y="5308"/>
                </a:moveTo>
                <a:cubicBezTo>
                  <a:pt x="15968" y="5437"/>
                  <a:pt x="15928" y="5525"/>
                  <a:pt x="15974" y="5655"/>
                </a:cubicBezTo>
                <a:cubicBezTo>
                  <a:pt x="15992" y="5706"/>
                  <a:pt x="16038" y="5765"/>
                  <a:pt x="16073" y="5804"/>
                </a:cubicBezTo>
                <a:cubicBezTo>
                  <a:pt x="16116" y="5852"/>
                  <a:pt x="16206" y="5822"/>
                  <a:pt x="16247" y="5779"/>
                </a:cubicBezTo>
                <a:cubicBezTo>
                  <a:pt x="16270" y="5754"/>
                  <a:pt x="16340" y="5642"/>
                  <a:pt x="16346" y="5606"/>
                </a:cubicBezTo>
                <a:cubicBezTo>
                  <a:pt x="16361" y="5524"/>
                  <a:pt x="16384" y="5442"/>
                  <a:pt x="16396" y="5358"/>
                </a:cubicBezTo>
                <a:cubicBezTo>
                  <a:pt x="16396" y="5313"/>
                  <a:pt x="16399" y="5300"/>
                  <a:pt x="16371" y="5283"/>
                </a:cubicBezTo>
                <a:cubicBezTo>
                  <a:pt x="16360" y="5400"/>
                  <a:pt x="16329" y="5492"/>
                  <a:pt x="16371" y="5606"/>
                </a:cubicBezTo>
                <a:cubicBezTo>
                  <a:pt x="16390" y="5658"/>
                  <a:pt x="16438" y="5738"/>
                  <a:pt x="16495" y="5730"/>
                </a:cubicBezTo>
                <a:cubicBezTo>
                  <a:pt x="16512" y="5722"/>
                  <a:pt x="16528" y="5713"/>
                  <a:pt x="16545" y="5705"/>
                </a:cubicBezTo>
              </a:path>
              <a:path w="1811" h="869">
                <a:moveTo>
                  <a:pt x="16644" y="5308"/>
                </a:moveTo>
                <a:cubicBezTo>
                  <a:pt x="16656" y="5442"/>
                  <a:pt x="16654" y="5534"/>
                  <a:pt x="16669" y="5655"/>
                </a:cubicBezTo>
                <a:cubicBezTo>
                  <a:pt x="16669" y="5680"/>
                  <a:pt x="16669" y="5705"/>
                  <a:pt x="16669" y="5730"/>
                </a:cubicBezTo>
                <a:cubicBezTo>
                  <a:pt x="16705" y="5670"/>
                  <a:pt x="16715" y="5606"/>
                  <a:pt x="16718" y="5531"/>
                </a:cubicBezTo>
                <a:cubicBezTo>
                  <a:pt x="16722" y="5441"/>
                  <a:pt x="16755" y="5387"/>
                  <a:pt x="16818" y="5333"/>
                </a:cubicBezTo>
                <a:cubicBezTo>
                  <a:pt x="16876" y="5350"/>
                  <a:pt x="16946" y="5405"/>
                  <a:pt x="16966" y="5482"/>
                </a:cubicBezTo>
                <a:cubicBezTo>
                  <a:pt x="16969" y="5495"/>
                  <a:pt x="17005" y="5774"/>
                  <a:pt x="17066" y="5779"/>
                </a:cubicBezTo>
                <a:cubicBezTo>
                  <a:pt x="17082" y="5771"/>
                  <a:pt x="17099" y="5763"/>
                  <a:pt x="17115" y="5755"/>
                </a:cubicBezTo>
              </a:path>
              <a:path w="1811" h="869">
                <a:moveTo>
                  <a:pt x="17462" y="5259"/>
                </a:moveTo>
                <a:cubicBezTo>
                  <a:pt x="17264" y="5391"/>
                  <a:pt x="17223" y="5414"/>
                  <a:pt x="17264" y="5680"/>
                </a:cubicBezTo>
                <a:cubicBezTo>
                  <a:pt x="17371" y="5680"/>
                  <a:pt x="17415" y="5688"/>
                  <a:pt x="17487" y="5631"/>
                </a:cubicBezTo>
                <a:cubicBezTo>
                  <a:pt x="17605" y="5537"/>
                  <a:pt x="17618" y="5475"/>
                  <a:pt x="17661" y="5333"/>
                </a:cubicBezTo>
                <a:cubicBezTo>
                  <a:pt x="17701" y="5201"/>
                  <a:pt x="17710" y="5147"/>
                  <a:pt x="17661" y="5011"/>
                </a:cubicBezTo>
                <a:cubicBezTo>
                  <a:pt x="17653" y="4994"/>
                  <a:pt x="17644" y="4978"/>
                  <a:pt x="17636" y="4961"/>
                </a:cubicBezTo>
                <a:cubicBezTo>
                  <a:pt x="17609" y="5057"/>
                  <a:pt x="17590" y="5133"/>
                  <a:pt x="17587" y="5234"/>
                </a:cubicBezTo>
                <a:cubicBezTo>
                  <a:pt x="17583" y="5342"/>
                  <a:pt x="17631" y="5440"/>
                  <a:pt x="17686" y="5531"/>
                </a:cubicBezTo>
                <a:cubicBezTo>
                  <a:pt x="17702" y="5556"/>
                  <a:pt x="17719" y="5581"/>
                  <a:pt x="17735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9"/>
                </a:solidFill>
                <a:latin typeface="Arial"/>
              </a:rPr>
              <a:t>Find two solutions for the equation.  Give answers in degrees and radians.  (Use the entire unit circle) </a:t>
            </a:r>
            <a:r>
              <a:rPr b="1" lang="en-US" sz="4000" spc="-1" strike="noStrike">
                <a:solidFill>
                  <a:srgbClr val="f3f2d9"/>
                </a:solidFill>
                <a:latin typeface="Arial"/>
              </a:rPr>
              <a:t>cos </a:t>
            </a:r>
            <a:r>
              <a:rPr b="1" lang="el-GR" sz="4000" spc="-1" strike="noStrike">
                <a:solidFill>
                  <a:srgbClr val="f3f2d9"/>
                </a:solidFill>
                <a:latin typeface="Arial"/>
                <a:ea typeface="Arial"/>
              </a:rPr>
              <a:t>Θ</a:t>
            </a:r>
            <a:r>
              <a:rPr b="1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 = -</a:t>
            </a:r>
            <a:r>
              <a:rPr b="1" lang="en-US" sz="4000" spc="-1" strike="noStrike" baseline="30000">
                <a:solidFill>
                  <a:srgbClr val="f3f2d9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3f2d9"/>
                </a:solidFill>
                <a:latin typeface="Arial"/>
                <a:ea typeface="Arial"/>
              </a:rPr>
              <a:t>/</a:t>
            </a:r>
            <a:r>
              <a:rPr b="1" lang="en-US" sz="4000" spc="-1" strike="noStrike" baseline="-25000">
                <a:solidFill>
                  <a:srgbClr val="f3f2d9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30" name="Ink 3"/>
          <p:cNvSpPr/>
          <p:nvPr/>
        </p:nvSpPr>
        <p:spPr>
          <a:xfrm>
            <a:off x="1044720" y="2982960"/>
            <a:ext cx="2241360" cy="606240"/>
          </a:xfrm>
          <a:custGeom>
            <a:avLst/>
            <a:gdLst/>
            <a:ahLst/>
            <a:rect l="l" t="t" r="r" b="b"/>
            <a:pathLst>
              <a:path w="6227" h="1687">
                <a:moveTo>
                  <a:pt x="3299" y="8558"/>
                </a:moveTo>
                <a:cubicBezTo>
                  <a:pt x="3275" y="8651"/>
                  <a:pt x="3237" y="8759"/>
                  <a:pt x="3225" y="8855"/>
                </a:cubicBezTo>
                <a:cubicBezTo>
                  <a:pt x="3209" y="8988"/>
                  <a:pt x="3165" y="9119"/>
                  <a:pt x="3150" y="9252"/>
                </a:cubicBezTo>
                <a:cubicBezTo>
                  <a:pt x="3128" y="9449"/>
                  <a:pt x="3183" y="9685"/>
                  <a:pt x="3299" y="9847"/>
                </a:cubicBezTo>
                <a:cubicBezTo>
                  <a:pt x="3361" y="9934"/>
                  <a:pt x="3500" y="9943"/>
                  <a:pt x="3597" y="9922"/>
                </a:cubicBezTo>
                <a:cubicBezTo>
                  <a:pt x="3697" y="9900"/>
                  <a:pt x="3756" y="9776"/>
                  <a:pt x="3795" y="9699"/>
                </a:cubicBezTo>
                <a:cubicBezTo>
                  <a:pt x="3879" y="9531"/>
                  <a:pt x="3889" y="9368"/>
                  <a:pt x="3870" y="9178"/>
                </a:cubicBezTo>
                <a:cubicBezTo>
                  <a:pt x="3852" y="8999"/>
                  <a:pt x="3799" y="8844"/>
                  <a:pt x="3696" y="8706"/>
                </a:cubicBezTo>
                <a:cubicBezTo>
                  <a:pt x="3609" y="8588"/>
                  <a:pt x="3552" y="8571"/>
                  <a:pt x="3448" y="8483"/>
                </a:cubicBezTo>
                <a:cubicBezTo>
                  <a:pt x="3371" y="8418"/>
                  <a:pt x="3348" y="8409"/>
                  <a:pt x="3249" y="8409"/>
                </a:cubicBezTo>
              </a:path>
              <a:path w="6227" h="1687">
                <a:moveTo>
                  <a:pt x="2902" y="9203"/>
                </a:moveTo>
                <a:cubicBezTo>
                  <a:pt x="2964" y="9225"/>
                  <a:pt x="3014" y="9248"/>
                  <a:pt x="3076" y="9252"/>
                </a:cubicBezTo>
                <a:cubicBezTo>
                  <a:pt x="3204" y="9260"/>
                  <a:pt x="3313" y="9277"/>
                  <a:pt x="3448" y="9277"/>
                </a:cubicBezTo>
                <a:cubicBezTo>
                  <a:pt x="3552" y="9277"/>
                  <a:pt x="3945" y="9326"/>
                  <a:pt x="3994" y="9252"/>
                </a:cubicBezTo>
              </a:path>
              <a:path w="6227" h="1687">
                <a:moveTo>
                  <a:pt x="4465" y="9103"/>
                </a:moveTo>
                <a:cubicBezTo>
                  <a:pt x="4611" y="9103"/>
                  <a:pt x="4749" y="9101"/>
                  <a:pt x="4887" y="9079"/>
                </a:cubicBezTo>
                <a:cubicBezTo>
                  <a:pt x="4928" y="9079"/>
                  <a:pt x="4936" y="9079"/>
                  <a:pt x="4961" y="9079"/>
                </a:cubicBezTo>
              </a:path>
              <a:path w="6227" h="1687">
                <a:moveTo>
                  <a:pt x="4415" y="9302"/>
                </a:moveTo>
                <a:cubicBezTo>
                  <a:pt x="4586" y="9302"/>
                  <a:pt x="4775" y="9283"/>
                  <a:pt x="4936" y="9327"/>
                </a:cubicBezTo>
              </a:path>
              <a:path w="6227" h="1687">
                <a:moveTo>
                  <a:pt x="5358" y="8384"/>
                </a:moveTo>
                <a:cubicBezTo>
                  <a:pt x="5433" y="8318"/>
                  <a:pt x="5458" y="8310"/>
                  <a:pt x="5556" y="8310"/>
                </a:cubicBezTo>
                <a:cubicBezTo>
                  <a:pt x="5644" y="8310"/>
                  <a:pt x="5686" y="8304"/>
                  <a:pt x="5755" y="8359"/>
                </a:cubicBezTo>
              </a:path>
              <a:path w="6227" h="1687">
                <a:moveTo>
                  <a:pt x="5705" y="8533"/>
                </a:moveTo>
                <a:cubicBezTo>
                  <a:pt x="5642" y="8583"/>
                  <a:pt x="5456" y="8698"/>
                  <a:pt x="5432" y="8781"/>
                </a:cubicBezTo>
                <a:cubicBezTo>
                  <a:pt x="5419" y="8827"/>
                  <a:pt x="5453" y="8914"/>
                  <a:pt x="5507" y="8930"/>
                </a:cubicBezTo>
                <a:cubicBezTo>
                  <a:pt x="5585" y="8953"/>
                  <a:pt x="5680" y="8919"/>
                  <a:pt x="5755" y="8905"/>
                </a:cubicBezTo>
              </a:path>
              <a:path w="6227" h="1687">
                <a:moveTo>
                  <a:pt x="5928" y="8384"/>
                </a:moveTo>
                <a:cubicBezTo>
                  <a:pt x="6029" y="8334"/>
                  <a:pt x="6095" y="8334"/>
                  <a:pt x="6201" y="8310"/>
                </a:cubicBezTo>
                <a:cubicBezTo>
                  <a:pt x="6283" y="8291"/>
                  <a:pt x="6338" y="8285"/>
                  <a:pt x="6424" y="8285"/>
                </a:cubicBezTo>
              </a:path>
              <a:path w="6227" h="1687">
                <a:moveTo>
                  <a:pt x="6127" y="8434"/>
                </a:moveTo>
                <a:cubicBezTo>
                  <a:pt x="6112" y="8575"/>
                  <a:pt x="6075" y="8718"/>
                  <a:pt x="6127" y="8855"/>
                </a:cubicBezTo>
                <a:cubicBezTo>
                  <a:pt x="6147" y="8895"/>
                  <a:pt x="6145" y="8912"/>
                  <a:pt x="6176" y="8905"/>
                </a:cubicBezTo>
              </a:path>
              <a:path w="6227" h="1687">
                <a:moveTo>
                  <a:pt x="6325" y="8310"/>
                </a:moveTo>
                <a:cubicBezTo>
                  <a:pt x="6325" y="8414"/>
                  <a:pt x="6295" y="8533"/>
                  <a:pt x="6300" y="8632"/>
                </a:cubicBezTo>
                <a:cubicBezTo>
                  <a:pt x="6307" y="8767"/>
                  <a:pt x="6355" y="8842"/>
                  <a:pt x="6424" y="8954"/>
                </a:cubicBezTo>
                <a:cubicBezTo>
                  <a:pt x="6444" y="8995"/>
                  <a:pt x="6453" y="9001"/>
                  <a:pt x="6449" y="9029"/>
                </a:cubicBezTo>
              </a:path>
              <a:path w="6227" h="1687">
                <a:moveTo>
                  <a:pt x="5606" y="9029"/>
                </a:moveTo>
                <a:cubicBezTo>
                  <a:pt x="5726" y="8983"/>
                  <a:pt x="5874" y="8988"/>
                  <a:pt x="6003" y="8979"/>
                </a:cubicBezTo>
                <a:cubicBezTo>
                  <a:pt x="6150" y="8969"/>
                  <a:pt x="6301" y="8979"/>
                  <a:pt x="6449" y="8979"/>
                </a:cubicBezTo>
              </a:path>
              <a:path w="6227" h="1687">
                <a:moveTo>
                  <a:pt x="5928" y="9327"/>
                </a:moveTo>
                <a:cubicBezTo>
                  <a:pt x="5919" y="9288"/>
                  <a:pt x="5981" y="9237"/>
                  <a:pt x="6052" y="9227"/>
                </a:cubicBezTo>
                <a:cubicBezTo>
                  <a:pt x="6134" y="9215"/>
                  <a:pt x="6252" y="9199"/>
                  <a:pt x="6276" y="9302"/>
                </a:cubicBezTo>
                <a:cubicBezTo>
                  <a:pt x="6293" y="9372"/>
                  <a:pt x="6267" y="9439"/>
                  <a:pt x="6201" y="9475"/>
                </a:cubicBezTo>
                <a:cubicBezTo>
                  <a:pt x="6125" y="9516"/>
                  <a:pt x="5867" y="9525"/>
                  <a:pt x="5953" y="9525"/>
                </a:cubicBezTo>
                <a:cubicBezTo>
                  <a:pt x="6059" y="9525"/>
                  <a:pt x="6193" y="9526"/>
                  <a:pt x="6276" y="9599"/>
                </a:cubicBezTo>
                <a:cubicBezTo>
                  <a:pt x="6322" y="9639"/>
                  <a:pt x="6409" y="9789"/>
                  <a:pt x="6400" y="9847"/>
                </a:cubicBezTo>
                <a:cubicBezTo>
                  <a:pt x="6386" y="9935"/>
                  <a:pt x="6270" y="9962"/>
                  <a:pt x="6201" y="9971"/>
                </a:cubicBezTo>
                <a:cubicBezTo>
                  <a:pt x="6114" y="9983"/>
                  <a:pt x="6010" y="9978"/>
                  <a:pt x="5928" y="9947"/>
                </a:cubicBezTo>
                <a:cubicBezTo>
                  <a:pt x="5866" y="9924"/>
                  <a:pt x="5860" y="9901"/>
                  <a:pt x="5829" y="9847"/>
                </a:cubicBezTo>
              </a:path>
              <a:path w="6227" h="1687">
                <a:moveTo>
                  <a:pt x="7045" y="8607"/>
                </a:moveTo>
                <a:cubicBezTo>
                  <a:pt x="7037" y="8632"/>
                  <a:pt x="7028" y="8657"/>
                  <a:pt x="7020" y="8682"/>
                </a:cubicBezTo>
              </a:path>
              <a:path w="6227" h="1687">
                <a:moveTo>
                  <a:pt x="7144" y="9277"/>
                </a:moveTo>
                <a:cubicBezTo>
                  <a:pt x="7184" y="9419"/>
                  <a:pt x="7200" y="9488"/>
                  <a:pt x="7169" y="9624"/>
                </a:cubicBezTo>
                <a:cubicBezTo>
                  <a:pt x="7158" y="9670"/>
                  <a:pt x="7119" y="9802"/>
                  <a:pt x="7045" y="9798"/>
                </a:cubicBezTo>
                <a:cubicBezTo>
                  <a:pt x="7028" y="9790"/>
                  <a:pt x="7012" y="9781"/>
                  <a:pt x="6995" y="9773"/>
                </a:cubicBezTo>
              </a:path>
              <a:path w="6227" h="1687">
                <a:moveTo>
                  <a:pt x="7615" y="8657"/>
                </a:moveTo>
                <a:cubicBezTo>
                  <a:pt x="7620" y="8800"/>
                  <a:pt x="7611" y="8985"/>
                  <a:pt x="7640" y="9128"/>
                </a:cubicBezTo>
                <a:cubicBezTo>
                  <a:pt x="7658" y="9219"/>
                  <a:pt x="7686" y="9304"/>
                  <a:pt x="7689" y="9401"/>
                </a:cubicBezTo>
                <a:cubicBezTo>
                  <a:pt x="7689" y="9426"/>
                  <a:pt x="7689" y="9450"/>
                  <a:pt x="7689" y="9475"/>
                </a:cubicBezTo>
              </a:path>
              <a:path w="6227" h="1687">
                <a:moveTo>
                  <a:pt x="7913" y="8806"/>
                </a:moveTo>
                <a:cubicBezTo>
                  <a:pt x="7970" y="8731"/>
                  <a:pt x="8047" y="8593"/>
                  <a:pt x="8161" y="8706"/>
                </a:cubicBezTo>
                <a:cubicBezTo>
                  <a:pt x="8216" y="8760"/>
                  <a:pt x="8224" y="8886"/>
                  <a:pt x="8210" y="8954"/>
                </a:cubicBezTo>
                <a:cubicBezTo>
                  <a:pt x="8188" y="9065"/>
                  <a:pt x="8126" y="9165"/>
                  <a:pt x="8062" y="9252"/>
                </a:cubicBezTo>
                <a:cubicBezTo>
                  <a:pt x="8005" y="9329"/>
                  <a:pt x="7969" y="9371"/>
                  <a:pt x="8012" y="9451"/>
                </a:cubicBezTo>
                <a:cubicBezTo>
                  <a:pt x="8042" y="9507"/>
                  <a:pt x="8092" y="9554"/>
                  <a:pt x="8161" y="9550"/>
                </a:cubicBezTo>
                <a:cubicBezTo>
                  <a:pt x="8301" y="9541"/>
                  <a:pt x="8332" y="9526"/>
                  <a:pt x="8434" y="9451"/>
                </a:cubicBezTo>
              </a:path>
              <a:path w="6227" h="1687">
                <a:moveTo>
                  <a:pt x="8632" y="8756"/>
                </a:moveTo>
                <a:cubicBezTo>
                  <a:pt x="8569" y="8928"/>
                  <a:pt x="8505" y="9066"/>
                  <a:pt x="8533" y="9252"/>
                </a:cubicBezTo>
                <a:cubicBezTo>
                  <a:pt x="8547" y="9347"/>
                  <a:pt x="8674" y="9462"/>
                  <a:pt x="8756" y="9500"/>
                </a:cubicBezTo>
                <a:cubicBezTo>
                  <a:pt x="8849" y="9542"/>
                  <a:pt x="8885" y="9482"/>
                  <a:pt x="8930" y="9426"/>
                </a:cubicBezTo>
                <a:cubicBezTo>
                  <a:pt x="8994" y="9348"/>
                  <a:pt x="9029" y="9287"/>
                  <a:pt x="9004" y="9178"/>
                </a:cubicBezTo>
                <a:cubicBezTo>
                  <a:pt x="8981" y="9079"/>
                  <a:pt x="8897" y="9014"/>
                  <a:pt x="8830" y="8954"/>
                </a:cubicBezTo>
                <a:cubicBezTo>
                  <a:pt x="8784" y="8908"/>
                  <a:pt x="8770" y="8896"/>
                  <a:pt x="8756" y="8855"/>
                </a:cubicBezTo>
              </a:path>
              <a:path w="6227" h="1687">
                <a:moveTo>
                  <a:pt x="8880" y="8508"/>
                </a:moveTo>
                <a:cubicBezTo>
                  <a:pt x="8917" y="8627"/>
                  <a:pt x="8935" y="8668"/>
                  <a:pt x="9079" y="8632"/>
                </a:cubicBezTo>
                <a:cubicBezTo>
                  <a:pt x="9174" y="8608"/>
                  <a:pt x="9133" y="8495"/>
                  <a:pt x="9079" y="8458"/>
                </a:cubicBezTo>
                <a:cubicBezTo>
                  <a:pt x="9024" y="8421"/>
                  <a:pt x="8919" y="8422"/>
                  <a:pt x="8855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1" name="Ink 4"/>
          <p:cNvSpPr/>
          <p:nvPr/>
        </p:nvSpPr>
        <p:spPr>
          <a:xfrm>
            <a:off x="1071720" y="3963960"/>
            <a:ext cx="357120" cy="546120"/>
          </a:xfrm>
          <a:custGeom>
            <a:avLst/>
            <a:gdLst/>
            <a:ahLst/>
            <a:rect l="l" t="t" r="r" b="b"/>
            <a:pathLst>
              <a:path w="993" h="1514">
                <a:moveTo>
                  <a:pt x="3423" y="11162"/>
                </a:moveTo>
                <a:cubicBezTo>
                  <a:pt x="3388" y="11277"/>
                  <a:pt x="3354" y="11392"/>
                  <a:pt x="3324" y="11509"/>
                </a:cubicBezTo>
                <a:cubicBezTo>
                  <a:pt x="3283" y="11667"/>
                  <a:pt x="3266" y="11775"/>
                  <a:pt x="3274" y="11931"/>
                </a:cubicBezTo>
                <a:cubicBezTo>
                  <a:pt x="3281" y="12065"/>
                  <a:pt x="3303" y="12212"/>
                  <a:pt x="3373" y="12328"/>
                </a:cubicBezTo>
                <a:cubicBezTo>
                  <a:pt x="3417" y="12402"/>
                  <a:pt x="3535" y="12504"/>
                  <a:pt x="3621" y="12526"/>
                </a:cubicBezTo>
                <a:cubicBezTo>
                  <a:pt x="3744" y="12558"/>
                  <a:pt x="3845" y="12418"/>
                  <a:pt x="3894" y="12328"/>
                </a:cubicBezTo>
                <a:cubicBezTo>
                  <a:pt x="3981" y="12167"/>
                  <a:pt x="3969" y="12009"/>
                  <a:pt x="3969" y="11832"/>
                </a:cubicBezTo>
                <a:cubicBezTo>
                  <a:pt x="3969" y="11661"/>
                  <a:pt x="3958" y="11543"/>
                  <a:pt x="3894" y="11385"/>
                </a:cubicBezTo>
                <a:cubicBezTo>
                  <a:pt x="3838" y="11245"/>
                  <a:pt x="3779" y="11185"/>
                  <a:pt x="3671" y="11088"/>
                </a:cubicBezTo>
                <a:cubicBezTo>
                  <a:pt x="3598" y="11023"/>
                  <a:pt x="3533" y="11024"/>
                  <a:pt x="3448" y="11038"/>
                </a:cubicBezTo>
                <a:cubicBezTo>
                  <a:pt x="3440" y="11038"/>
                  <a:pt x="3431" y="11038"/>
                  <a:pt x="3423" y="11038"/>
                </a:cubicBezTo>
              </a:path>
              <a:path w="993" h="1514">
                <a:moveTo>
                  <a:pt x="2977" y="11931"/>
                </a:moveTo>
                <a:cubicBezTo>
                  <a:pt x="3158" y="11956"/>
                  <a:pt x="3338" y="11956"/>
                  <a:pt x="3522" y="11956"/>
                </a:cubicBezTo>
                <a:cubicBezTo>
                  <a:pt x="3613" y="11956"/>
                  <a:pt x="3704" y="11956"/>
                  <a:pt x="3795" y="119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2" name="Ink 5"/>
          <p:cNvSpPr/>
          <p:nvPr/>
        </p:nvSpPr>
        <p:spPr>
          <a:xfrm>
            <a:off x="1608120" y="4106880"/>
            <a:ext cx="1874880" cy="679320"/>
          </a:xfrm>
          <a:custGeom>
            <a:avLst/>
            <a:gdLst/>
            <a:ahLst/>
            <a:rect l="l" t="t" r="r" b="b"/>
            <a:pathLst>
              <a:path w="5210" h="1886">
                <a:moveTo>
                  <a:pt x="4514" y="11807"/>
                </a:moveTo>
                <a:cubicBezTo>
                  <a:pt x="4663" y="11807"/>
                  <a:pt x="4679" y="11807"/>
                  <a:pt x="4762" y="11807"/>
                </a:cubicBezTo>
              </a:path>
              <a:path w="5210" h="1886">
                <a:moveTo>
                  <a:pt x="4465" y="11981"/>
                </a:moveTo>
                <a:cubicBezTo>
                  <a:pt x="4549" y="12043"/>
                  <a:pt x="4602" y="12050"/>
                  <a:pt x="4713" y="12055"/>
                </a:cubicBezTo>
                <a:cubicBezTo>
                  <a:pt x="4772" y="12055"/>
                  <a:pt x="4798" y="12052"/>
                  <a:pt x="4837" y="12030"/>
                </a:cubicBezTo>
              </a:path>
              <a:path w="5210" h="1886">
                <a:moveTo>
                  <a:pt x="5159" y="11584"/>
                </a:moveTo>
                <a:cubicBezTo>
                  <a:pt x="5208" y="11535"/>
                  <a:pt x="5236" y="11512"/>
                  <a:pt x="5308" y="11509"/>
                </a:cubicBezTo>
                <a:cubicBezTo>
                  <a:pt x="5385" y="11506"/>
                  <a:pt x="5544" y="11534"/>
                  <a:pt x="5606" y="11584"/>
                </a:cubicBezTo>
                <a:cubicBezTo>
                  <a:pt x="5683" y="11647"/>
                  <a:pt x="5640" y="11738"/>
                  <a:pt x="5606" y="11807"/>
                </a:cubicBezTo>
                <a:cubicBezTo>
                  <a:pt x="5528" y="11967"/>
                  <a:pt x="5374" y="12080"/>
                  <a:pt x="5283" y="12229"/>
                </a:cubicBezTo>
                <a:cubicBezTo>
                  <a:pt x="5249" y="12284"/>
                  <a:pt x="5192" y="12436"/>
                  <a:pt x="5209" y="12502"/>
                </a:cubicBezTo>
                <a:cubicBezTo>
                  <a:pt x="5222" y="12552"/>
                  <a:pt x="5378" y="12597"/>
                  <a:pt x="5407" y="12601"/>
                </a:cubicBezTo>
                <a:cubicBezTo>
                  <a:pt x="5517" y="12617"/>
                  <a:pt x="5623" y="12559"/>
                  <a:pt x="5705" y="12502"/>
                </a:cubicBezTo>
              </a:path>
              <a:path w="5210" h="1886">
                <a:moveTo>
                  <a:pt x="5879" y="11881"/>
                </a:moveTo>
                <a:cubicBezTo>
                  <a:pt x="5902" y="12091"/>
                  <a:pt x="5876" y="12204"/>
                  <a:pt x="6028" y="12328"/>
                </a:cubicBezTo>
                <a:cubicBezTo>
                  <a:pt x="6086" y="12375"/>
                  <a:pt x="6180" y="12358"/>
                  <a:pt x="6226" y="12303"/>
                </a:cubicBezTo>
                <a:cubicBezTo>
                  <a:pt x="6282" y="12237"/>
                  <a:pt x="6298" y="12160"/>
                  <a:pt x="6325" y="12080"/>
                </a:cubicBezTo>
              </a:path>
              <a:path w="5210" h="1886">
                <a:moveTo>
                  <a:pt x="6300" y="11658"/>
                </a:moveTo>
                <a:cubicBezTo>
                  <a:pt x="6229" y="11854"/>
                  <a:pt x="6256" y="12093"/>
                  <a:pt x="6276" y="12303"/>
                </a:cubicBezTo>
                <a:cubicBezTo>
                  <a:pt x="6289" y="12446"/>
                  <a:pt x="6326" y="12584"/>
                  <a:pt x="6350" y="12725"/>
                </a:cubicBezTo>
                <a:cubicBezTo>
                  <a:pt x="6363" y="12804"/>
                  <a:pt x="6336" y="12838"/>
                  <a:pt x="6400" y="12774"/>
                </a:cubicBezTo>
              </a:path>
              <a:path w="5210" h="1886">
                <a:moveTo>
                  <a:pt x="6648" y="11832"/>
                </a:moveTo>
                <a:cubicBezTo>
                  <a:pt x="6604" y="11976"/>
                  <a:pt x="6520" y="12173"/>
                  <a:pt x="6524" y="12328"/>
                </a:cubicBezTo>
                <a:cubicBezTo>
                  <a:pt x="6527" y="12438"/>
                  <a:pt x="6581" y="12588"/>
                  <a:pt x="6648" y="12675"/>
                </a:cubicBezTo>
                <a:cubicBezTo>
                  <a:pt x="6711" y="12757"/>
                  <a:pt x="6785" y="12763"/>
                  <a:pt x="6871" y="12725"/>
                </a:cubicBezTo>
                <a:cubicBezTo>
                  <a:pt x="7014" y="12661"/>
                  <a:pt x="7008" y="12521"/>
                  <a:pt x="7020" y="12378"/>
                </a:cubicBezTo>
                <a:cubicBezTo>
                  <a:pt x="7033" y="12221"/>
                  <a:pt x="6983" y="12167"/>
                  <a:pt x="6896" y="12055"/>
                </a:cubicBezTo>
                <a:cubicBezTo>
                  <a:pt x="6849" y="11994"/>
                  <a:pt x="6813" y="11922"/>
                  <a:pt x="6772" y="11857"/>
                </a:cubicBezTo>
              </a:path>
              <a:path w="5210" h="1886">
                <a:moveTo>
                  <a:pt x="7020" y="11410"/>
                </a:moveTo>
                <a:cubicBezTo>
                  <a:pt x="6981" y="11527"/>
                  <a:pt x="6949" y="11546"/>
                  <a:pt x="6995" y="11609"/>
                </a:cubicBezTo>
                <a:cubicBezTo>
                  <a:pt x="7056" y="11639"/>
                  <a:pt x="7127" y="11649"/>
                  <a:pt x="7193" y="11609"/>
                </a:cubicBezTo>
                <a:cubicBezTo>
                  <a:pt x="7268" y="11563"/>
                  <a:pt x="7208" y="11454"/>
                  <a:pt x="7144" y="11435"/>
                </a:cubicBezTo>
                <a:cubicBezTo>
                  <a:pt x="7098" y="11421"/>
                  <a:pt x="7068" y="11417"/>
                  <a:pt x="7020" y="11410"/>
                </a:cubicBezTo>
              </a:path>
              <a:path w="5210" h="1886">
                <a:moveTo>
                  <a:pt x="7615" y="11782"/>
                </a:moveTo>
                <a:cubicBezTo>
                  <a:pt x="7607" y="11790"/>
                  <a:pt x="7598" y="11799"/>
                  <a:pt x="7590" y="11807"/>
                </a:cubicBezTo>
              </a:path>
              <a:path w="5210" h="1886">
                <a:moveTo>
                  <a:pt x="7764" y="12526"/>
                </a:moveTo>
                <a:cubicBezTo>
                  <a:pt x="7764" y="12666"/>
                  <a:pt x="7808" y="12935"/>
                  <a:pt x="7739" y="13072"/>
                </a:cubicBezTo>
                <a:cubicBezTo>
                  <a:pt x="7713" y="13123"/>
                  <a:pt x="7562" y="13289"/>
                  <a:pt x="7491" y="13246"/>
                </a:cubicBezTo>
                <a:cubicBezTo>
                  <a:pt x="7471" y="13205"/>
                  <a:pt x="7462" y="13199"/>
                  <a:pt x="7466" y="13171"/>
                </a:cubicBezTo>
              </a:path>
              <a:path w="5210" h="1886">
                <a:moveTo>
                  <a:pt x="7987" y="11559"/>
                </a:moveTo>
                <a:cubicBezTo>
                  <a:pt x="7979" y="11542"/>
                  <a:pt x="7970" y="11526"/>
                  <a:pt x="7962" y="11509"/>
                </a:cubicBezTo>
                <a:cubicBezTo>
                  <a:pt x="7962" y="11590"/>
                  <a:pt x="7943" y="11686"/>
                  <a:pt x="7987" y="11757"/>
                </a:cubicBezTo>
                <a:cubicBezTo>
                  <a:pt x="8013" y="11798"/>
                  <a:pt x="8139" y="11868"/>
                  <a:pt x="8186" y="11857"/>
                </a:cubicBezTo>
                <a:cubicBezTo>
                  <a:pt x="8202" y="11849"/>
                  <a:pt x="8219" y="11840"/>
                  <a:pt x="8235" y="11832"/>
                </a:cubicBezTo>
              </a:path>
              <a:path w="5210" h="1886">
                <a:moveTo>
                  <a:pt x="8235" y="11509"/>
                </a:moveTo>
                <a:cubicBezTo>
                  <a:pt x="8189" y="11704"/>
                  <a:pt x="8197" y="11811"/>
                  <a:pt x="8210" y="12005"/>
                </a:cubicBezTo>
                <a:cubicBezTo>
                  <a:pt x="8217" y="12103"/>
                  <a:pt x="8227" y="12235"/>
                  <a:pt x="8260" y="12328"/>
                </a:cubicBezTo>
                <a:cubicBezTo>
                  <a:pt x="8283" y="12351"/>
                  <a:pt x="8287" y="12359"/>
                  <a:pt x="8310" y="12353"/>
                </a:cubicBezTo>
              </a:path>
              <a:path w="5210" h="1886">
                <a:moveTo>
                  <a:pt x="8607" y="11509"/>
                </a:moveTo>
                <a:cubicBezTo>
                  <a:pt x="8737" y="11509"/>
                  <a:pt x="8818" y="11521"/>
                  <a:pt x="8930" y="11485"/>
                </a:cubicBezTo>
              </a:path>
              <a:path w="5210" h="1886">
                <a:moveTo>
                  <a:pt x="8607" y="11658"/>
                </a:moveTo>
                <a:cubicBezTo>
                  <a:pt x="8586" y="11710"/>
                  <a:pt x="8417" y="12008"/>
                  <a:pt x="8558" y="12055"/>
                </a:cubicBezTo>
                <a:cubicBezTo>
                  <a:pt x="8566" y="12047"/>
                  <a:pt x="8574" y="12038"/>
                  <a:pt x="8582" y="12030"/>
                </a:cubicBezTo>
              </a:path>
              <a:path w="5210" h="1886">
                <a:moveTo>
                  <a:pt x="8781" y="11534"/>
                </a:moveTo>
                <a:cubicBezTo>
                  <a:pt x="8787" y="11718"/>
                  <a:pt x="8785" y="11901"/>
                  <a:pt x="8830" y="12080"/>
                </a:cubicBezTo>
                <a:cubicBezTo>
                  <a:pt x="8848" y="12150"/>
                  <a:pt x="8865" y="12236"/>
                  <a:pt x="8930" y="12204"/>
                </a:cubicBezTo>
              </a:path>
              <a:path w="5210" h="1886">
                <a:moveTo>
                  <a:pt x="9178" y="11460"/>
                </a:moveTo>
                <a:cubicBezTo>
                  <a:pt x="9113" y="11772"/>
                  <a:pt x="9075" y="12065"/>
                  <a:pt x="9029" y="12378"/>
                </a:cubicBezTo>
                <a:cubicBezTo>
                  <a:pt x="8998" y="12592"/>
                  <a:pt x="8936" y="12806"/>
                  <a:pt x="8930" y="13022"/>
                </a:cubicBezTo>
                <a:cubicBezTo>
                  <a:pt x="8927" y="13143"/>
                  <a:pt x="8874" y="13250"/>
                  <a:pt x="8979" y="13072"/>
                </a:cubicBezTo>
              </a:path>
              <a:path w="5210" h="1886">
                <a:moveTo>
                  <a:pt x="9302" y="12402"/>
                </a:moveTo>
                <a:cubicBezTo>
                  <a:pt x="9404" y="12369"/>
                  <a:pt x="9451" y="12344"/>
                  <a:pt x="9550" y="12378"/>
                </a:cubicBezTo>
                <a:cubicBezTo>
                  <a:pt x="9636" y="12407"/>
                  <a:pt x="9735" y="12471"/>
                  <a:pt x="9649" y="12576"/>
                </a:cubicBezTo>
                <a:cubicBezTo>
                  <a:pt x="9610" y="12623"/>
                  <a:pt x="9523" y="12651"/>
                  <a:pt x="9475" y="12700"/>
                </a:cubicBezTo>
                <a:cubicBezTo>
                  <a:pt x="9467" y="12708"/>
                  <a:pt x="9459" y="12717"/>
                  <a:pt x="9451" y="12725"/>
                </a:cubicBezTo>
                <a:cubicBezTo>
                  <a:pt x="9523" y="12807"/>
                  <a:pt x="9644" y="12918"/>
                  <a:pt x="9674" y="13022"/>
                </a:cubicBezTo>
                <a:cubicBezTo>
                  <a:pt x="9702" y="13119"/>
                  <a:pt x="9654" y="13225"/>
                  <a:pt x="9575" y="13271"/>
                </a:cubicBezTo>
                <a:cubicBezTo>
                  <a:pt x="9481" y="13325"/>
                  <a:pt x="9383" y="13281"/>
                  <a:pt x="9302" y="13221"/>
                </a:cubicBezTo>
                <a:cubicBezTo>
                  <a:pt x="9256" y="13175"/>
                  <a:pt x="9244" y="13160"/>
                  <a:pt x="9203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9"/>
                </a:solidFill>
                <a:latin typeface="Arial"/>
              </a:rPr>
              <a:t>Find two solutions for the equation.  Give answers in degrees and radians.  (Use the entire unit circle)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sc</a:t>
            </a:r>
            <a:r>
              <a:rPr b="0" lang="el-GR" sz="3200" spc="-1" strike="noStrike">
                <a:solidFill>
                  <a:srgbClr val="e6e6da"/>
                </a:solidFill>
                <a:latin typeface="Verdana"/>
              </a:rPr>
              <a:t>θ</a:t>
            </a: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=2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5" name="Ink 4"/>
          <p:cNvSpPr/>
          <p:nvPr/>
        </p:nvSpPr>
        <p:spPr>
          <a:xfrm>
            <a:off x="2803680" y="2276640"/>
            <a:ext cx="1046160" cy="312480"/>
          </a:xfrm>
          <a:custGeom>
            <a:avLst/>
            <a:gdLst/>
            <a:ahLst/>
            <a:rect l="l" t="t" r="r" b="b"/>
            <a:pathLst>
              <a:path w="2903" h="869">
                <a:moveTo>
                  <a:pt x="8186" y="6672"/>
                </a:moveTo>
                <a:cubicBezTo>
                  <a:pt x="8245" y="6693"/>
                  <a:pt x="8224" y="6588"/>
                  <a:pt x="8186" y="6573"/>
                </a:cubicBezTo>
                <a:cubicBezTo>
                  <a:pt x="8114" y="6545"/>
                  <a:pt x="8028" y="6587"/>
                  <a:pt x="7962" y="6598"/>
                </a:cubicBezTo>
                <a:cubicBezTo>
                  <a:pt x="7864" y="6614"/>
                  <a:pt x="7822" y="6632"/>
                  <a:pt x="7789" y="6722"/>
                </a:cubicBezTo>
                <a:cubicBezTo>
                  <a:pt x="7852" y="6765"/>
                  <a:pt x="7937" y="6798"/>
                  <a:pt x="8012" y="6821"/>
                </a:cubicBezTo>
                <a:cubicBezTo>
                  <a:pt x="8089" y="6845"/>
                  <a:pt x="8260" y="6898"/>
                  <a:pt x="8310" y="6970"/>
                </a:cubicBezTo>
                <a:cubicBezTo>
                  <a:pt x="8334" y="7043"/>
                  <a:pt x="8342" y="7067"/>
                  <a:pt x="8334" y="7119"/>
                </a:cubicBezTo>
                <a:cubicBezTo>
                  <a:pt x="8265" y="7128"/>
                  <a:pt x="8202" y="7160"/>
                  <a:pt x="8136" y="7169"/>
                </a:cubicBezTo>
                <a:cubicBezTo>
                  <a:pt x="8031" y="7183"/>
                  <a:pt x="7933" y="7162"/>
                  <a:pt x="7838" y="7119"/>
                </a:cubicBezTo>
                <a:cubicBezTo>
                  <a:pt x="7789" y="7094"/>
                  <a:pt x="7773" y="7086"/>
                  <a:pt x="7813" y="7045"/>
                </a:cubicBezTo>
              </a:path>
              <a:path w="2903" h="869">
                <a:moveTo>
                  <a:pt x="8508" y="6747"/>
                </a:moveTo>
                <a:cubicBezTo>
                  <a:pt x="8519" y="6845"/>
                  <a:pt x="8517" y="7044"/>
                  <a:pt x="8558" y="7144"/>
                </a:cubicBezTo>
                <a:cubicBezTo>
                  <a:pt x="8580" y="7166"/>
                  <a:pt x="8588" y="7171"/>
                  <a:pt x="8582" y="7193"/>
                </a:cubicBezTo>
              </a:path>
              <a:path w="2903" h="869">
                <a:moveTo>
                  <a:pt x="8558" y="6424"/>
                </a:moveTo>
                <a:cubicBezTo>
                  <a:pt x="8581" y="6376"/>
                  <a:pt x="8589" y="6362"/>
                  <a:pt x="8582" y="6325"/>
                </a:cubicBezTo>
              </a:path>
              <a:path w="2903" h="869">
                <a:moveTo>
                  <a:pt x="8731" y="6747"/>
                </a:moveTo>
                <a:cubicBezTo>
                  <a:pt x="8752" y="6854"/>
                  <a:pt x="8763" y="6971"/>
                  <a:pt x="8806" y="7069"/>
                </a:cubicBezTo>
                <a:cubicBezTo>
                  <a:pt x="8814" y="7086"/>
                  <a:pt x="8822" y="7102"/>
                  <a:pt x="8830" y="7119"/>
                </a:cubicBezTo>
                <a:cubicBezTo>
                  <a:pt x="8863" y="7020"/>
                  <a:pt x="8844" y="6922"/>
                  <a:pt x="8880" y="6821"/>
                </a:cubicBezTo>
                <a:cubicBezTo>
                  <a:pt x="8909" y="6737"/>
                  <a:pt x="8949" y="6726"/>
                  <a:pt x="9029" y="6722"/>
                </a:cubicBezTo>
                <a:cubicBezTo>
                  <a:pt x="9127" y="6717"/>
                  <a:pt x="9148" y="6763"/>
                  <a:pt x="9178" y="6846"/>
                </a:cubicBezTo>
                <a:cubicBezTo>
                  <a:pt x="9212" y="6940"/>
                  <a:pt x="9214" y="7025"/>
                  <a:pt x="9252" y="7119"/>
                </a:cubicBezTo>
                <a:cubicBezTo>
                  <a:pt x="9275" y="7176"/>
                  <a:pt x="9307" y="7114"/>
                  <a:pt x="9327" y="7094"/>
                </a:cubicBezTo>
              </a:path>
              <a:path w="2903" h="869">
                <a:moveTo>
                  <a:pt x="9599" y="6474"/>
                </a:moveTo>
                <a:cubicBezTo>
                  <a:pt x="9539" y="6603"/>
                  <a:pt x="9504" y="6702"/>
                  <a:pt x="9500" y="6846"/>
                </a:cubicBezTo>
                <a:cubicBezTo>
                  <a:pt x="9498" y="6927"/>
                  <a:pt x="9481" y="7054"/>
                  <a:pt x="9550" y="7119"/>
                </a:cubicBezTo>
                <a:cubicBezTo>
                  <a:pt x="9588" y="7154"/>
                  <a:pt x="9700" y="7157"/>
                  <a:pt x="9748" y="7144"/>
                </a:cubicBezTo>
                <a:cubicBezTo>
                  <a:pt x="9879" y="7107"/>
                  <a:pt x="9906" y="6957"/>
                  <a:pt x="9922" y="6846"/>
                </a:cubicBezTo>
                <a:cubicBezTo>
                  <a:pt x="9935" y="6755"/>
                  <a:pt x="9934" y="6629"/>
                  <a:pt x="9847" y="6573"/>
                </a:cubicBezTo>
                <a:cubicBezTo>
                  <a:pt x="9779" y="6530"/>
                  <a:pt x="9655" y="6509"/>
                  <a:pt x="9575" y="6524"/>
                </a:cubicBezTo>
                <a:cubicBezTo>
                  <a:pt x="9550" y="6532"/>
                  <a:pt x="9525" y="6540"/>
                  <a:pt x="9500" y="6548"/>
                </a:cubicBezTo>
              </a:path>
              <a:path w="2903" h="869">
                <a:moveTo>
                  <a:pt x="9277" y="6747"/>
                </a:moveTo>
                <a:cubicBezTo>
                  <a:pt x="9533" y="6747"/>
                  <a:pt x="9775" y="6762"/>
                  <a:pt x="10021" y="6697"/>
                </a:cubicBezTo>
              </a:path>
              <a:path w="2903" h="869">
                <a:moveTo>
                  <a:pt x="10294" y="6648"/>
                </a:moveTo>
                <a:cubicBezTo>
                  <a:pt x="10504" y="6665"/>
                  <a:pt x="10543" y="6609"/>
                  <a:pt x="10616" y="6697"/>
                </a:cubicBezTo>
              </a:path>
              <a:path w="2903" h="869">
                <a:moveTo>
                  <a:pt x="10393" y="6945"/>
                </a:moveTo>
                <a:cubicBezTo>
                  <a:pt x="10502" y="6945"/>
                  <a:pt x="10592" y="6963"/>
                  <a:pt x="10691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6" name="Ink 5"/>
          <p:cNvSpPr/>
          <p:nvPr/>
        </p:nvSpPr>
        <p:spPr>
          <a:xfrm>
            <a:off x="4062240" y="2116080"/>
            <a:ext cx="322560" cy="536760"/>
          </a:xfrm>
          <a:custGeom>
            <a:avLst/>
            <a:gdLst/>
            <a:ahLst/>
            <a:rect l="l" t="t" r="r" b="b"/>
            <a:pathLst>
              <a:path w="894" h="1489">
                <a:moveTo>
                  <a:pt x="11460" y="5879"/>
                </a:moveTo>
                <a:cubicBezTo>
                  <a:pt x="11460" y="5972"/>
                  <a:pt x="11420" y="6062"/>
                  <a:pt x="11435" y="6152"/>
                </a:cubicBezTo>
                <a:cubicBezTo>
                  <a:pt x="11453" y="6258"/>
                  <a:pt x="11514" y="6368"/>
                  <a:pt x="11534" y="6474"/>
                </a:cubicBezTo>
                <a:cubicBezTo>
                  <a:pt x="11534" y="6532"/>
                  <a:pt x="11534" y="6540"/>
                  <a:pt x="11534" y="6573"/>
                </a:cubicBezTo>
              </a:path>
              <a:path w="894" h="1489">
                <a:moveTo>
                  <a:pt x="11286" y="6623"/>
                </a:moveTo>
                <a:cubicBezTo>
                  <a:pt x="11473" y="6617"/>
                  <a:pt x="11607" y="6602"/>
                  <a:pt x="11782" y="6573"/>
                </a:cubicBezTo>
                <a:cubicBezTo>
                  <a:pt x="11790" y="6573"/>
                  <a:pt x="11799" y="6573"/>
                  <a:pt x="11807" y="6573"/>
                </a:cubicBezTo>
              </a:path>
              <a:path w="894" h="1489">
                <a:moveTo>
                  <a:pt x="11584" y="6896"/>
                </a:moveTo>
                <a:cubicBezTo>
                  <a:pt x="11645" y="6847"/>
                  <a:pt x="11716" y="6838"/>
                  <a:pt x="11782" y="6796"/>
                </a:cubicBezTo>
                <a:cubicBezTo>
                  <a:pt x="11809" y="6779"/>
                  <a:pt x="11939" y="6736"/>
                  <a:pt x="11956" y="6796"/>
                </a:cubicBezTo>
                <a:cubicBezTo>
                  <a:pt x="11987" y="6907"/>
                  <a:pt x="11898" y="6999"/>
                  <a:pt x="11832" y="7069"/>
                </a:cubicBezTo>
                <a:cubicBezTo>
                  <a:pt x="11754" y="7151"/>
                  <a:pt x="11673" y="7248"/>
                  <a:pt x="11584" y="7317"/>
                </a:cubicBezTo>
                <a:cubicBezTo>
                  <a:pt x="11567" y="7325"/>
                  <a:pt x="11551" y="7334"/>
                  <a:pt x="11534" y="7342"/>
                </a:cubicBezTo>
                <a:cubicBezTo>
                  <a:pt x="11621" y="7342"/>
                  <a:pt x="11695" y="7320"/>
                  <a:pt x="11782" y="7317"/>
                </a:cubicBezTo>
                <a:cubicBezTo>
                  <a:pt x="11890" y="7313"/>
                  <a:pt x="11980" y="7325"/>
                  <a:pt x="12080" y="7342"/>
                </a:cubicBezTo>
                <a:cubicBezTo>
                  <a:pt x="12134" y="7351"/>
                  <a:pt x="12160" y="7361"/>
                  <a:pt x="12179" y="73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7" name="Ink 6"/>
          <p:cNvSpPr/>
          <p:nvPr/>
        </p:nvSpPr>
        <p:spPr>
          <a:xfrm>
            <a:off x="874800" y="3348000"/>
            <a:ext cx="366480" cy="39384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2778" y="9500"/>
                </a:moveTo>
                <a:cubicBezTo>
                  <a:pt x="2724" y="9708"/>
                  <a:pt x="2679" y="9862"/>
                  <a:pt x="2679" y="10071"/>
                </a:cubicBezTo>
                <a:cubicBezTo>
                  <a:pt x="2679" y="10203"/>
                  <a:pt x="2713" y="10255"/>
                  <a:pt x="2803" y="10344"/>
                </a:cubicBezTo>
                <a:cubicBezTo>
                  <a:pt x="2867" y="10408"/>
                  <a:pt x="2966" y="10418"/>
                  <a:pt x="3051" y="10368"/>
                </a:cubicBezTo>
                <a:cubicBezTo>
                  <a:pt x="3194" y="10284"/>
                  <a:pt x="3267" y="10122"/>
                  <a:pt x="3324" y="9971"/>
                </a:cubicBezTo>
                <a:cubicBezTo>
                  <a:pt x="3392" y="9789"/>
                  <a:pt x="3363" y="9670"/>
                  <a:pt x="3299" y="9500"/>
                </a:cubicBezTo>
                <a:cubicBezTo>
                  <a:pt x="3251" y="9372"/>
                  <a:pt x="3216" y="9315"/>
                  <a:pt x="3076" y="9302"/>
                </a:cubicBezTo>
                <a:cubicBezTo>
                  <a:pt x="2985" y="9294"/>
                  <a:pt x="2885" y="9308"/>
                  <a:pt x="2803" y="9351"/>
                </a:cubicBezTo>
                <a:cubicBezTo>
                  <a:pt x="2755" y="9376"/>
                  <a:pt x="2778" y="9480"/>
                  <a:pt x="2778" y="9525"/>
                </a:cubicBezTo>
              </a:path>
              <a:path w="1018" h="1092">
                <a:moveTo>
                  <a:pt x="2431" y="9872"/>
                </a:moveTo>
                <a:cubicBezTo>
                  <a:pt x="2626" y="9872"/>
                  <a:pt x="2808" y="9861"/>
                  <a:pt x="3001" y="9847"/>
                </a:cubicBezTo>
                <a:cubicBezTo>
                  <a:pt x="3148" y="9837"/>
                  <a:pt x="3300" y="9847"/>
                  <a:pt x="3448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8" name="Ink 7"/>
          <p:cNvSpPr/>
          <p:nvPr/>
        </p:nvSpPr>
        <p:spPr>
          <a:xfrm>
            <a:off x="1490760" y="3537000"/>
            <a:ext cx="135000" cy="106200"/>
          </a:xfrm>
          <a:custGeom>
            <a:avLst/>
            <a:gdLst/>
            <a:ahLst/>
            <a:rect l="l" t="t" r="r" b="b"/>
            <a:pathLst>
              <a:path w="373" h="298">
                <a:moveTo>
                  <a:pt x="4142" y="9823"/>
                </a:moveTo>
                <a:cubicBezTo>
                  <a:pt x="4224" y="9838"/>
                  <a:pt x="4309" y="9858"/>
                  <a:pt x="4390" y="9872"/>
                </a:cubicBezTo>
              </a:path>
              <a:path w="373" h="298">
                <a:moveTo>
                  <a:pt x="4192" y="10071"/>
                </a:moveTo>
                <a:cubicBezTo>
                  <a:pt x="4310" y="10089"/>
                  <a:pt x="4403" y="10110"/>
                  <a:pt x="4514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39" name="Ink 8"/>
          <p:cNvSpPr/>
          <p:nvPr/>
        </p:nvSpPr>
        <p:spPr>
          <a:xfrm>
            <a:off x="1847880" y="3205080"/>
            <a:ext cx="1251000" cy="652680"/>
          </a:xfrm>
          <a:custGeom>
            <a:avLst/>
            <a:gdLst/>
            <a:ahLst/>
            <a:rect l="l" t="t" r="r" b="b"/>
            <a:pathLst>
              <a:path w="3473" h="1812">
                <a:moveTo>
                  <a:pt x="5135" y="8954"/>
                </a:moveTo>
                <a:cubicBezTo>
                  <a:pt x="5287" y="8954"/>
                  <a:pt x="5434" y="8943"/>
                  <a:pt x="5581" y="8930"/>
                </a:cubicBezTo>
                <a:cubicBezTo>
                  <a:pt x="5672" y="8922"/>
                  <a:pt x="5699" y="8935"/>
                  <a:pt x="5779" y="8905"/>
                </a:cubicBezTo>
              </a:path>
              <a:path w="3473" h="1812">
                <a:moveTo>
                  <a:pt x="5457" y="8979"/>
                </a:moveTo>
                <a:cubicBezTo>
                  <a:pt x="5467" y="9138"/>
                  <a:pt x="5461" y="9406"/>
                  <a:pt x="5507" y="9575"/>
                </a:cubicBezTo>
              </a:path>
              <a:path w="3473" h="1812">
                <a:moveTo>
                  <a:pt x="5680" y="8954"/>
                </a:moveTo>
                <a:cubicBezTo>
                  <a:pt x="5687" y="9075"/>
                  <a:pt x="5705" y="9180"/>
                  <a:pt x="5705" y="9302"/>
                </a:cubicBezTo>
                <a:cubicBezTo>
                  <a:pt x="5705" y="9391"/>
                  <a:pt x="5739" y="9465"/>
                  <a:pt x="5755" y="9550"/>
                </a:cubicBezTo>
              </a:path>
              <a:path w="3473" h="1812">
                <a:moveTo>
                  <a:pt x="5259" y="9699"/>
                </a:moveTo>
                <a:cubicBezTo>
                  <a:pt x="5403" y="9699"/>
                  <a:pt x="5538" y="9685"/>
                  <a:pt x="5680" y="9674"/>
                </a:cubicBezTo>
                <a:cubicBezTo>
                  <a:pt x="5779" y="9674"/>
                  <a:pt x="5813" y="9674"/>
                  <a:pt x="5879" y="9674"/>
                </a:cubicBezTo>
              </a:path>
              <a:path w="3473" h="1812">
                <a:moveTo>
                  <a:pt x="5705" y="10021"/>
                </a:moveTo>
                <a:cubicBezTo>
                  <a:pt x="5694" y="10120"/>
                  <a:pt x="5647" y="10332"/>
                  <a:pt x="5680" y="10443"/>
                </a:cubicBezTo>
                <a:cubicBezTo>
                  <a:pt x="5704" y="10523"/>
                  <a:pt x="5814" y="10559"/>
                  <a:pt x="5879" y="10592"/>
                </a:cubicBezTo>
                <a:cubicBezTo>
                  <a:pt x="5939" y="10622"/>
                  <a:pt x="6030" y="10598"/>
                  <a:pt x="6077" y="10542"/>
                </a:cubicBezTo>
                <a:cubicBezTo>
                  <a:pt x="6140" y="10467"/>
                  <a:pt x="6181" y="10412"/>
                  <a:pt x="6127" y="10319"/>
                </a:cubicBezTo>
                <a:cubicBezTo>
                  <a:pt x="6092" y="10257"/>
                  <a:pt x="6043" y="10230"/>
                  <a:pt x="5978" y="10269"/>
                </a:cubicBezTo>
                <a:cubicBezTo>
                  <a:pt x="5904" y="10314"/>
                  <a:pt x="5867" y="10399"/>
                  <a:pt x="5854" y="10468"/>
                </a:cubicBezTo>
                <a:cubicBezTo>
                  <a:pt x="5845" y="10514"/>
                  <a:pt x="5896" y="10616"/>
                  <a:pt x="5953" y="10616"/>
                </a:cubicBezTo>
                <a:cubicBezTo>
                  <a:pt x="5994" y="10608"/>
                  <a:pt x="6036" y="10600"/>
                  <a:pt x="6077" y="10592"/>
                </a:cubicBezTo>
              </a:path>
              <a:path w="3473" h="1812">
                <a:moveTo>
                  <a:pt x="6548" y="9376"/>
                </a:moveTo>
                <a:lnTo>
                  <a:pt x="6548" y="9376"/>
                </a:lnTo>
              </a:path>
              <a:path w="3473" h="1812">
                <a:moveTo>
                  <a:pt x="6747" y="10071"/>
                </a:moveTo>
                <a:cubicBezTo>
                  <a:pt x="6782" y="10322"/>
                  <a:pt x="6800" y="10403"/>
                  <a:pt x="6772" y="10616"/>
                </a:cubicBezTo>
                <a:cubicBezTo>
                  <a:pt x="6764" y="10678"/>
                  <a:pt x="6765" y="10673"/>
                  <a:pt x="6722" y="10716"/>
                </a:cubicBezTo>
              </a:path>
              <a:path w="3473" h="1812">
                <a:moveTo>
                  <a:pt x="7144" y="9500"/>
                </a:moveTo>
                <a:cubicBezTo>
                  <a:pt x="7264" y="9477"/>
                  <a:pt x="7337" y="9455"/>
                  <a:pt x="7441" y="9525"/>
                </a:cubicBezTo>
                <a:cubicBezTo>
                  <a:pt x="7530" y="9585"/>
                  <a:pt x="7580" y="9641"/>
                  <a:pt x="7541" y="9748"/>
                </a:cubicBezTo>
                <a:cubicBezTo>
                  <a:pt x="7519" y="9807"/>
                  <a:pt x="7450" y="9876"/>
                  <a:pt x="7392" y="9897"/>
                </a:cubicBezTo>
                <a:cubicBezTo>
                  <a:pt x="7322" y="9922"/>
                  <a:pt x="7282" y="9938"/>
                  <a:pt x="7218" y="9947"/>
                </a:cubicBezTo>
                <a:cubicBezTo>
                  <a:pt x="7298" y="9947"/>
                  <a:pt x="7367" y="9940"/>
                  <a:pt x="7441" y="9971"/>
                </a:cubicBezTo>
                <a:cubicBezTo>
                  <a:pt x="7541" y="10013"/>
                  <a:pt x="7607" y="10068"/>
                  <a:pt x="7640" y="10170"/>
                </a:cubicBezTo>
                <a:cubicBezTo>
                  <a:pt x="7675" y="10278"/>
                  <a:pt x="7677" y="10381"/>
                  <a:pt x="7590" y="10468"/>
                </a:cubicBezTo>
                <a:cubicBezTo>
                  <a:pt x="7534" y="10524"/>
                  <a:pt x="7431" y="10531"/>
                  <a:pt x="7367" y="10492"/>
                </a:cubicBezTo>
                <a:cubicBezTo>
                  <a:pt x="7332" y="10459"/>
                  <a:pt x="7324" y="10437"/>
                  <a:pt x="7342" y="10393"/>
                </a:cubicBezTo>
              </a:path>
              <a:path w="3473" h="1812">
                <a:moveTo>
                  <a:pt x="7962" y="9599"/>
                </a:moveTo>
                <a:cubicBezTo>
                  <a:pt x="7940" y="9690"/>
                  <a:pt x="7824" y="9964"/>
                  <a:pt x="7838" y="10071"/>
                </a:cubicBezTo>
                <a:cubicBezTo>
                  <a:pt x="7858" y="10221"/>
                  <a:pt x="7966" y="10361"/>
                  <a:pt x="8086" y="10443"/>
                </a:cubicBezTo>
                <a:cubicBezTo>
                  <a:pt x="8138" y="10479"/>
                  <a:pt x="8245" y="10476"/>
                  <a:pt x="8285" y="10418"/>
                </a:cubicBezTo>
                <a:cubicBezTo>
                  <a:pt x="8345" y="10331"/>
                  <a:pt x="8334" y="10219"/>
                  <a:pt x="8334" y="10120"/>
                </a:cubicBezTo>
                <a:cubicBezTo>
                  <a:pt x="8334" y="9956"/>
                  <a:pt x="8264" y="9983"/>
                  <a:pt x="8186" y="9872"/>
                </a:cubicBezTo>
                <a:cubicBezTo>
                  <a:pt x="8146" y="9815"/>
                  <a:pt x="8096" y="9740"/>
                  <a:pt x="8086" y="9674"/>
                </a:cubicBezTo>
              </a:path>
              <a:path w="3473" h="1812">
                <a:moveTo>
                  <a:pt x="8334" y="9252"/>
                </a:moveTo>
                <a:cubicBezTo>
                  <a:pt x="8265" y="9295"/>
                  <a:pt x="8254" y="9301"/>
                  <a:pt x="8235" y="9376"/>
                </a:cubicBezTo>
                <a:cubicBezTo>
                  <a:pt x="8339" y="9449"/>
                  <a:pt x="8445" y="9498"/>
                  <a:pt x="8558" y="9376"/>
                </a:cubicBezTo>
                <a:cubicBezTo>
                  <a:pt x="8611" y="9319"/>
                  <a:pt x="8612" y="9259"/>
                  <a:pt x="8582" y="9203"/>
                </a:cubicBezTo>
                <a:cubicBezTo>
                  <a:pt x="8536" y="9116"/>
                  <a:pt x="8382" y="9111"/>
                  <a:pt x="8285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0" name="Ink 9"/>
          <p:cNvSpPr/>
          <p:nvPr/>
        </p:nvSpPr>
        <p:spPr>
          <a:xfrm>
            <a:off x="928800" y="4054320"/>
            <a:ext cx="1197000" cy="704880"/>
          </a:xfrm>
          <a:custGeom>
            <a:avLst/>
            <a:gdLst/>
            <a:ahLst/>
            <a:rect l="l" t="t" r="r" b="b"/>
            <a:pathLst>
              <a:path w="3325" h="1961">
                <a:moveTo>
                  <a:pt x="2877" y="11733"/>
                </a:moveTo>
                <a:cubicBezTo>
                  <a:pt x="2832" y="11847"/>
                  <a:pt x="2806" y="11961"/>
                  <a:pt x="2778" y="12080"/>
                </a:cubicBezTo>
                <a:cubicBezTo>
                  <a:pt x="2739" y="12242"/>
                  <a:pt x="2719" y="12361"/>
                  <a:pt x="2753" y="12526"/>
                </a:cubicBezTo>
                <a:cubicBezTo>
                  <a:pt x="2793" y="12725"/>
                  <a:pt x="2882" y="12789"/>
                  <a:pt x="3001" y="12923"/>
                </a:cubicBezTo>
                <a:cubicBezTo>
                  <a:pt x="3060" y="12989"/>
                  <a:pt x="3140" y="13034"/>
                  <a:pt x="3225" y="12948"/>
                </a:cubicBezTo>
                <a:cubicBezTo>
                  <a:pt x="3324" y="12848"/>
                  <a:pt x="3363" y="12661"/>
                  <a:pt x="3373" y="12526"/>
                </a:cubicBezTo>
                <a:cubicBezTo>
                  <a:pt x="3388" y="12331"/>
                  <a:pt x="3358" y="12159"/>
                  <a:pt x="3274" y="11981"/>
                </a:cubicBezTo>
                <a:cubicBezTo>
                  <a:pt x="3220" y="11866"/>
                  <a:pt x="3151" y="11783"/>
                  <a:pt x="3051" y="11708"/>
                </a:cubicBezTo>
                <a:cubicBezTo>
                  <a:pt x="2970" y="11647"/>
                  <a:pt x="2901" y="11642"/>
                  <a:pt x="2803" y="11633"/>
                </a:cubicBezTo>
              </a:path>
              <a:path w="3325" h="1961">
                <a:moveTo>
                  <a:pt x="2580" y="12129"/>
                </a:moveTo>
                <a:cubicBezTo>
                  <a:pt x="2778" y="12154"/>
                  <a:pt x="2977" y="12179"/>
                  <a:pt x="3175" y="12204"/>
                </a:cubicBezTo>
              </a:path>
              <a:path w="3325" h="1961">
                <a:moveTo>
                  <a:pt x="3795" y="12129"/>
                </a:moveTo>
                <a:cubicBezTo>
                  <a:pt x="3932" y="12115"/>
                  <a:pt x="4056" y="12105"/>
                  <a:pt x="4192" y="12105"/>
                </a:cubicBezTo>
              </a:path>
              <a:path w="3325" h="1961">
                <a:moveTo>
                  <a:pt x="3944" y="12353"/>
                </a:moveTo>
                <a:cubicBezTo>
                  <a:pt x="4062" y="12389"/>
                  <a:pt x="4131" y="12417"/>
                  <a:pt x="4242" y="12427"/>
                </a:cubicBezTo>
              </a:path>
              <a:path w="3325" h="1961">
                <a:moveTo>
                  <a:pt x="4638" y="11534"/>
                </a:moveTo>
                <a:cubicBezTo>
                  <a:pt x="4746" y="11524"/>
                  <a:pt x="4829" y="11522"/>
                  <a:pt x="4936" y="11534"/>
                </a:cubicBezTo>
                <a:cubicBezTo>
                  <a:pt x="5041" y="11546"/>
                  <a:pt x="5046" y="11535"/>
                  <a:pt x="5035" y="11460"/>
                </a:cubicBezTo>
              </a:path>
              <a:path w="3325" h="1961">
                <a:moveTo>
                  <a:pt x="4713" y="11509"/>
                </a:moveTo>
                <a:cubicBezTo>
                  <a:pt x="4729" y="11641"/>
                  <a:pt x="4780" y="11675"/>
                  <a:pt x="4862" y="11782"/>
                </a:cubicBezTo>
                <a:cubicBezTo>
                  <a:pt x="4913" y="11849"/>
                  <a:pt x="4967" y="11934"/>
                  <a:pt x="4911" y="12005"/>
                </a:cubicBezTo>
                <a:cubicBezTo>
                  <a:pt x="4876" y="12050"/>
                  <a:pt x="4821" y="12078"/>
                  <a:pt x="4762" y="12055"/>
                </a:cubicBezTo>
                <a:cubicBezTo>
                  <a:pt x="4677" y="12022"/>
                  <a:pt x="4675" y="11945"/>
                  <a:pt x="4688" y="11881"/>
                </a:cubicBezTo>
              </a:path>
              <a:path w="3325" h="1961">
                <a:moveTo>
                  <a:pt x="5283" y="11385"/>
                </a:moveTo>
                <a:cubicBezTo>
                  <a:pt x="5465" y="11385"/>
                  <a:pt x="5498" y="11385"/>
                  <a:pt x="5606" y="11385"/>
                </a:cubicBezTo>
              </a:path>
              <a:path w="3325" h="1961">
                <a:moveTo>
                  <a:pt x="5358" y="11559"/>
                </a:moveTo>
                <a:cubicBezTo>
                  <a:pt x="5350" y="11586"/>
                  <a:pt x="5243" y="11828"/>
                  <a:pt x="5358" y="11857"/>
                </a:cubicBezTo>
                <a:cubicBezTo>
                  <a:pt x="5358" y="11849"/>
                  <a:pt x="5358" y="11840"/>
                  <a:pt x="5358" y="11832"/>
                </a:cubicBezTo>
              </a:path>
              <a:path w="3325" h="1961">
                <a:moveTo>
                  <a:pt x="5482" y="11261"/>
                </a:moveTo>
                <a:cubicBezTo>
                  <a:pt x="5502" y="11414"/>
                  <a:pt x="5508" y="11612"/>
                  <a:pt x="5581" y="11757"/>
                </a:cubicBezTo>
                <a:cubicBezTo>
                  <a:pt x="5619" y="11833"/>
                  <a:pt x="5648" y="11901"/>
                  <a:pt x="5680" y="11981"/>
                </a:cubicBezTo>
              </a:path>
              <a:path w="3325" h="1961">
                <a:moveTo>
                  <a:pt x="4862" y="12080"/>
                </a:moveTo>
                <a:cubicBezTo>
                  <a:pt x="5023" y="12080"/>
                  <a:pt x="5176" y="12066"/>
                  <a:pt x="5333" y="12055"/>
                </a:cubicBezTo>
                <a:cubicBezTo>
                  <a:pt x="5488" y="12044"/>
                  <a:pt x="5629" y="12024"/>
                  <a:pt x="5779" y="11981"/>
                </a:cubicBezTo>
                <a:cubicBezTo>
                  <a:pt x="5845" y="11959"/>
                  <a:pt x="5860" y="11951"/>
                  <a:pt x="5904" y="11956"/>
                </a:cubicBezTo>
              </a:path>
              <a:path w="3325" h="1961">
                <a:moveTo>
                  <a:pt x="5283" y="12526"/>
                </a:moveTo>
                <a:cubicBezTo>
                  <a:pt x="5206" y="12693"/>
                  <a:pt x="5141" y="12815"/>
                  <a:pt x="5135" y="12998"/>
                </a:cubicBezTo>
                <a:cubicBezTo>
                  <a:pt x="5131" y="13109"/>
                  <a:pt x="5210" y="13155"/>
                  <a:pt x="5308" y="13196"/>
                </a:cubicBezTo>
                <a:cubicBezTo>
                  <a:pt x="5410" y="13239"/>
                  <a:pt x="5521" y="13188"/>
                  <a:pt x="5606" y="13122"/>
                </a:cubicBezTo>
                <a:cubicBezTo>
                  <a:pt x="5658" y="13081"/>
                  <a:pt x="5717" y="12993"/>
                  <a:pt x="5705" y="12923"/>
                </a:cubicBezTo>
                <a:cubicBezTo>
                  <a:pt x="5687" y="12822"/>
                  <a:pt x="5620" y="12788"/>
                  <a:pt x="5531" y="12849"/>
                </a:cubicBezTo>
                <a:cubicBezTo>
                  <a:pt x="5448" y="12905"/>
                  <a:pt x="5381" y="12969"/>
                  <a:pt x="5358" y="13072"/>
                </a:cubicBezTo>
                <a:cubicBezTo>
                  <a:pt x="5344" y="13135"/>
                  <a:pt x="5399" y="13206"/>
                  <a:pt x="5457" y="13221"/>
                </a:cubicBezTo>
                <a:cubicBezTo>
                  <a:pt x="5474" y="13221"/>
                  <a:pt x="5490" y="13221"/>
                  <a:pt x="5507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1" name="Ink 10"/>
          <p:cNvSpPr/>
          <p:nvPr/>
        </p:nvSpPr>
        <p:spPr>
          <a:xfrm>
            <a:off x="2313000" y="4197240"/>
            <a:ext cx="61920" cy="527040"/>
          </a:xfrm>
          <a:custGeom>
            <a:avLst/>
            <a:gdLst/>
            <a:ahLst/>
            <a:rect l="l" t="t" r="r" b="b"/>
            <a:pathLst>
              <a:path w="175" h="1465">
                <a:moveTo>
                  <a:pt x="6424" y="11708"/>
                </a:moveTo>
                <a:cubicBezTo>
                  <a:pt x="6444" y="11667"/>
                  <a:pt x="6453" y="11640"/>
                  <a:pt x="6449" y="11683"/>
                </a:cubicBezTo>
              </a:path>
              <a:path w="175" h="1465">
                <a:moveTo>
                  <a:pt x="6548" y="12378"/>
                </a:moveTo>
                <a:cubicBezTo>
                  <a:pt x="6570" y="12570"/>
                  <a:pt x="6610" y="12758"/>
                  <a:pt x="6573" y="12948"/>
                </a:cubicBezTo>
                <a:cubicBezTo>
                  <a:pt x="6559" y="13020"/>
                  <a:pt x="6520" y="13104"/>
                  <a:pt x="6449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2" name="Ink 11"/>
          <p:cNvSpPr/>
          <p:nvPr/>
        </p:nvSpPr>
        <p:spPr>
          <a:xfrm>
            <a:off x="2562120" y="4133880"/>
            <a:ext cx="600120" cy="447480"/>
          </a:xfrm>
          <a:custGeom>
            <a:avLst/>
            <a:gdLst/>
            <a:ahLst/>
            <a:rect l="l" t="t" r="r" b="b"/>
            <a:pathLst>
              <a:path w="1663" h="1241">
                <a:moveTo>
                  <a:pt x="7119" y="11757"/>
                </a:moveTo>
                <a:cubicBezTo>
                  <a:pt x="7141" y="11897"/>
                  <a:pt x="7122" y="12041"/>
                  <a:pt x="7144" y="12179"/>
                </a:cubicBezTo>
                <a:cubicBezTo>
                  <a:pt x="7161" y="12287"/>
                  <a:pt x="7202" y="12398"/>
                  <a:pt x="7218" y="12502"/>
                </a:cubicBezTo>
                <a:cubicBezTo>
                  <a:pt x="7218" y="12543"/>
                  <a:pt x="7210" y="12559"/>
                  <a:pt x="7243" y="12551"/>
                </a:cubicBezTo>
              </a:path>
              <a:path w="1663" h="1241">
                <a:moveTo>
                  <a:pt x="7541" y="11782"/>
                </a:moveTo>
                <a:cubicBezTo>
                  <a:pt x="7670" y="11702"/>
                  <a:pt x="7765" y="11668"/>
                  <a:pt x="7913" y="11633"/>
                </a:cubicBezTo>
              </a:path>
              <a:path w="1663" h="1241">
                <a:moveTo>
                  <a:pt x="7590" y="11832"/>
                </a:moveTo>
                <a:cubicBezTo>
                  <a:pt x="7538" y="11903"/>
                  <a:pt x="7415" y="12022"/>
                  <a:pt x="7466" y="12129"/>
                </a:cubicBezTo>
                <a:cubicBezTo>
                  <a:pt x="7505" y="12211"/>
                  <a:pt x="7650" y="12277"/>
                  <a:pt x="7714" y="12328"/>
                </a:cubicBezTo>
                <a:cubicBezTo>
                  <a:pt x="7774" y="12376"/>
                  <a:pt x="7876" y="12522"/>
                  <a:pt x="7863" y="12601"/>
                </a:cubicBezTo>
                <a:cubicBezTo>
                  <a:pt x="7849" y="12686"/>
                  <a:pt x="7791" y="12722"/>
                  <a:pt x="7714" y="12725"/>
                </a:cubicBezTo>
                <a:cubicBezTo>
                  <a:pt x="7612" y="12729"/>
                  <a:pt x="7563" y="12741"/>
                  <a:pt x="7541" y="12626"/>
                </a:cubicBezTo>
                <a:cubicBezTo>
                  <a:pt x="7519" y="12514"/>
                  <a:pt x="7570" y="12437"/>
                  <a:pt x="7615" y="12353"/>
                </a:cubicBezTo>
              </a:path>
              <a:path w="1663" h="1241">
                <a:moveTo>
                  <a:pt x="8136" y="11807"/>
                </a:moveTo>
                <a:cubicBezTo>
                  <a:pt x="8066" y="11923"/>
                  <a:pt x="8004" y="11990"/>
                  <a:pt x="7987" y="12129"/>
                </a:cubicBezTo>
                <a:cubicBezTo>
                  <a:pt x="7974" y="12231"/>
                  <a:pt x="7974" y="12387"/>
                  <a:pt x="8037" y="12477"/>
                </a:cubicBezTo>
                <a:cubicBezTo>
                  <a:pt x="8076" y="12532"/>
                  <a:pt x="8182" y="12630"/>
                  <a:pt x="8260" y="12626"/>
                </a:cubicBezTo>
                <a:cubicBezTo>
                  <a:pt x="8326" y="12623"/>
                  <a:pt x="8365" y="12526"/>
                  <a:pt x="8384" y="12477"/>
                </a:cubicBezTo>
                <a:cubicBezTo>
                  <a:pt x="8433" y="12352"/>
                  <a:pt x="8375" y="12259"/>
                  <a:pt x="8310" y="12154"/>
                </a:cubicBezTo>
                <a:cubicBezTo>
                  <a:pt x="8268" y="12088"/>
                  <a:pt x="8242" y="12027"/>
                  <a:pt x="8210" y="11956"/>
                </a:cubicBezTo>
              </a:path>
              <a:path w="1663" h="1241">
                <a:moveTo>
                  <a:pt x="8582" y="11509"/>
                </a:moveTo>
                <a:cubicBezTo>
                  <a:pt x="8558" y="11681"/>
                  <a:pt x="8574" y="11633"/>
                  <a:pt x="8706" y="11708"/>
                </a:cubicBezTo>
                <a:cubicBezTo>
                  <a:pt x="8749" y="11732"/>
                  <a:pt x="8797" y="11701"/>
                  <a:pt x="8781" y="11633"/>
                </a:cubicBezTo>
                <a:cubicBezTo>
                  <a:pt x="8758" y="11534"/>
                  <a:pt x="8630" y="11518"/>
                  <a:pt x="8558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9"/>
                </a:solidFill>
                <a:latin typeface="Arial"/>
              </a:rPr>
              <a:t>Find two solutions for the equation.  Give answers in degrees and radians.  (Use the entire unit circle)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ot</a:t>
            </a:r>
            <a:r>
              <a:rPr b="0" lang="el-GR" sz="3200" spc="-1" strike="noStrike">
                <a:solidFill>
                  <a:srgbClr val="e6e6da"/>
                </a:solidFill>
                <a:latin typeface="Verdana"/>
              </a:rPr>
              <a:t>θ</a:t>
            </a: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=-1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5" name="Ink 4"/>
          <p:cNvSpPr/>
          <p:nvPr/>
        </p:nvSpPr>
        <p:spPr>
          <a:xfrm>
            <a:off x="2786040" y="2241720"/>
            <a:ext cx="1687680" cy="401400"/>
          </a:xfrm>
          <a:custGeom>
            <a:avLst/>
            <a:gdLst/>
            <a:ahLst/>
            <a:rect l="l" t="t" r="r" b="b"/>
            <a:pathLst>
              <a:path w="4689" h="1117">
                <a:moveTo>
                  <a:pt x="8186" y="6226"/>
                </a:moveTo>
                <a:cubicBezTo>
                  <a:pt x="8186" y="6468"/>
                  <a:pt x="8138" y="6764"/>
                  <a:pt x="8210" y="6995"/>
                </a:cubicBezTo>
                <a:cubicBezTo>
                  <a:pt x="8240" y="7093"/>
                  <a:pt x="8313" y="7193"/>
                  <a:pt x="8334" y="7293"/>
                </a:cubicBezTo>
                <a:cubicBezTo>
                  <a:pt x="8334" y="7352"/>
                  <a:pt x="8331" y="7359"/>
                  <a:pt x="8310" y="7268"/>
                </a:cubicBezTo>
              </a:path>
              <a:path w="4689" h="1117">
                <a:moveTo>
                  <a:pt x="7813" y="6821"/>
                </a:moveTo>
                <a:cubicBezTo>
                  <a:pt x="7788" y="6813"/>
                  <a:pt x="7764" y="6804"/>
                  <a:pt x="7739" y="6796"/>
                </a:cubicBezTo>
                <a:cubicBezTo>
                  <a:pt x="7861" y="6796"/>
                  <a:pt x="7992" y="6790"/>
                  <a:pt x="8111" y="6772"/>
                </a:cubicBezTo>
                <a:cubicBezTo>
                  <a:pt x="8299" y="6744"/>
                  <a:pt x="8496" y="6758"/>
                  <a:pt x="8682" y="6722"/>
                </a:cubicBezTo>
                <a:cubicBezTo>
                  <a:pt x="8747" y="6700"/>
                  <a:pt x="8762" y="6692"/>
                  <a:pt x="8806" y="6697"/>
                </a:cubicBezTo>
                <a:cubicBezTo>
                  <a:pt x="8702" y="6801"/>
                  <a:pt x="8598" y="6891"/>
                  <a:pt x="8533" y="7020"/>
                </a:cubicBezTo>
                <a:cubicBezTo>
                  <a:pt x="8499" y="7088"/>
                  <a:pt x="8519" y="7177"/>
                  <a:pt x="8607" y="7193"/>
                </a:cubicBezTo>
                <a:cubicBezTo>
                  <a:pt x="8697" y="7209"/>
                  <a:pt x="8734" y="7183"/>
                  <a:pt x="8806" y="7144"/>
                </a:cubicBezTo>
                <a:cubicBezTo>
                  <a:pt x="8887" y="7101"/>
                  <a:pt x="8880" y="7084"/>
                  <a:pt x="8880" y="6995"/>
                </a:cubicBezTo>
                <a:cubicBezTo>
                  <a:pt x="8880" y="6950"/>
                  <a:pt x="8884" y="6937"/>
                  <a:pt x="8855" y="6921"/>
                </a:cubicBezTo>
                <a:cubicBezTo>
                  <a:pt x="8757" y="6935"/>
                  <a:pt x="8781" y="6972"/>
                  <a:pt x="8781" y="7069"/>
                </a:cubicBezTo>
                <a:cubicBezTo>
                  <a:pt x="8781" y="7169"/>
                  <a:pt x="8967" y="7207"/>
                  <a:pt x="9054" y="7193"/>
                </a:cubicBezTo>
                <a:cubicBezTo>
                  <a:pt x="9070" y="7185"/>
                  <a:pt x="9087" y="7177"/>
                  <a:pt x="9103" y="7169"/>
                </a:cubicBezTo>
              </a:path>
              <a:path w="4689" h="1117">
                <a:moveTo>
                  <a:pt x="9277" y="6796"/>
                </a:moveTo>
                <a:cubicBezTo>
                  <a:pt x="9243" y="6865"/>
                  <a:pt x="9190" y="6943"/>
                  <a:pt x="9178" y="7020"/>
                </a:cubicBezTo>
                <a:cubicBezTo>
                  <a:pt x="9167" y="7089"/>
                  <a:pt x="9180" y="7132"/>
                  <a:pt x="9203" y="7193"/>
                </a:cubicBezTo>
                <a:cubicBezTo>
                  <a:pt x="9260" y="7107"/>
                  <a:pt x="9224" y="7058"/>
                  <a:pt x="9252" y="6970"/>
                </a:cubicBezTo>
                <a:cubicBezTo>
                  <a:pt x="9264" y="6931"/>
                  <a:pt x="9303" y="6882"/>
                  <a:pt x="9327" y="6846"/>
                </a:cubicBezTo>
                <a:cubicBezTo>
                  <a:pt x="9405" y="6924"/>
                  <a:pt x="9433" y="6969"/>
                  <a:pt x="9475" y="7069"/>
                </a:cubicBezTo>
                <a:cubicBezTo>
                  <a:pt x="9493" y="7110"/>
                  <a:pt x="9495" y="7202"/>
                  <a:pt x="9550" y="7218"/>
                </a:cubicBezTo>
                <a:cubicBezTo>
                  <a:pt x="9591" y="7218"/>
                  <a:pt x="9599" y="7218"/>
                  <a:pt x="9624" y="7218"/>
                </a:cubicBezTo>
              </a:path>
              <a:path w="4689" h="1117">
                <a:moveTo>
                  <a:pt x="9971" y="6598"/>
                </a:moveTo>
                <a:cubicBezTo>
                  <a:pt x="9923" y="6722"/>
                  <a:pt x="9826" y="6902"/>
                  <a:pt x="9847" y="7045"/>
                </a:cubicBezTo>
                <a:cubicBezTo>
                  <a:pt x="9861" y="7140"/>
                  <a:pt x="9956" y="7178"/>
                  <a:pt x="10046" y="7169"/>
                </a:cubicBezTo>
                <a:cubicBezTo>
                  <a:pt x="10204" y="7153"/>
                  <a:pt x="10264" y="7111"/>
                  <a:pt x="10319" y="6970"/>
                </a:cubicBezTo>
                <a:cubicBezTo>
                  <a:pt x="10347" y="6898"/>
                  <a:pt x="10367" y="6733"/>
                  <a:pt x="10294" y="6672"/>
                </a:cubicBezTo>
                <a:cubicBezTo>
                  <a:pt x="10217" y="6608"/>
                  <a:pt x="10064" y="6623"/>
                  <a:pt x="9971" y="6623"/>
                </a:cubicBezTo>
                <a:cubicBezTo>
                  <a:pt x="9910" y="6623"/>
                  <a:pt x="9894" y="6614"/>
                  <a:pt x="9872" y="6648"/>
                </a:cubicBezTo>
              </a:path>
              <a:path w="4689" h="1117">
                <a:moveTo>
                  <a:pt x="9723" y="6921"/>
                </a:moveTo>
                <a:cubicBezTo>
                  <a:pt x="9878" y="6921"/>
                  <a:pt x="10018" y="6924"/>
                  <a:pt x="10170" y="6896"/>
                </a:cubicBezTo>
                <a:cubicBezTo>
                  <a:pt x="10286" y="6873"/>
                  <a:pt x="10319" y="6866"/>
                  <a:pt x="10393" y="6846"/>
                </a:cubicBezTo>
              </a:path>
              <a:path w="4689" h="1117">
                <a:moveTo>
                  <a:pt x="10840" y="6722"/>
                </a:moveTo>
                <a:cubicBezTo>
                  <a:pt x="11013" y="6741"/>
                  <a:pt x="11037" y="6750"/>
                  <a:pt x="11137" y="6747"/>
                </a:cubicBezTo>
              </a:path>
              <a:path w="4689" h="1117">
                <a:moveTo>
                  <a:pt x="10889" y="6970"/>
                </a:moveTo>
                <a:cubicBezTo>
                  <a:pt x="10997" y="6970"/>
                  <a:pt x="11104" y="6970"/>
                  <a:pt x="11212" y="6970"/>
                </a:cubicBezTo>
              </a:path>
              <a:path w="4689" h="1117">
                <a:moveTo>
                  <a:pt x="11584" y="6722"/>
                </a:moveTo>
                <a:cubicBezTo>
                  <a:pt x="11774" y="6722"/>
                  <a:pt x="11815" y="6722"/>
                  <a:pt x="11931" y="6722"/>
                </a:cubicBezTo>
              </a:path>
              <a:path w="4689" h="1117">
                <a:moveTo>
                  <a:pt x="12328" y="6251"/>
                </a:moveTo>
                <a:cubicBezTo>
                  <a:pt x="12328" y="6436"/>
                  <a:pt x="12321" y="6614"/>
                  <a:pt x="12353" y="6796"/>
                </a:cubicBezTo>
                <a:cubicBezTo>
                  <a:pt x="12374" y="6913"/>
                  <a:pt x="12403" y="7028"/>
                  <a:pt x="12427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6" name="Ink 5"/>
          <p:cNvSpPr/>
          <p:nvPr/>
        </p:nvSpPr>
        <p:spPr>
          <a:xfrm>
            <a:off x="1062000" y="3321000"/>
            <a:ext cx="465120" cy="519120"/>
          </a:xfrm>
          <a:custGeom>
            <a:avLst/>
            <a:gdLst/>
            <a:ahLst/>
            <a:rect l="l" t="t" r="r" b="b"/>
            <a:pathLst>
              <a:path w="1291" h="1440">
                <a:moveTo>
                  <a:pt x="3249" y="9376"/>
                </a:moveTo>
                <a:cubicBezTo>
                  <a:pt x="3249" y="9593"/>
                  <a:pt x="3262" y="9806"/>
                  <a:pt x="3274" y="10021"/>
                </a:cubicBezTo>
                <a:cubicBezTo>
                  <a:pt x="3284" y="10198"/>
                  <a:pt x="3294" y="10334"/>
                  <a:pt x="3373" y="10492"/>
                </a:cubicBezTo>
                <a:cubicBezTo>
                  <a:pt x="3452" y="10650"/>
                  <a:pt x="3547" y="10682"/>
                  <a:pt x="3721" y="10641"/>
                </a:cubicBezTo>
                <a:cubicBezTo>
                  <a:pt x="3836" y="10614"/>
                  <a:pt x="3909" y="10501"/>
                  <a:pt x="3944" y="10393"/>
                </a:cubicBezTo>
                <a:cubicBezTo>
                  <a:pt x="3994" y="10241"/>
                  <a:pt x="3981" y="10020"/>
                  <a:pt x="3919" y="9872"/>
                </a:cubicBezTo>
                <a:cubicBezTo>
                  <a:pt x="3844" y="9695"/>
                  <a:pt x="3756" y="9579"/>
                  <a:pt x="3621" y="9451"/>
                </a:cubicBezTo>
                <a:cubicBezTo>
                  <a:pt x="3515" y="9351"/>
                  <a:pt x="3393" y="9268"/>
                  <a:pt x="3249" y="9227"/>
                </a:cubicBezTo>
                <a:cubicBezTo>
                  <a:pt x="3188" y="9210"/>
                  <a:pt x="3124" y="9231"/>
                  <a:pt x="3076" y="9252"/>
                </a:cubicBezTo>
              </a:path>
              <a:path w="1291" h="1440">
                <a:moveTo>
                  <a:pt x="2952" y="10021"/>
                </a:moveTo>
                <a:cubicBezTo>
                  <a:pt x="3182" y="10072"/>
                  <a:pt x="3363" y="10096"/>
                  <a:pt x="3597" y="10096"/>
                </a:cubicBezTo>
                <a:cubicBezTo>
                  <a:pt x="3791" y="10096"/>
                  <a:pt x="3976" y="10105"/>
                  <a:pt x="4167" y="10120"/>
                </a:cubicBezTo>
                <a:cubicBezTo>
                  <a:pt x="4192" y="10120"/>
                  <a:pt x="4217" y="10120"/>
                  <a:pt x="4242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7" name="Ink 6"/>
          <p:cNvSpPr/>
          <p:nvPr/>
        </p:nvSpPr>
        <p:spPr>
          <a:xfrm>
            <a:off x="1820880" y="3313080"/>
            <a:ext cx="1671480" cy="723960"/>
          </a:xfrm>
          <a:custGeom>
            <a:avLst/>
            <a:gdLst/>
            <a:ahLst/>
            <a:rect l="l" t="t" r="r" b="b"/>
            <a:pathLst>
              <a:path w="4640" h="2010">
                <a:moveTo>
                  <a:pt x="5060" y="9897"/>
                </a:moveTo>
                <a:cubicBezTo>
                  <a:pt x="5211" y="9902"/>
                  <a:pt x="5284" y="9920"/>
                  <a:pt x="5407" y="9897"/>
                </a:cubicBezTo>
              </a:path>
              <a:path w="4640" h="2010">
                <a:moveTo>
                  <a:pt x="5110" y="10120"/>
                </a:moveTo>
                <a:cubicBezTo>
                  <a:pt x="5219" y="10189"/>
                  <a:pt x="5317" y="10242"/>
                  <a:pt x="5432" y="10294"/>
                </a:cubicBezTo>
              </a:path>
              <a:path w="4640" h="2010">
                <a:moveTo>
                  <a:pt x="6052" y="9351"/>
                </a:moveTo>
                <a:cubicBezTo>
                  <a:pt x="6029" y="9305"/>
                  <a:pt x="6061" y="9251"/>
                  <a:pt x="6127" y="9227"/>
                </a:cubicBezTo>
                <a:cubicBezTo>
                  <a:pt x="6230" y="9189"/>
                  <a:pt x="6288" y="9184"/>
                  <a:pt x="6350" y="9252"/>
                </a:cubicBezTo>
                <a:cubicBezTo>
                  <a:pt x="6417" y="9325"/>
                  <a:pt x="6341" y="9343"/>
                  <a:pt x="6300" y="9401"/>
                </a:cubicBezTo>
                <a:cubicBezTo>
                  <a:pt x="6263" y="9454"/>
                  <a:pt x="6227" y="9483"/>
                  <a:pt x="6176" y="9525"/>
                </a:cubicBezTo>
                <a:cubicBezTo>
                  <a:pt x="6260" y="9559"/>
                  <a:pt x="6381" y="9578"/>
                  <a:pt x="6424" y="9674"/>
                </a:cubicBezTo>
                <a:cubicBezTo>
                  <a:pt x="6451" y="9734"/>
                  <a:pt x="6420" y="9871"/>
                  <a:pt x="6350" y="9897"/>
                </a:cubicBezTo>
                <a:cubicBezTo>
                  <a:pt x="6290" y="9919"/>
                  <a:pt x="6136" y="9949"/>
                  <a:pt x="6077" y="9922"/>
                </a:cubicBezTo>
                <a:cubicBezTo>
                  <a:pt x="6077" y="9914"/>
                  <a:pt x="6077" y="9905"/>
                  <a:pt x="6077" y="9897"/>
                </a:cubicBezTo>
              </a:path>
              <a:path w="4640" h="2010">
                <a:moveTo>
                  <a:pt x="6648" y="9376"/>
                </a:moveTo>
                <a:cubicBezTo>
                  <a:pt x="6733" y="9351"/>
                  <a:pt x="6888" y="9337"/>
                  <a:pt x="6970" y="9302"/>
                </a:cubicBezTo>
                <a:cubicBezTo>
                  <a:pt x="6978" y="9294"/>
                  <a:pt x="6987" y="9285"/>
                  <a:pt x="6995" y="9277"/>
                </a:cubicBezTo>
              </a:path>
              <a:path w="4640" h="2010">
                <a:moveTo>
                  <a:pt x="6796" y="9376"/>
                </a:moveTo>
                <a:cubicBezTo>
                  <a:pt x="6760" y="9437"/>
                  <a:pt x="6599" y="9647"/>
                  <a:pt x="6672" y="9748"/>
                </a:cubicBezTo>
                <a:cubicBezTo>
                  <a:pt x="6737" y="9838"/>
                  <a:pt x="6772" y="9805"/>
                  <a:pt x="6821" y="9748"/>
                </a:cubicBezTo>
              </a:path>
              <a:path w="4640" h="2010">
                <a:moveTo>
                  <a:pt x="6970" y="9351"/>
                </a:moveTo>
                <a:cubicBezTo>
                  <a:pt x="6958" y="9572"/>
                  <a:pt x="6940" y="9678"/>
                  <a:pt x="7020" y="9872"/>
                </a:cubicBezTo>
                <a:cubicBezTo>
                  <a:pt x="7040" y="9913"/>
                  <a:pt x="7049" y="9919"/>
                  <a:pt x="7045" y="9947"/>
                </a:cubicBezTo>
              </a:path>
              <a:path w="4640" h="2010">
                <a:moveTo>
                  <a:pt x="6152" y="10021"/>
                </a:moveTo>
                <a:cubicBezTo>
                  <a:pt x="6365" y="9987"/>
                  <a:pt x="6584" y="9999"/>
                  <a:pt x="6796" y="9971"/>
                </a:cubicBezTo>
                <a:cubicBezTo>
                  <a:pt x="6821" y="9963"/>
                  <a:pt x="6846" y="9955"/>
                  <a:pt x="6871" y="9947"/>
                </a:cubicBezTo>
              </a:path>
              <a:path w="4640" h="2010">
                <a:moveTo>
                  <a:pt x="6598" y="10319"/>
                </a:moveTo>
                <a:cubicBezTo>
                  <a:pt x="6592" y="10499"/>
                  <a:pt x="6550" y="10651"/>
                  <a:pt x="6796" y="10641"/>
                </a:cubicBezTo>
                <a:cubicBezTo>
                  <a:pt x="6853" y="10613"/>
                  <a:pt x="6877" y="10602"/>
                  <a:pt x="6921" y="10592"/>
                </a:cubicBezTo>
              </a:path>
              <a:path w="4640" h="2010">
                <a:moveTo>
                  <a:pt x="6896" y="10443"/>
                </a:moveTo>
                <a:cubicBezTo>
                  <a:pt x="6892" y="10464"/>
                  <a:pt x="6727" y="11130"/>
                  <a:pt x="6846" y="11212"/>
                </a:cubicBezTo>
                <a:cubicBezTo>
                  <a:pt x="6863" y="11204"/>
                  <a:pt x="6879" y="11195"/>
                  <a:pt x="6896" y="11187"/>
                </a:cubicBezTo>
              </a:path>
              <a:path w="4640" h="2010">
                <a:moveTo>
                  <a:pt x="7392" y="9649"/>
                </a:moveTo>
                <a:cubicBezTo>
                  <a:pt x="7400" y="9641"/>
                  <a:pt x="7409" y="9632"/>
                  <a:pt x="7417" y="9624"/>
                </a:cubicBezTo>
              </a:path>
              <a:path w="4640" h="2010">
                <a:moveTo>
                  <a:pt x="7541" y="10120"/>
                </a:moveTo>
                <a:cubicBezTo>
                  <a:pt x="7558" y="10351"/>
                  <a:pt x="7583" y="10501"/>
                  <a:pt x="7516" y="10716"/>
                </a:cubicBezTo>
                <a:cubicBezTo>
                  <a:pt x="7494" y="10785"/>
                  <a:pt x="7477" y="10846"/>
                  <a:pt x="7417" y="10815"/>
                </a:cubicBezTo>
              </a:path>
              <a:path w="4640" h="2010">
                <a:moveTo>
                  <a:pt x="7987" y="9699"/>
                </a:moveTo>
                <a:cubicBezTo>
                  <a:pt x="7968" y="9882"/>
                  <a:pt x="7968" y="10020"/>
                  <a:pt x="7987" y="10195"/>
                </a:cubicBezTo>
                <a:cubicBezTo>
                  <a:pt x="7994" y="10263"/>
                  <a:pt x="7991" y="10329"/>
                  <a:pt x="8062" y="10294"/>
                </a:cubicBezTo>
              </a:path>
              <a:path w="4640" h="2010">
                <a:moveTo>
                  <a:pt x="8285" y="9550"/>
                </a:moveTo>
                <a:cubicBezTo>
                  <a:pt x="8479" y="9557"/>
                  <a:pt x="8542" y="9514"/>
                  <a:pt x="8632" y="9674"/>
                </a:cubicBezTo>
                <a:cubicBezTo>
                  <a:pt x="8694" y="9785"/>
                  <a:pt x="8603" y="9859"/>
                  <a:pt x="8508" y="9897"/>
                </a:cubicBezTo>
                <a:cubicBezTo>
                  <a:pt x="8447" y="9921"/>
                  <a:pt x="8408" y="9917"/>
                  <a:pt x="8359" y="9947"/>
                </a:cubicBezTo>
                <a:cubicBezTo>
                  <a:pt x="8459" y="9996"/>
                  <a:pt x="8552" y="10043"/>
                  <a:pt x="8607" y="10145"/>
                </a:cubicBezTo>
                <a:cubicBezTo>
                  <a:pt x="8654" y="10232"/>
                  <a:pt x="8627" y="10392"/>
                  <a:pt x="8533" y="10443"/>
                </a:cubicBezTo>
                <a:cubicBezTo>
                  <a:pt x="8435" y="10497"/>
                  <a:pt x="8345" y="10483"/>
                  <a:pt x="8285" y="10418"/>
                </a:cubicBezTo>
                <a:cubicBezTo>
                  <a:pt x="8212" y="10340"/>
                  <a:pt x="8235" y="10319"/>
                  <a:pt x="8260" y="10220"/>
                </a:cubicBezTo>
              </a:path>
              <a:path w="4640" h="2010">
                <a:moveTo>
                  <a:pt x="8905" y="9674"/>
                </a:moveTo>
                <a:cubicBezTo>
                  <a:pt x="8990" y="9641"/>
                  <a:pt x="9148" y="9599"/>
                  <a:pt x="9227" y="9550"/>
                </a:cubicBezTo>
              </a:path>
              <a:path w="4640" h="2010">
                <a:moveTo>
                  <a:pt x="8930" y="9649"/>
                </a:moveTo>
                <a:cubicBezTo>
                  <a:pt x="8819" y="9896"/>
                  <a:pt x="8910" y="9909"/>
                  <a:pt x="9153" y="10071"/>
                </a:cubicBezTo>
                <a:cubicBezTo>
                  <a:pt x="9249" y="10135"/>
                  <a:pt x="9378" y="10219"/>
                  <a:pt x="9252" y="10344"/>
                </a:cubicBezTo>
                <a:cubicBezTo>
                  <a:pt x="9208" y="10388"/>
                  <a:pt x="9095" y="10455"/>
                  <a:pt x="9029" y="10443"/>
                </a:cubicBezTo>
                <a:cubicBezTo>
                  <a:pt x="8935" y="10427"/>
                  <a:pt x="8890" y="10365"/>
                  <a:pt x="8905" y="10269"/>
                </a:cubicBezTo>
                <a:cubicBezTo>
                  <a:pt x="8913" y="10244"/>
                  <a:pt x="8922" y="10220"/>
                  <a:pt x="8930" y="10195"/>
                </a:cubicBezTo>
              </a:path>
              <a:path w="4640" h="2010">
                <a:moveTo>
                  <a:pt x="9500" y="9475"/>
                </a:moveTo>
                <a:cubicBezTo>
                  <a:pt x="9459" y="9517"/>
                  <a:pt x="9435" y="9525"/>
                  <a:pt x="9475" y="9550"/>
                </a:cubicBezTo>
                <a:cubicBezTo>
                  <a:pt x="9513" y="9565"/>
                  <a:pt x="9610" y="9572"/>
                  <a:pt x="9649" y="9525"/>
                </a:cubicBezTo>
                <a:cubicBezTo>
                  <a:pt x="9741" y="9415"/>
                  <a:pt x="9708" y="9371"/>
                  <a:pt x="9599" y="9327"/>
                </a:cubicBezTo>
                <a:cubicBezTo>
                  <a:pt x="9526" y="9302"/>
                  <a:pt x="9503" y="9294"/>
                  <a:pt x="9451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8" name="Ink 7"/>
          <p:cNvSpPr/>
          <p:nvPr/>
        </p:nvSpPr>
        <p:spPr>
          <a:xfrm>
            <a:off x="1098720" y="4429080"/>
            <a:ext cx="357120" cy="536760"/>
          </a:xfrm>
          <a:custGeom>
            <a:avLst/>
            <a:gdLst/>
            <a:ahLst/>
            <a:rect l="l" t="t" r="r" b="b"/>
            <a:pathLst>
              <a:path w="993" h="1489">
                <a:moveTo>
                  <a:pt x="3572" y="12477"/>
                </a:moveTo>
                <a:cubicBezTo>
                  <a:pt x="3464" y="12701"/>
                  <a:pt x="3404" y="12855"/>
                  <a:pt x="3373" y="13097"/>
                </a:cubicBezTo>
                <a:cubicBezTo>
                  <a:pt x="3354" y="13245"/>
                  <a:pt x="3314" y="13452"/>
                  <a:pt x="3398" y="13593"/>
                </a:cubicBezTo>
                <a:cubicBezTo>
                  <a:pt x="3441" y="13665"/>
                  <a:pt x="3562" y="13775"/>
                  <a:pt x="3646" y="13791"/>
                </a:cubicBezTo>
                <a:cubicBezTo>
                  <a:pt x="3782" y="13817"/>
                  <a:pt x="3875" y="13592"/>
                  <a:pt x="3919" y="13494"/>
                </a:cubicBezTo>
                <a:cubicBezTo>
                  <a:pt x="3987" y="13340"/>
                  <a:pt x="4047" y="13117"/>
                  <a:pt x="4043" y="12948"/>
                </a:cubicBezTo>
                <a:cubicBezTo>
                  <a:pt x="4040" y="12809"/>
                  <a:pt x="3990" y="12510"/>
                  <a:pt x="3870" y="12427"/>
                </a:cubicBezTo>
                <a:cubicBezTo>
                  <a:pt x="3699" y="12332"/>
                  <a:pt x="3685" y="12291"/>
                  <a:pt x="3572" y="12303"/>
                </a:cubicBezTo>
              </a:path>
              <a:path w="993" h="1489">
                <a:moveTo>
                  <a:pt x="3051" y="12948"/>
                </a:moveTo>
                <a:cubicBezTo>
                  <a:pt x="3241" y="13021"/>
                  <a:pt x="3396" y="13050"/>
                  <a:pt x="3597" y="13072"/>
                </a:cubicBezTo>
                <a:cubicBezTo>
                  <a:pt x="3821" y="13093"/>
                  <a:pt x="3864" y="13111"/>
                  <a:pt x="3994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49" name="Ink 8"/>
          <p:cNvSpPr/>
          <p:nvPr/>
        </p:nvSpPr>
        <p:spPr>
          <a:xfrm>
            <a:off x="1633680" y="4643280"/>
            <a:ext cx="179280" cy="169920"/>
          </a:xfrm>
          <a:custGeom>
            <a:avLst/>
            <a:gdLst/>
            <a:ahLst/>
            <a:rect l="l" t="t" r="r" b="b"/>
            <a:pathLst>
              <a:path w="497" h="473">
                <a:moveTo>
                  <a:pt x="4539" y="12898"/>
                </a:moveTo>
                <a:cubicBezTo>
                  <a:pt x="4675" y="12898"/>
                  <a:pt x="4808" y="12890"/>
                  <a:pt x="4936" y="12923"/>
                </a:cubicBezTo>
                <a:cubicBezTo>
                  <a:pt x="4969" y="12931"/>
                  <a:pt x="5002" y="12940"/>
                  <a:pt x="5035" y="12948"/>
                </a:cubicBezTo>
              </a:path>
              <a:path w="497" h="473">
                <a:moveTo>
                  <a:pt x="4713" y="13246"/>
                </a:moveTo>
                <a:cubicBezTo>
                  <a:pt x="4817" y="13296"/>
                  <a:pt x="4904" y="13334"/>
                  <a:pt x="5011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50" name="Ink 9"/>
          <p:cNvSpPr/>
          <p:nvPr/>
        </p:nvSpPr>
        <p:spPr>
          <a:xfrm>
            <a:off x="2017800" y="4527720"/>
            <a:ext cx="1393560" cy="785520"/>
          </a:xfrm>
          <a:custGeom>
            <a:avLst/>
            <a:gdLst/>
            <a:ahLst/>
            <a:rect l="l" t="t" r="r" b="b"/>
            <a:pathLst>
              <a:path w="3870" h="2184">
                <a:moveTo>
                  <a:pt x="5606" y="12601"/>
                </a:moveTo>
                <a:cubicBezTo>
                  <a:pt x="5696" y="12601"/>
                  <a:pt x="5770" y="12613"/>
                  <a:pt x="5854" y="12626"/>
                </a:cubicBezTo>
                <a:cubicBezTo>
                  <a:pt x="5934" y="12639"/>
                  <a:pt x="6022" y="12595"/>
                  <a:pt x="6052" y="12700"/>
                </a:cubicBezTo>
                <a:cubicBezTo>
                  <a:pt x="6076" y="12782"/>
                  <a:pt x="6034" y="12926"/>
                  <a:pt x="6003" y="12998"/>
                </a:cubicBezTo>
                <a:cubicBezTo>
                  <a:pt x="5963" y="13091"/>
                  <a:pt x="5853" y="13272"/>
                  <a:pt x="5879" y="13395"/>
                </a:cubicBezTo>
                <a:cubicBezTo>
                  <a:pt x="5899" y="13435"/>
                  <a:pt x="5897" y="13451"/>
                  <a:pt x="5928" y="13444"/>
                </a:cubicBezTo>
              </a:path>
              <a:path w="3870" h="2184">
                <a:moveTo>
                  <a:pt x="6251" y="12700"/>
                </a:moveTo>
                <a:cubicBezTo>
                  <a:pt x="6382" y="12687"/>
                  <a:pt x="6470" y="12681"/>
                  <a:pt x="6598" y="12675"/>
                </a:cubicBezTo>
                <a:cubicBezTo>
                  <a:pt x="6650" y="12675"/>
                  <a:pt x="6668" y="12674"/>
                  <a:pt x="6697" y="12650"/>
                </a:cubicBezTo>
              </a:path>
              <a:path w="3870" h="2184">
                <a:moveTo>
                  <a:pt x="6449" y="12725"/>
                </a:moveTo>
                <a:cubicBezTo>
                  <a:pt x="6344" y="12888"/>
                  <a:pt x="6188" y="13057"/>
                  <a:pt x="6226" y="13271"/>
                </a:cubicBezTo>
                <a:cubicBezTo>
                  <a:pt x="6254" y="13298"/>
                  <a:pt x="6268" y="13306"/>
                  <a:pt x="6300" y="13295"/>
                </a:cubicBezTo>
              </a:path>
              <a:path w="3870" h="2184">
                <a:moveTo>
                  <a:pt x="6524" y="12750"/>
                </a:moveTo>
                <a:cubicBezTo>
                  <a:pt x="6560" y="12639"/>
                  <a:pt x="6548" y="12618"/>
                  <a:pt x="6598" y="12576"/>
                </a:cubicBezTo>
                <a:cubicBezTo>
                  <a:pt x="6598" y="12711"/>
                  <a:pt x="6620" y="12839"/>
                  <a:pt x="6623" y="12973"/>
                </a:cubicBezTo>
                <a:cubicBezTo>
                  <a:pt x="6626" y="13097"/>
                  <a:pt x="6623" y="13221"/>
                  <a:pt x="6623" y="13345"/>
                </a:cubicBezTo>
              </a:path>
              <a:path w="3870" h="2184">
                <a:moveTo>
                  <a:pt x="5879" y="13519"/>
                </a:moveTo>
                <a:cubicBezTo>
                  <a:pt x="6103" y="13528"/>
                  <a:pt x="6289" y="13555"/>
                  <a:pt x="6499" y="13494"/>
                </a:cubicBezTo>
                <a:cubicBezTo>
                  <a:pt x="6524" y="13486"/>
                  <a:pt x="6548" y="13477"/>
                  <a:pt x="6573" y="13469"/>
                </a:cubicBezTo>
              </a:path>
              <a:path w="3870" h="2184">
                <a:moveTo>
                  <a:pt x="6226" y="13841"/>
                </a:moveTo>
                <a:cubicBezTo>
                  <a:pt x="6230" y="13943"/>
                  <a:pt x="6183" y="14189"/>
                  <a:pt x="6375" y="14114"/>
                </a:cubicBezTo>
                <a:cubicBezTo>
                  <a:pt x="6400" y="14097"/>
                  <a:pt x="6424" y="14081"/>
                  <a:pt x="6449" y="14064"/>
                </a:cubicBezTo>
              </a:path>
              <a:path w="3870" h="2184">
                <a:moveTo>
                  <a:pt x="6648" y="13692"/>
                </a:moveTo>
                <a:cubicBezTo>
                  <a:pt x="6592" y="13935"/>
                  <a:pt x="6487" y="14215"/>
                  <a:pt x="6449" y="14461"/>
                </a:cubicBezTo>
                <a:cubicBezTo>
                  <a:pt x="6444" y="14492"/>
                  <a:pt x="6425" y="14748"/>
                  <a:pt x="6449" y="14759"/>
                </a:cubicBezTo>
                <a:cubicBezTo>
                  <a:pt x="6449" y="14751"/>
                  <a:pt x="6449" y="14742"/>
                  <a:pt x="6449" y="14734"/>
                </a:cubicBezTo>
              </a:path>
              <a:path w="3870" h="2184">
                <a:moveTo>
                  <a:pt x="7069" y="13469"/>
                </a:moveTo>
                <a:cubicBezTo>
                  <a:pt x="7184" y="13457"/>
                  <a:pt x="7375" y="13475"/>
                  <a:pt x="7491" y="13444"/>
                </a:cubicBezTo>
                <a:cubicBezTo>
                  <a:pt x="7508" y="13436"/>
                  <a:pt x="7524" y="13427"/>
                  <a:pt x="7541" y="13419"/>
                </a:cubicBezTo>
              </a:path>
              <a:path w="3870" h="2184">
                <a:moveTo>
                  <a:pt x="7169" y="13742"/>
                </a:moveTo>
                <a:cubicBezTo>
                  <a:pt x="7376" y="13810"/>
                  <a:pt x="7393" y="13770"/>
                  <a:pt x="7590" y="13667"/>
                </a:cubicBezTo>
              </a:path>
              <a:path w="3870" h="2184">
                <a:moveTo>
                  <a:pt x="7987" y="12923"/>
                </a:moveTo>
                <a:cubicBezTo>
                  <a:pt x="8142" y="12994"/>
                  <a:pt x="8230" y="12982"/>
                  <a:pt x="8161" y="13146"/>
                </a:cubicBezTo>
                <a:cubicBezTo>
                  <a:pt x="8128" y="13223"/>
                  <a:pt x="8055" y="13277"/>
                  <a:pt x="7987" y="13320"/>
                </a:cubicBezTo>
                <a:cubicBezTo>
                  <a:pt x="7944" y="13342"/>
                  <a:pt x="7932" y="13346"/>
                  <a:pt x="7913" y="13370"/>
                </a:cubicBezTo>
                <a:cubicBezTo>
                  <a:pt x="7953" y="13410"/>
                  <a:pt x="7983" y="13447"/>
                  <a:pt x="8037" y="13469"/>
                </a:cubicBezTo>
                <a:cubicBezTo>
                  <a:pt x="8139" y="13511"/>
                  <a:pt x="8185" y="13591"/>
                  <a:pt x="8161" y="13717"/>
                </a:cubicBezTo>
                <a:cubicBezTo>
                  <a:pt x="8145" y="13803"/>
                  <a:pt x="7991" y="13898"/>
                  <a:pt x="7913" y="13915"/>
                </a:cubicBezTo>
                <a:cubicBezTo>
                  <a:pt x="7871" y="13924"/>
                  <a:pt x="7725" y="13948"/>
                  <a:pt x="7689" y="13915"/>
                </a:cubicBezTo>
                <a:cubicBezTo>
                  <a:pt x="7599" y="13832"/>
                  <a:pt x="7675" y="13733"/>
                  <a:pt x="7714" y="13643"/>
                </a:cubicBezTo>
              </a:path>
              <a:path w="3870" h="2184">
                <a:moveTo>
                  <a:pt x="8483" y="12824"/>
                </a:moveTo>
                <a:cubicBezTo>
                  <a:pt x="8554" y="12912"/>
                  <a:pt x="8533" y="12956"/>
                  <a:pt x="8508" y="13072"/>
                </a:cubicBezTo>
                <a:cubicBezTo>
                  <a:pt x="8475" y="13223"/>
                  <a:pt x="8408" y="13368"/>
                  <a:pt x="8384" y="13519"/>
                </a:cubicBezTo>
                <a:cubicBezTo>
                  <a:pt x="8368" y="13620"/>
                  <a:pt x="8374" y="13747"/>
                  <a:pt x="8409" y="13841"/>
                </a:cubicBezTo>
              </a:path>
              <a:path w="3870" h="2184">
                <a:moveTo>
                  <a:pt x="8806" y="12948"/>
                </a:moveTo>
                <a:cubicBezTo>
                  <a:pt x="8902" y="12938"/>
                  <a:pt x="9043" y="12941"/>
                  <a:pt x="9128" y="12898"/>
                </a:cubicBezTo>
              </a:path>
              <a:path w="3870" h="2184">
                <a:moveTo>
                  <a:pt x="8830" y="12898"/>
                </a:moveTo>
                <a:cubicBezTo>
                  <a:pt x="8721" y="13157"/>
                  <a:pt x="8735" y="13130"/>
                  <a:pt x="8855" y="13345"/>
                </a:cubicBezTo>
                <a:cubicBezTo>
                  <a:pt x="8905" y="13434"/>
                  <a:pt x="8955" y="13536"/>
                  <a:pt x="8930" y="13643"/>
                </a:cubicBezTo>
                <a:cubicBezTo>
                  <a:pt x="8913" y="13716"/>
                  <a:pt x="8773" y="13796"/>
                  <a:pt x="8706" y="13791"/>
                </a:cubicBezTo>
                <a:cubicBezTo>
                  <a:pt x="8578" y="13782"/>
                  <a:pt x="8605" y="13706"/>
                  <a:pt x="8632" y="13618"/>
                </a:cubicBezTo>
                <a:cubicBezTo>
                  <a:pt x="8640" y="13593"/>
                  <a:pt x="8649" y="13568"/>
                  <a:pt x="8657" y="13543"/>
                </a:cubicBezTo>
              </a:path>
              <a:path w="3870" h="2184">
                <a:moveTo>
                  <a:pt x="9252" y="12799"/>
                </a:moveTo>
                <a:cubicBezTo>
                  <a:pt x="9241" y="12897"/>
                  <a:pt x="9263" y="12942"/>
                  <a:pt x="9376" y="12948"/>
                </a:cubicBezTo>
                <a:cubicBezTo>
                  <a:pt x="9450" y="12952"/>
                  <a:pt x="9471" y="12916"/>
                  <a:pt x="9475" y="12849"/>
                </a:cubicBezTo>
                <a:cubicBezTo>
                  <a:pt x="9478" y="12804"/>
                  <a:pt x="9487" y="12718"/>
                  <a:pt x="9426" y="12700"/>
                </a:cubicBezTo>
                <a:cubicBezTo>
                  <a:pt x="9379" y="12687"/>
                  <a:pt x="9326" y="12681"/>
                  <a:pt x="9277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30:07Z</dcterms:created>
  <dc:creator>jnewman</dc:creator>
  <dc:description/>
  <dc:language>en-US</dc:language>
  <cp:lastModifiedBy>abeason</cp:lastModifiedBy>
  <dcterms:modified xsi:type="dcterms:W3CDTF">2009-10-07T13:37:39Z</dcterms:modified>
  <cp:revision>9</cp:revision>
  <dc:subject/>
  <dc:title>Lesson 4.4 part two</dc:title>
</cp:coreProperties>
</file>